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152E-6825-40C0-B7A2-F54AA39D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A4F9-B4DE-4B2A-8859-A5520524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2740-2CEE-4DE4-9064-D255F689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C5BD-9D92-4DB3-8276-A7666E0F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2303-4611-4DA0-A388-4DEDEE92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7114-F466-4917-A169-F5DBF2CA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F5DA-9967-484F-900B-F38B14C2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24D7-044B-47EA-A08A-A436CC87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8B65-49F9-4FFF-BAC7-007F1CDE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BDCE-9DFC-4F42-8749-122A1DD7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02F7-CD0B-4B8F-A764-F0AFCF09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CD8D-04CE-4656-9840-3EAA9B11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EBBC-EDC9-4857-A935-A66D88C4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4CD3-5E71-40F5-876A-712659D4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8249-A719-48E9-AEE6-87B38002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C9E5-C691-4BCD-A7AB-FAA2137FD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DE40-7FA2-449A-AD08-EFB8621D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F099-4FBB-4CF6-B20C-1F96085E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8B5F-29A9-4A48-9621-691F5E10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2968-8EFC-4AC9-A4CE-06D9D3B9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8B43-01F4-4F5C-BFFA-5D7C20C2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9425-DD4C-42D6-954F-153F48F5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CCFE-239C-4282-AAE6-72480FF6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BE11-0871-4505-BA72-EEE206B1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E4FB-B31E-4869-8A68-A47EECADA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13C0-4D5D-464D-BC13-80C4CD312A3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3C71-5E6B-47F3-9FB2-4B78873048C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035"/>
          <p:cNvSpPr/>
          <p:nvPr/>
        </p:nvSpPr>
        <p:spPr>
          <a:xfrm>
            <a:off x="698400" y="4572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语文课件小伙伴幻灯片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Object 1026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2081160" cy="44211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30"/>
          <p:cNvSpPr/>
          <p:nvPr/>
        </p:nvSpPr>
        <p:spPr>
          <a:xfrm>
            <a:off x="2111400" y="1752480"/>
            <a:ext cx="718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6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玛莎小声说：“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也不知道。”说着低下了头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风车"/>
          <p:cNvPicPr/>
          <p:nvPr/>
        </p:nvPicPr>
        <p:blipFill>
          <a:blip r:embed="rId3"/>
          <a:stretch/>
        </p:blipFill>
        <p:spPr>
          <a:xfrm>
            <a:off x="6781680" y="4419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8200"/>
          <p:cNvSpPr/>
          <p:nvPr/>
        </p:nvSpPr>
        <p:spPr>
          <a:xfrm>
            <a:off x="1476360" y="10526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Object 2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2081160" cy="44211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959120" y="1752480"/>
            <a:ext cx="718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6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玛莎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声</a:t>
            </a:r>
            <a:r>
              <a:rPr b="1" lang="zh-CN" sz="6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说：“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也不知道。”说着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低下了头</a:t>
            </a:r>
            <a:r>
              <a:rPr b="1" lang="zh-CN" sz="6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风车"/>
          <p:cNvPicPr/>
          <p:nvPr/>
        </p:nvPicPr>
        <p:blipFill>
          <a:blip r:embed="rId3"/>
          <a:stretch/>
        </p:blipFill>
        <p:spPr>
          <a:xfrm>
            <a:off x="6781680" y="4419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Object 3" descr=""/>
          <p:cNvPicPr/>
          <p:nvPr/>
        </p:nvPicPr>
        <p:blipFill>
          <a:blip r:embed="rId2"/>
          <a:stretch/>
        </p:blipFill>
        <p:spPr>
          <a:xfrm>
            <a:off x="7400880" y="304920"/>
            <a:ext cx="1743120" cy="3671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7365600" y="41911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安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8"/>
          <p:cNvSpPr/>
          <p:nvPr/>
        </p:nvSpPr>
        <p:spPr>
          <a:xfrm rot="10763400">
            <a:off x="-1080" y="1369800"/>
            <a:ext cx="6705360" cy="4876560"/>
          </a:xfrm>
          <a:prstGeom prst="wedgeEllipseCallout">
            <a:avLst>
              <a:gd name="adj1" fmla="val -58824"/>
              <a:gd name="adj2" fmla="val 50523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 flipH="1">
            <a:off x="990720" y="1523880"/>
            <a:ext cx="541008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你大概是丢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公共汽车上，忘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记拿了。以后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要保管好自己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东西。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Object 2" descr=""/>
          <p:cNvPicPr/>
          <p:nvPr/>
        </p:nvPicPr>
        <p:blipFill>
          <a:blip r:embed="rId2"/>
          <a:stretch/>
        </p:blipFill>
        <p:spPr>
          <a:xfrm>
            <a:off x="7400880" y="304920"/>
            <a:ext cx="1743120" cy="36716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 flipH="1">
            <a:off x="990720" y="1523880"/>
            <a:ext cx="541008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你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概</a:t>
            </a: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是丢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公共汽车上，忘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记拿了。以后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要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保管好</a:t>
            </a: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自己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东西。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4"/>
          <p:cNvSpPr/>
          <p:nvPr/>
        </p:nvSpPr>
        <p:spPr>
          <a:xfrm rot="10763400">
            <a:off x="0" y="1369800"/>
            <a:ext cx="6705720" cy="4876560"/>
          </a:xfrm>
          <a:prstGeom prst="wedgeEllipseCallout">
            <a:avLst>
              <a:gd name="adj1" fmla="val -58824"/>
              <a:gd name="adj2" fmla="val 50523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365600" y="41911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安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Object 1027" descr=""/>
          <p:cNvPicPr/>
          <p:nvPr/>
        </p:nvPicPr>
        <p:blipFill>
          <a:blip r:embed="rId2"/>
          <a:stretch/>
        </p:blipFill>
        <p:spPr>
          <a:xfrm>
            <a:off x="6400800" y="1066680"/>
            <a:ext cx="2444760" cy="32781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28"/>
          <p:cNvSpPr/>
          <p:nvPr/>
        </p:nvSpPr>
        <p:spPr>
          <a:xfrm>
            <a:off x="7365600" y="4724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安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029"/>
          <p:cNvSpPr/>
          <p:nvPr/>
        </p:nvSpPr>
        <p:spPr>
          <a:xfrm>
            <a:off x="80280" y="1295280"/>
            <a:ext cx="660888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这时，安东走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玛莎跟前，什么也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说，把夹着黄油的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包掰成两半，把大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点儿的放到玛莎手里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说：“赶快吃吧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文本框 8200"/>
          <p:cNvSpPr/>
          <p:nvPr/>
        </p:nvSpPr>
        <p:spPr>
          <a:xfrm>
            <a:off x="900000" y="765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Object 2" descr=""/>
          <p:cNvPicPr/>
          <p:nvPr/>
        </p:nvPicPr>
        <p:blipFill>
          <a:blip r:embed="rId2"/>
          <a:stretch/>
        </p:blipFill>
        <p:spPr>
          <a:xfrm>
            <a:off x="6400800" y="1066680"/>
            <a:ext cx="2444760" cy="3278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80280" y="1295280"/>
            <a:ext cx="660888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这时，安东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走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玛莎跟前，什么也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说，把夹着黄油的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包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掰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成两半，把大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点儿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放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到玛莎手里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说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：“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赶快吃吧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7365600" y="4724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安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84D0-DBEE-46D6-B326-F744A860B19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" descr="做游戏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WordArt 8"/>
          <p:cNvSpPr txBox="1"/>
          <p:nvPr/>
        </p:nvSpPr>
        <p:spPr>
          <a:xfrm>
            <a:off x="1828800" y="838080"/>
            <a:ext cx="6019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ccffcc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谢谢大家！</a:t>
            </a:r>
            <a:endParaRPr b="1" lang="en-US" sz="2400" spc="1" strike="noStrike">
              <a:ln w="19080">
                <a:solidFill>
                  <a:srgbClr val="ccffcc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6" name="WordArt 9"/>
          <p:cNvSpPr txBox="1"/>
          <p:nvPr/>
        </p:nvSpPr>
        <p:spPr>
          <a:xfrm>
            <a:off x="2819520" y="3581280"/>
            <a:ext cx="3824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ccff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再见！</a:t>
            </a:r>
            <a:endParaRPr b="1" lang="en-US" sz="2400" spc="1" strike="noStrike">
              <a:ln w="19080">
                <a:solidFill>
                  <a:srgbClr val="ccff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7"/>
          <p:cNvSpPr/>
          <p:nvPr/>
        </p:nvSpPr>
        <p:spPr>
          <a:xfrm>
            <a:off x="1733400" y="1047600"/>
            <a:ext cx="6480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10"/>
          <p:cNvSpPr/>
          <p:nvPr/>
        </p:nvSpPr>
        <p:spPr>
          <a:xfrm>
            <a:off x="1600200" y="609480"/>
            <a:ext cx="2895480" cy="106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-84240" y="1838160"/>
            <a:ext cx="9405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wǔ  cān      diū  shī     ku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方正舒体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ng qu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方正舒体"/>
              </a:rPr>
              <a:t>á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n shu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午餐  丢失  矿 泉 水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zāo gāo       cū  xīn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方正舒体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方正舒体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i     jiā  z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糟糕  粗心  大概 夹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gōng 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方正舒体"/>
              </a:rPr>
              <a:t>ò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ng  q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ì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chē      w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方正舒体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ng j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ì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b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方正舒体"/>
              </a:rPr>
              <a:t>ǎ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o guǎ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 共 汽车  忘记 保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WordArt 9"/>
          <p:cNvSpPr txBox="1"/>
          <p:nvPr/>
        </p:nvSpPr>
        <p:spPr>
          <a:xfrm>
            <a:off x="2057400" y="762120"/>
            <a:ext cx="1981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会读</a:t>
            </a:r>
            <a:endParaRPr b="0" lang="en-US" sz="4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026"/>
          <p:cNvSpPr/>
          <p:nvPr/>
        </p:nvSpPr>
        <p:spPr>
          <a:xfrm>
            <a:off x="682560" y="1486080"/>
            <a:ext cx="784872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cān    diū    ku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方正舒体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ng  zāo    gāo      c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餐 丢 矿 糟 糕 粗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方正舒体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i     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方正舒体"/>
              </a:rPr>
              <a:t>ò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ng   q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ì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j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ì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bǎo    guǎ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 共 汽 记 保 管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ji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夹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1028"/>
          <p:cNvSpPr/>
          <p:nvPr/>
        </p:nvSpPr>
        <p:spPr>
          <a:xfrm>
            <a:off x="2133720" y="685800"/>
            <a:ext cx="335268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29"/>
          <p:cNvSpPr/>
          <p:nvPr/>
        </p:nvSpPr>
        <p:spPr>
          <a:xfrm>
            <a:off x="2514600" y="60948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谁最棒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031" descr="hua"/>
          <p:cNvPicPr/>
          <p:nvPr/>
        </p:nvPicPr>
        <p:blipFill>
          <a:blip r:embed="rId2"/>
          <a:stretch/>
        </p:blipFill>
        <p:spPr>
          <a:xfrm>
            <a:off x="6172200" y="5049720"/>
            <a:ext cx="2743200" cy="18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Oval 10"/>
          <p:cNvSpPr/>
          <p:nvPr/>
        </p:nvSpPr>
        <p:spPr>
          <a:xfrm>
            <a:off x="2286000" y="533520"/>
            <a:ext cx="3809880" cy="1295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729800" y="1828800"/>
            <a:ext cx="571284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餐 丢 矿 糟 糕 粗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 共 汽 记 保 管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夹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蜜蜂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1693800"/>
          </a:xfrm>
          <a:prstGeom prst="rect">
            <a:avLst/>
          </a:prstGeom>
          <a:ln w="0">
            <a:noFill/>
          </a:ln>
        </p:spPr>
      </p:pic>
      <p:sp>
        <p:nvSpPr>
          <p:cNvPr id="95" name="WordArt 7"/>
          <p:cNvSpPr txBox="1"/>
          <p:nvPr/>
        </p:nvSpPr>
        <p:spPr>
          <a:xfrm>
            <a:off x="2590920" y="685800"/>
            <a:ext cx="304776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我能行</a:t>
            </a:r>
            <a:endParaRPr b="1" lang="en-US" sz="4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96" name="Picture 9" descr="hua"/>
          <p:cNvPicPr/>
          <p:nvPr/>
        </p:nvPicPr>
        <p:blipFill>
          <a:blip r:embed="rId3"/>
          <a:stretch/>
        </p:blipFill>
        <p:spPr>
          <a:xfrm>
            <a:off x="6629400" y="5181480"/>
            <a:ext cx="228600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2332080" cy="49546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4"/>
          <p:cNvSpPr/>
          <p:nvPr/>
        </p:nvSpPr>
        <p:spPr>
          <a:xfrm flipH="1" rot="10836600">
            <a:off x="2513520" y="2437920"/>
            <a:ext cx="6324480" cy="2971440"/>
          </a:xfrm>
          <a:prstGeom prst="wedgeEllipseCallout">
            <a:avLst>
              <a:gd name="adj1" fmla="val -51449"/>
              <a:gd name="adj2" fmla="val 56245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955320" y="2666880"/>
            <a:ext cx="3801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我把背包丢了</a:t>
            </a:r>
            <a:r>
              <a:rPr b="1" lang="en-US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里面装着面包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矿泉水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······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文本框 8200"/>
          <p:cNvSpPr/>
          <p:nvPr/>
        </p:nvSpPr>
        <p:spPr>
          <a:xfrm>
            <a:off x="2771640" y="10526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3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2066760" cy="40150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919080" y="52545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 flipH="1" rot="10836600">
            <a:off x="2893320" y="2438280"/>
            <a:ext cx="6018120" cy="2895840"/>
          </a:xfrm>
          <a:prstGeom prst="wedgeEllipseCallout">
            <a:avLst>
              <a:gd name="adj1" fmla="val -52504"/>
              <a:gd name="adj2" fmla="val 64472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124080" y="2514600"/>
            <a:ext cx="57913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真糟糕！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回家还有好长时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呢！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3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2066760" cy="4015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919080" y="52545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124080" y="2514600"/>
            <a:ext cx="57913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真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糟糕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！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回家还有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好长时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呢！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"/>
          <p:cNvSpPr/>
          <p:nvPr/>
        </p:nvSpPr>
        <p:spPr>
          <a:xfrm flipH="1" rot="10836600">
            <a:off x="2893320" y="2438280"/>
            <a:ext cx="6018120" cy="2895840"/>
          </a:xfrm>
          <a:prstGeom prst="wedgeEllipseCallout">
            <a:avLst>
              <a:gd name="adj1" fmla="val -52504"/>
              <a:gd name="adj2" fmla="val 64472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3" descr=""/>
          <p:cNvPicPr/>
          <p:nvPr/>
        </p:nvPicPr>
        <p:blipFill>
          <a:blip r:embed="rId2"/>
          <a:stretch/>
        </p:blipFill>
        <p:spPr>
          <a:xfrm>
            <a:off x="6781680" y="1066680"/>
            <a:ext cx="1743120" cy="3672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6862680" y="47973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安娜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6"/>
          <p:cNvSpPr/>
          <p:nvPr/>
        </p:nvSpPr>
        <p:spPr>
          <a:xfrm rot="10763400">
            <a:off x="223200" y="1980720"/>
            <a:ext cx="6326280" cy="2741760"/>
          </a:xfrm>
          <a:prstGeom prst="wedgeEllipseCallout">
            <a:avLst>
              <a:gd name="adj1" fmla="val -54254"/>
              <a:gd name="adj2" fmla="val 51050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 flipH="1">
            <a:off x="456480" y="2286000"/>
            <a:ext cx="5791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你把背包丢在哪儿了？真粗心！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2"/>
          <a:stretch/>
        </p:blipFill>
        <p:spPr>
          <a:xfrm>
            <a:off x="6781680" y="1066680"/>
            <a:ext cx="1743120" cy="3672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6862680" y="47973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安娜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 flipH="1">
            <a:off x="456480" y="2286000"/>
            <a:ext cx="5791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你把背包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丢在哪儿了</a:t>
            </a: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？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真粗心</a:t>
            </a: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！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5"/>
          <p:cNvSpPr/>
          <p:nvPr/>
        </p:nvSpPr>
        <p:spPr>
          <a:xfrm rot="10763400">
            <a:off x="223200" y="1980720"/>
            <a:ext cx="6326280" cy="2741760"/>
          </a:xfrm>
          <a:prstGeom prst="wedgeEllipseCallout">
            <a:avLst>
              <a:gd name="adj1" fmla="val -54254"/>
              <a:gd name="adj2" fmla="val 51050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0T03:18:2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27Z</dcterms:modified>
  <cp:revision>2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