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image12.gif" ContentType="image/gif"/>
  <Override PartName="/ppt/media/image1.gif" ContentType="image/gif"/>
  <Override PartName="/ppt/media/image7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6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gif" ContentType="image/gi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A3C-3832-40CF-8408-890A272B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C66-0A0B-42C3-9DFF-F1C89A2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C93-D2C6-4A65-AE84-4887E536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A2B-6E00-4115-BC97-1868CE25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22EF-D87A-4E42-BB69-33833D01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86D0-16BF-4C68-BEED-3DFD848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BAB6-FE0E-416A-BE63-5DBF76C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445A-AC65-47C4-A069-47E60E7E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14ED-721F-4A48-88FA-326EBEE2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5406-807F-4F2A-AEF3-C232202C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E8A-32F5-47F1-86B1-1F3D3FD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30C-6605-43F1-98A9-82EF22BB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92BB-02A6-477A-B34E-10AECA15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7F1D-0B1D-4A0A-9B6B-B33D36A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0C0-9A18-4933-AD32-F1D8FCE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253C-B400-4EB6-A1B7-5923F92D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FFD1-9297-48C6-AB38-2CBF6B27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004-E8B4-41F9-8A5F-A2E0F054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3D8-A103-4435-A673-1B445613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2B1-5712-4B2F-931C-90D73CE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7AD-E1BE-4669-8FF1-268805B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71D-2ED6-4B86-9949-D83E2A1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51E-A67D-4ACF-98ED-06EE6A4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6AF-1601-4351-81B3-2D9DA566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6988-09B8-4087-BDB1-35AB47603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46A3-13D1-4BDE-8FCE-D364726A0C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D1E-99E8-4120-BC0E-544B1B7DA3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0128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9"/>
          <p:cNvSpPr/>
          <p:nvPr/>
        </p:nvSpPr>
        <p:spPr>
          <a:xfrm>
            <a:off x="2268360" y="981000"/>
            <a:ext cx="4537080" cy="1224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语文园地六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课件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5"/>
          <p:cNvSpPr txBox="1"/>
          <p:nvPr/>
        </p:nvSpPr>
        <p:spPr>
          <a:xfrm>
            <a:off x="684360" y="765000"/>
            <a:ext cx="86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主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2124000" y="76500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组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684360" y="2421000"/>
            <a:ext cx="86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宋体"/>
              </a:rPr>
              <a:t>zǔ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210" name="WordArt 8"/>
          <p:cNvSpPr txBox="1"/>
          <p:nvPr/>
        </p:nvSpPr>
        <p:spPr>
          <a:xfrm>
            <a:off x="2195640" y="2421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宋体"/>
              </a:rPr>
              <a:t>zhǔ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宋体"/>
              <a:ea typeface="华文宋体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87280" y="1557360"/>
            <a:ext cx="1224000" cy="863640"/>
            <a:chOff x="1187280" y="1557360"/>
            <a:chExt cx="1224000" cy="863640"/>
          </a:xfrm>
        </p:grpSpPr>
        <p:sp>
          <p:nvSpPr>
            <p:cNvPr id="212" name="Line 9"/>
            <p:cNvSpPr/>
            <p:nvPr/>
          </p:nvSpPr>
          <p:spPr>
            <a:xfrm>
              <a:off x="1187280" y="1557360"/>
              <a:ext cx="1224000" cy="86364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187280" y="1557360"/>
              <a:ext cx="122400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187280" y="1628640"/>
            <a:ext cx="1224000" cy="720720"/>
            <a:chOff x="1187280" y="1628640"/>
            <a:chExt cx="1224000" cy="720720"/>
          </a:xfrm>
        </p:grpSpPr>
        <p:sp>
          <p:nvSpPr>
            <p:cNvPr id="215" name="Line 10"/>
            <p:cNvSpPr/>
            <p:nvPr/>
          </p:nvSpPr>
          <p:spPr>
            <a:xfrm flipH="1">
              <a:off x="1187280" y="1628640"/>
              <a:ext cx="1224000" cy="72072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187280" y="1628640"/>
              <a:ext cx="1224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WordArt 11"/>
          <p:cNvSpPr txBox="1"/>
          <p:nvPr/>
        </p:nvSpPr>
        <p:spPr>
          <a:xfrm>
            <a:off x="539640" y="378936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总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2268360" y="386064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种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9" name="WordArt 13"/>
          <p:cNvSpPr txBox="1"/>
          <p:nvPr/>
        </p:nvSpPr>
        <p:spPr>
          <a:xfrm>
            <a:off x="611280" y="5661000"/>
            <a:ext cx="10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zhǒng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2411280" y="5589720"/>
            <a:ext cx="8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zǒng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WordArt 15"/>
          <p:cNvSpPr txBox="1"/>
          <p:nvPr/>
        </p:nvSpPr>
        <p:spPr>
          <a:xfrm>
            <a:off x="3780000" y="620640"/>
            <a:ext cx="86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尝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2" name="WordArt 16"/>
          <p:cNvSpPr txBox="1"/>
          <p:nvPr/>
        </p:nvSpPr>
        <p:spPr>
          <a:xfrm>
            <a:off x="5508720" y="76500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藏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3" name="WordArt 17"/>
          <p:cNvSpPr txBox="1"/>
          <p:nvPr/>
        </p:nvSpPr>
        <p:spPr>
          <a:xfrm>
            <a:off x="3708360" y="2492280"/>
            <a:ext cx="10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háng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4" name="WordArt 18"/>
          <p:cNvSpPr txBox="1"/>
          <p:nvPr/>
        </p:nvSpPr>
        <p:spPr>
          <a:xfrm>
            <a:off x="5508720" y="249228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áng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87280" y="4797360"/>
            <a:ext cx="1224000" cy="863640"/>
            <a:chOff x="1187280" y="4797360"/>
            <a:chExt cx="1224000" cy="863640"/>
          </a:xfrm>
        </p:grpSpPr>
        <p:sp>
          <p:nvSpPr>
            <p:cNvPr id="226" name="Line 19"/>
            <p:cNvSpPr/>
            <p:nvPr/>
          </p:nvSpPr>
          <p:spPr>
            <a:xfrm>
              <a:off x="1187280" y="4797360"/>
              <a:ext cx="1224000" cy="86364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187280" y="4797360"/>
              <a:ext cx="122400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58560" y="4797360"/>
            <a:ext cx="1297440" cy="792360"/>
            <a:chOff x="1258560" y="4797360"/>
            <a:chExt cx="1297440" cy="792360"/>
          </a:xfrm>
        </p:grpSpPr>
        <p:sp>
          <p:nvSpPr>
            <p:cNvPr id="229" name="Line 20"/>
            <p:cNvSpPr/>
            <p:nvPr/>
          </p:nvSpPr>
          <p:spPr>
            <a:xfrm flipH="1">
              <a:off x="1258560" y="4797360"/>
              <a:ext cx="1297080" cy="79236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1258920" y="4797360"/>
              <a:ext cx="1297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211640" y="1484280"/>
            <a:ext cx="360" cy="936720"/>
            <a:chOff x="4211640" y="1484280"/>
            <a:chExt cx="360" cy="936720"/>
          </a:xfrm>
        </p:grpSpPr>
        <p:sp>
          <p:nvSpPr>
            <p:cNvPr id="232" name="Line 21"/>
            <p:cNvSpPr/>
            <p:nvPr/>
          </p:nvSpPr>
          <p:spPr>
            <a:xfrm>
              <a:off x="4211640" y="1484280"/>
              <a:ext cx="0" cy="93672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4211640" y="1484280"/>
              <a:ext cx="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940360" y="1484280"/>
            <a:ext cx="360" cy="936720"/>
            <a:chOff x="5940360" y="1484280"/>
            <a:chExt cx="360" cy="936720"/>
          </a:xfrm>
        </p:grpSpPr>
        <p:sp>
          <p:nvSpPr>
            <p:cNvPr id="235" name="Line 22"/>
            <p:cNvSpPr/>
            <p:nvPr/>
          </p:nvSpPr>
          <p:spPr>
            <a:xfrm>
              <a:off x="5940360" y="1484280"/>
              <a:ext cx="0" cy="936720"/>
            </a:xfrm>
            <a:prstGeom prst="line">
              <a:avLst/>
            </a:prstGeom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5940360" y="1484280"/>
              <a:ext cx="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3" descr="25[1]"/>
          <p:cNvPicPr/>
          <p:nvPr/>
        </p:nvPicPr>
        <p:blipFill>
          <a:blip r:embed="rId2"/>
          <a:stretch/>
        </p:blipFill>
        <p:spPr>
          <a:xfrm>
            <a:off x="3564000" y="4437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24"/>
          <p:cNvSpPr/>
          <p:nvPr/>
        </p:nvSpPr>
        <p:spPr>
          <a:xfrm>
            <a:off x="4643280" y="4653000"/>
            <a:ext cx="2160720" cy="719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我会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75D7-28D4-40CE-A25E-FFE9542BA1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0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2411280" y="1125360"/>
            <a:ext cx="496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xīng]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lǐng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雪花还在飞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江两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柳枝已经发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南岛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dǎo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到处盛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shèng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开着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的祖国多么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6"/>
          <p:cNvSpPr txBox="1"/>
          <p:nvPr/>
        </p:nvSpPr>
        <p:spPr>
          <a:xfrm>
            <a:off x="2916360" y="549360"/>
            <a:ext cx="287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祖国多么广大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7" name="WordArt 7"/>
          <p:cNvSpPr txBox="1"/>
          <p:nvPr/>
        </p:nvSpPr>
        <p:spPr>
          <a:xfrm rot="5400000">
            <a:off x="-792000" y="2889000"/>
            <a:ext cx="4535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背背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8" name="Picture 8" descr="25[1]"/>
          <p:cNvPicPr/>
          <p:nvPr/>
        </p:nvPicPr>
        <p:blipFill>
          <a:blip r:embed="rId2"/>
          <a:stretch/>
        </p:blipFill>
        <p:spPr>
          <a:xfrm>
            <a:off x="0" y="62064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7"/>
          <p:cNvGrpSpPr/>
          <p:nvPr/>
        </p:nvGrpSpPr>
        <p:grpSpPr>
          <a:xfrm>
            <a:off x="1692360" y="620640"/>
            <a:ext cx="6840360" cy="1008000"/>
            <a:chOff x="1692360" y="620640"/>
            <a:chExt cx="6840360" cy="1008000"/>
          </a:xfrm>
        </p:grpSpPr>
        <p:sp>
          <p:nvSpPr>
            <p:cNvPr id="88" name="AutoShape 5"/>
            <p:cNvSpPr/>
            <p:nvPr/>
          </p:nvSpPr>
          <p:spPr>
            <a:xfrm>
              <a:off x="1692360" y="620640"/>
              <a:ext cx="684036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WordArt 6"/>
            <p:cNvSpPr txBox="1"/>
            <p:nvPr/>
          </p:nvSpPr>
          <p:spPr>
            <a:xfrm>
              <a:off x="1763640" y="765000"/>
              <a:ext cx="655344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鸟—乌  令—今  广—厂</a:t>
              </a:r>
              <a:endParaRPr b="0" lang="en-US" sz="18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grpSp>
        <p:nvGrpSpPr>
          <p:cNvPr id="90" name="Group 18"/>
          <p:cNvGrpSpPr/>
          <p:nvPr/>
        </p:nvGrpSpPr>
        <p:grpSpPr>
          <a:xfrm>
            <a:off x="1187280" y="2060640"/>
            <a:ext cx="7631280" cy="2087280"/>
            <a:chOff x="1187280" y="2060640"/>
            <a:chExt cx="7631280" cy="2087280"/>
          </a:xfrm>
        </p:grpSpPr>
        <p:sp>
          <p:nvSpPr>
            <p:cNvPr id="91" name="AutoShape 7"/>
            <p:cNvSpPr/>
            <p:nvPr/>
          </p:nvSpPr>
          <p:spPr>
            <a:xfrm>
              <a:off x="1187280" y="2060640"/>
              <a:ext cx="7631280" cy="2087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9"/>
            <p:cNvSpPr txBox="1"/>
            <p:nvPr/>
          </p:nvSpPr>
          <p:spPr>
            <a:xfrm>
              <a:off x="1619280" y="2205000"/>
              <a:ext cx="7057800" cy="6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日—白   田   目  电   旦  旧  由</a:t>
              </a:r>
              <a:endParaRPr b="0" lang="en-US" sz="18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  <p:sp>
          <p:nvSpPr>
            <p:cNvPr id="93" name="WordArt 10"/>
            <p:cNvSpPr txBox="1"/>
            <p:nvPr/>
          </p:nvSpPr>
          <p:spPr>
            <a:xfrm>
              <a:off x="1690560" y="3357360"/>
              <a:ext cx="648036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甲（甲鱼）     申（申请）</a:t>
              </a:r>
              <a:endParaRPr b="0" lang="en-US" sz="18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1258920" y="2781360"/>
            <a:ext cx="7632720" cy="3716280"/>
            <a:chOff x="1258920" y="2781360"/>
            <a:chExt cx="7632720" cy="3716280"/>
          </a:xfrm>
        </p:grpSpPr>
        <p:grpSp>
          <p:nvGrpSpPr>
            <p:cNvPr id="95" name="Group 22"/>
            <p:cNvGrpSpPr/>
            <p:nvPr/>
          </p:nvGrpSpPr>
          <p:grpSpPr>
            <a:xfrm>
              <a:off x="1258920" y="2781360"/>
              <a:ext cx="7632720" cy="3716280"/>
              <a:chOff x="1258920" y="2781360"/>
              <a:chExt cx="7632720" cy="3716280"/>
            </a:xfrm>
          </p:grpSpPr>
          <p:sp>
            <p:nvSpPr>
              <p:cNvPr id="96" name="WordArt 11"/>
              <p:cNvSpPr txBox="1"/>
              <p:nvPr/>
            </p:nvSpPr>
            <p:spPr>
              <a:xfrm>
                <a:off x="1547640" y="2852640"/>
                <a:ext cx="79236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ff"/>
                      </a:solidFill>
                      <a:round/>
                    </a:ln>
                    <a:solidFill>
                      <a:srgbClr val="3366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宋体"/>
                  </a:rPr>
                  <a:t>jiǎ </a:t>
                </a:r>
                <a:endPara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97" name="WordArt 12"/>
              <p:cNvSpPr txBox="1"/>
              <p:nvPr/>
            </p:nvSpPr>
            <p:spPr>
              <a:xfrm>
                <a:off x="5364000" y="2781360"/>
                <a:ext cx="79236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ff"/>
                      </a:solidFill>
                      <a:round/>
                    </a:ln>
                    <a:solidFill>
                      <a:srgbClr val="3366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宋体"/>
                  </a:rPr>
                  <a:t>shēn</a:t>
                </a:r>
                <a:endPara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grpSp>
            <p:nvGrpSpPr>
              <p:cNvPr id="98" name="Group 19"/>
              <p:cNvGrpSpPr/>
              <p:nvPr/>
            </p:nvGrpSpPr>
            <p:grpSpPr>
              <a:xfrm>
                <a:off x="1258920" y="4292640"/>
                <a:ext cx="7632720" cy="2205000"/>
                <a:chOff x="1258920" y="4292640"/>
                <a:chExt cx="7632720" cy="2205000"/>
              </a:xfrm>
            </p:grpSpPr>
            <p:sp>
              <p:nvSpPr>
                <p:cNvPr id="99" name="AutoShape 8"/>
                <p:cNvSpPr/>
                <p:nvPr/>
              </p:nvSpPr>
              <p:spPr>
                <a:xfrm>
                  <a:off x="1258920" y="4292640"/>
                  <a:ext cx="7632720" cy="2205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WordArt 13"/>
                <p:cNvSpPr txBox="1"/>
                <p:nvPr/>
              </p:nvSpPr>
              <p:spPr>
                <a:xfrm>
                  <a:off x="1401840" y="4508640"/>
                  <a:ext cx="7345440" cy="714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ff00ff"/>
                        </a:solidFill>
                        <a:round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华文楷体"/>
                    </a:rPr>
                    <a:t>口—只  古  石  右  另  可  加  叶  号</a:t>
                  </a:r>
                  <a:endParaRPr b="0" lang="en-US" sz="1800" spc="1" strike="noStrike">
                    <a:ln w="9360">
                      <a:solidFill>
                        <a:srgbClr val="ff00ff"/>
                      </a:solidFill>
                      <a:round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华文楷体"/>
                    <a:ea typeface="华文楷体"/>
                  </a:endParaRPr>
                </a:p>
              </p:txBody>
            </p:sp>
            <p:sp>
              <p:nvSpPr>
                <p:cNvPr id="101" name="WordArt 14"/>
                <p:cNvSpPr txBox="1"/>
                <p:nvPr/>
              </p:nvSpPr>
              <p:spPr>
                <a:xfrm>
                  <a:off x="1690920" y="5589720"/>
                  <a:ext cx="6480000" cy="784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ff00ff"/>
                        </a:solidFill>
                        <a:round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华文楷体"/>
                    </a:rPr>
                    <a:t>句（句子）     兄（兄弟）</a:t>
                  </a:r>
                  <a:endParaRPr b="0" lang="en-US" sz="1800" spc="1" strike="noStrike">
                    <a:ln w="9360">
                      <a:solidFill>
                        <a:srgbClr val="ff00ff"/>
                      </a:solidFill>
                      <a:round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华文楷体"/>
                    <a:ea typeface="华文楷体"/>
                  </a:endParaRPr>
                </a:p>
              </p:txBody>
            </p:sp>
          </p:grpSp>
        </p:grpSp>
        <p:sp>
          <p:nvSpPr>
            <p:cNvPr id="102" name="WordArt 15"/>
            <p:cNvSpPr txBox="1"/>
            <p:nvPr/>
          </p:nvSpPr>
          <p:spPr>
            <a:xfrm>
              <a:off x="1547640" y="5157720"/>
              <a:ext cx="7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jù 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03" name="WordArt 16"/>
            <p:cNvSpPr txBox="1"/>
            <p:nvPr/>
          </p:nvSpPr>
          <p:spPr>
            <a:xfrm>
              <a:off x="5435640" y="5157720"/>
              <a:ext cx="792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xiōng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104" name="Picture 20" descr="Gif0405_036"/>
          <p:cNvPicPr/>
          <p:nvPr/>
        </p:nvPicPr>
        <p:blipFill>
          <a:blip r:embed="rId1"/>
          <a:stretch/>
        </p:blipFill>
        <p:spPr>
          <a:xfrm>
            <a:off x="468360" y="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21"/>
          <p:cNvSpPr txBox="1"/>
          <p:nvPr/>
        </p:nvSpPr>
        <p:spPr>
          <a:xfrm rot="5400000">
            <a:off x="-1709640" y="2760480"/>
            <a:ext cx="4753080" cy="133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发现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8360" y="1844640"/>
            <a:ext cx="6624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乌 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348000" y="1916280"/>
            <a:ext cx="2808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 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300720" y="1916280"/>
            <a:ext cx="324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厂 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1700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64360" y="836640"/>
            <a:ext cx="1081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995640" y="2637000"/>
            <a:ext cx="1081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3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1"/>
          <p:cNvSpPr/>
          <p:nvPr/>
        </p:nvSpPr>
        <p:spPr>
          <a:xfrm>
            <a:off x="1116000" y="404640"/>
            <a:ext cx="3743280" cy="1368720"/>
          </a:xfrm>
          <a:prstGeom prst="cloudCallout">
            <a:avLst>
              <a:gd name="adj1" fmla="val -48560"/>
              <a:gd name="adj2" fmla="val 7679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华文隶书"/>
              </a:rPr>
              <a:t>减一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2[4]"/>
          <p:cNvPicPr/>
          <p:nvPr/>
        </p:nvPicPr>
        <p:blipFill>
          <a:blip r:embed="rId2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6" descr="卡通韩国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826920" y="1125360"/>
            <a:ext cx="107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4360" y="33336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4572000" y="5084640"/>
            <a:ext cx="107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427640" y="4869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2700360" y="620640"/>
            <a:ext cx="9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84360" y="0"/>
            <a:ext cx="1297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ff"/>
                </a:solidFill>
                <a:latin typeface="华文隶书"/>
                <a:ea typeface="华文隶书"/>
              </a:rPr>
              <a:t>-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572000" y="1125360"/>
            <a:ext cx="936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211640" y="260280"/>
            <a:ext cx="1655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ff00ff"/>
                </a:solidFill>
                <a:latin typeface="Arial"/>
                <a:ea typeface="华文楷体"/>
              </a:rPr>
              <a:t>乚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1835280" y="2924280"/>
            <a:ext cx="7920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187280" y="2924280"/>
            <a:ext cx="165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ff"/>
                </a:solidFill>
                <a:latin typeface="Arial"/>
                <a:ea typeface="华文楷体"/>
              </a:rPr>
              <a:t>一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5"/>
          <p:cNvSpPr txBox="1"/>
          <p:nvPr/>
        </p:nvSpPr>
        <p:spPr>
          <a:xfrm>
            <a:off x="3995640" y="3357720"/>
            <a:ext cx="79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987640" y="2852640"/>
            <a:ext cx="151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宋体"/>
              </a:rPr>
              <a:t>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24360" y="3284640"/>
            <a:ext cx="1079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5435640" y="2421000"/>
            <a:ext cx="201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21"/>
          <p:cNvSpPr txBox="1"/>
          <p:nvPr/>
        </p:nvSpPr>
        <p:spPr>
          <a:xfrm>
            <a:off x="3059280" y="5084640"/>
            <a:ext cx="107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627280" y="460224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23"/>
          <p:cNvSpPr txBox="1"/>
          <p:nvPr/>
        </p:nvSpPr>
        <p:spPr>
          <a:xfrm>
            <a:off x="6227640" y="4869000"/>
            <a:ext cx="108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5508720" y="3886200"/>
            <a:ext cx="201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6227640" y="404640"/>
            <a:ext cx="2916360" cy="1224000"/>
          </a:xfrm>
          <a:prstGeom prst="cloudCallout">
            <a:avLst>
              <a:gd name="adj1" fmla="val -62518"/>
              <a:gd name="adj2" fmla="val 8385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隶书"/>
              </a:rPr>
              <a:t>加一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2[4]"/>
          <p:cNvPicPr/>
          <p:nvPr/>
        </p:nvPicPr>
        <p:blipFill>
          <a:blip r:embed="rId2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1692360" y="1844640"/>
            <a:ext cx="14414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826920" y="1916280"/>
            <a:ext cx="2953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ff00ff"/>
                </a:solidFill>
                <a:latin typeface="Arial"/>
                <a:ea typeface="华文楷体"/>
              </a:rPr>
              <a:t>一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5651640" y="1557360"/>
            <a:ext cx="158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3851280" y="765000"/>
            <a:ext cx="3456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2[4]"/>
          <p:cNvPicPr/>
          <p:nvPr/>
        </p:nvPicPr>
        <p:blipFill>
          <a:blip r:embed="rId2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763640" y="476280"/>
            <a:ext cx="216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-252360" y="0"/>
            <a:ext cx="201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2050920" y="4410000"/>
            <a:ext cx="223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-396720" y="2544840"/>
            <a:ext cx="3456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6084720" y="0"/>
            <a:ext cx="2017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276720" y="-603360"/>
            <a:ext cx="3456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6300720" y="3933720"/>
            <a:ext cx="16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276720" y="2492280"/>
            <a:ext cx="3456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2[4]"/>
          <p:cNvPicPr/>
          <p:nvPr/>
        </p:nvPicPr>
        <p:blipFill>
          <a:blip r:embed="rId1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8200"/>
          <p:cNvSpPr/>
          <p:nvPr/>
        </p:nvSpPr>
        <p:spPr>
          <a:xfrm>
            <a:off x="395280" y="2781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0.0037 L 0.19687 0.0037 E">
                                      <p:cBhvr>
                                        <p:cTn id="13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17327 2.59259E-006 E">
                                      <p:cBhvr>
                                        <p:cTn id="13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22049 -0.01042 E">
                                      <p:cBhvr>
                                        <p:cTn id="14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22049 -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059280" y="3429000"/>
            <a:ext cx="43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3059280" y="1341360"/>
            <a:ext cx="792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5364000" y="1125360"/>
            <a:ext cx="5763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7812000" y="141300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403280" y="3284640"/>
            <a:ext cx="64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0" name="WordArt 9"/>
          <p:cNvSpPr txBox="1"/>
          <p:nvPr/>
        </p:nvSpPr>
        <p:spPr>
          <a:xfrm>
            <a:off x="1116000" y="1197000"/>
            <a:ext cx="863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5219640" y="3357720"/>
            <a:ext cx="503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2" name="WordArt 11"/>
          <p:cNvSpPr txBox="1"/>
          <p:nvPr/>
        </p:nvSpPr>
        <p:spPr>
          <a:xfrm>
            <a:off x="7020000" y="3284640"/>
            <a:ext cx="504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3" name="WordArt 12"/>
          <p:cNvSpPr txBox="1"/>
          <p:nvPr/>
        </p:nvSpPr>
        <p:spPr>
          <a:xfrm>
            <a:off x="4859280" y="479736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39640" y="170028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  <a:ea typeface="楷体_GB2312"/>
              </a:rPr>
              <a:t>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900000" y="1557360"/>
            <a:ext cx="1440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00ff"/>
                </a:solidFill>
                <a:latin typeface="宋体"/>
              </a:rPr>
              <a:t>‵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211640" y="2276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00720" y="0"/>
            <a:ext cx="201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00ff"/>
                </a:solidFill>
                <a:latin typeface="Arial"/>
                <a:ea typeface="华文楷体"/>
              </a:rPr>
              <a:t>丆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627280" y="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Arial"/>
                <a:ea typeface="楷体_GB2312"/>
              </a:rPr>
              <a:t>一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2987640" y="404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6877080" y="0"/>
            <a:ext cx="1727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00ff"/>
                </a:solidFill>
                <a:latin typeface="华文楷体"/>
                <a:ea typeface="华文楷体"/>
              </a:rPr>
              <a:t>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971640" y="3789360"/>
            <a:ext cx="12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力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2" name="WordArt 26"/>
          <p:cNvSpPr txBox="1"/>
          <p:nvPr/>
        </p:nvSpPr>
        <p:spPr>
          <a:xfrm>
            <a:off x="4356000" y="2997360"/>
            <a:ext cx="720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力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4427640" y="486900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ff"/>
                </a:solidFill>
                <a:latin typeface="宋体"/>
              </a:rPr>
              <a:t>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7380360" y="2637000"/>
            <a:ext cx="1258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Arial"/>
                <a:ea typeface="华文楷体"/>
              </a:rPr>
              <a:t>十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484360" y="2276640"/>
            <a:ext cx="1582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Arial"/>
                <a:ea typeface="华文楷体"/>
              </a:rPr>
              <a:t>一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2987640" y="299736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Arial"/>
              </a:rPr>
              <a:t>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2"/>
          <p:cNvSpPr/>
          <p:nvPr/>
        </p:nvSpPr>
        <p:spPr>
          <a:xfrm>
            <a:off x="6227640" y="4653000"/>
            <a:ext cx="2916360" cy="1224000"/>
          </a:xfrm>
          <a:prstGeom prst="cloudCallout">
            <a:avLst>
              <a:gd name="adj1" fmla="val -59689"/>
              <a:gd name="adj2" fmla="val 7632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隶书"/>
              </a:rPr>
              <a:t>加二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3" descr="2[4]"/>
          <p:cNvPicPr/>
          <p:nvPr/>
        </p:nvPicPr>
        <p:blipFill>
          <a:blip r:embed="rId1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5"/>
          <p:cNvSpPr txBox="1"/>
          <p:nvPr/>
        </p:nvSpPr>
        <p:spPr>
          <a:xfrm>
            <a:off x="826920" y="1916280"/>
            <a:ext cx="12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厂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3492360" y="3860640"/>
            <a:ext cx="93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句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3" name="WordArt 7"/>
          <p:cNvSpPr txBox="1"/>
          <p:nvPr/>
        </p:nvSpPr>
        <p:spPr>
          <a:xfrm>
            <a:off x="971640" y="3645000"/>
            <a:ext cx="93636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申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3564000" y="1773360"/>
            <a:ext cx="936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甲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651640" y="4005360"/>
            <a:ext cx="122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兄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86" name="Picture 10" descr="25[1]"/>
          <p:cNvPicPr/>
          <p:nvPr/>
        </p:nvPicPr>
        <p:blipFill>
          <a:blip r:embed="rId2"/>
          <a:stretch/>
        </p:blipFill>
        <p:spPr>
          <a:xfrm>
            <a:off x="3952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1"/>
          <p:cNvSpPr/>
          <p:nvPr/>
        </p:nvSpPr>
        <p:spPr>
          <a:xfrm>
            <a:off x="1619280" y="333360"/>
            <a:ext cx="2160720" cy="71928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539640" y="141300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团结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2700360" y="1341360"/>
            <a:ext cx="136836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尊重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2" name="WordArt 7"/>
          <p:cNvSpPr txBox="1"/>
          <p:nvPr/>
        </p:nvSpPr>
        <p:spPr>
          <a:xfrm>
            <a:off x="4788000" y="141300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停止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6877080" y="1341360"/>
            <a:ext cx="136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议论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468360" y="278136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英雄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2771640" y="2708280"/>
            <a:ext cx="13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理想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4788000" y="2708280"/>
            <a:ext cx="136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办法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7" name="WordArt 12"/>
          <p:cNvSpPr txBox="1"/>
          <p:nvPr/>
        </p:nvSpPr>
        <p:spPr>
          <a:xfrm>
            <a:off x="6588000" y="2637000"/>
            <a:ext cx="136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街道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8" name="WordArt 13"/>
          <p:cNvSpPr txBox="1"/>
          <p:nvPr/>
        </p:nvSpPr>
        <p:spPr>
          <a:xfrm>
            <a:off x="539640" y="450864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勇敢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9" name="WordArt 14"/>
          <p:cNvSpPr txBox="1"/>
          <p:nvPr/>
        </p:nvSpPr>
        <p:spPr>
          <a:xfrm>
            <a:off x="2700360" y="4437000"/>
            <a:ext cx="136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感动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0" name="WordArt 15"/>
          <p:cNvSpPr txBox="1"/>
          <p:nvPr/>
        </p:nvSpPr>
        <p:spPr>
          <a:xfrm>
            <a:off x="4716360" y="450864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慌张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1" name="WordArt 16"/>
          <p:cNvSpPr txBox="1"/>
          <p:nvPr/>
        </p:nvSpPr>
        <p:spPr>
          <a:xfrm>
            <a:off x="6659640" y="450864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顺心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02" name="Picture 18" descr="25[1]"/>
          <p:cNvPicPr/>
          <p:nvPr/>
        </p:nvPicPr>
        <p:blipFill>
          <a:blip r:embed="rId2"/>
          <a:stretch/>
        </p:blipFill>
        <p:spPr>
          <a:xfrm>
            <a:off x="3952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9"/>
          <p:cNvSpPr/>
          <p:nvPr/>
        </p:nvSpPr>
        <p:spPr>
          <a:xfrm>
            <a:off x="1619280" y="333360"/>
            <a:ext cx="2160720" cy="71928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200"/>
          <p:cNvSpPr/>
          <p:nvPr/>
        </p:nvSpPr>
        <p:spPr>
          <a:xfrm>
            <a:off x="1116000" y="544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2:32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1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