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8.jpeg" ContentType="image/jpeg"/>
  <Override PartName="/ppt/media/camera.wav" ContentType="audio/x-wav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72F-BC6F-4AD8-B1C9-4B92731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95B-89BC-46BA-8104-6826B92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4E8-F96D-4E04-86A5-9CF927B5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5CD-0EBD-4973-8288-3AB4E60C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6871-65D3-4844-B57C-B22CABC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D94-CE13-4F43-9FF2-AB12350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A60F-E5AF-467A-8268-AE10763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D83-A22F-4DEF-B806-FC30E916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DF3-5142-4B6A-A935-901EECE9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996-32E5-493E-9673-0E4B04F1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AC2-AC24-445F-A6EE-D2E7B5A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09F-0200-4D62-88C9-6086BC43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160E-1578-4A55-A28E-0EC28CA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077-CF71-47FC-89BA-635BEB3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757-3316-469C-AE03-BFB2FE7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5036-DE34-476F-AFF1-C1D9B30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E0E4-581E-40FF-A8E9-78C55649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E06-0095-46EB-92FB-E48B216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D42-9BFD-4759-8126-B304471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CEB-FF20-400A-BEB7-D59F875D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1D5-377C-419F-A787-1B02455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6E1-0F1B-4C25-9569-F39F3F2C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87B-88A8-4A42-88A6-8B1C6B4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87F-BBE8-4A06-B28C-35B1286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660-1BC3-426D-90D8-D2E1BDC50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6A4-0C77-4AA9-9BE3-D20A57F1D8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240-37F2-4026-98F0-E8847FE6E3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050920" y="2060640"/>
            <a:ext cx="568656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语文园地</a:t>
            </a:r>
            <a:r>
              <a:rPr b="0" lang="en-US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PPT</a:t>
            </a: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课件免费下载</a:t>
            </a:r>
            <a:endParaRPr b="0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Text Box 3"/>
          <p:cNvSpPr/>
          <p:nvPr/>
        </p:nvSpPr>
        <p:spPr>
          <a:xfrm rot="21093600">
            <a:off x="186984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 rot="20671200">
            <a:off x="4394160" y="39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 rot="382800">
            <a:off x="316980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三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102160" y="61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XC3A7006"/>
          <p:cNvPicPr/>
          <p:nvPr/>
        </p:nvPicPr>
        <p:blipFill>
          <a:blip r:embed="rId1"/>
          <a:stretch/>
        </p:blipFill>
        <p:spPr>
          <a:xfrm>
            <a:off x="2195640" y="260280"/>
            <a:ext cx="662436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71600" y="356940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春天在哪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62160" y="370044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小鸟小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春天在哪里.mp3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小鸟小鸟.MP3" descr=""/>
          <p:cNvPicPr/>
          <p:nvPr/>
        </p:nvPicPr>
        <p:blipFill>
          <a:blip r:embed="rId3"/>
          <a:stretch/>
        </p:blipFill>
        <p:spPr>
          <a:xfrm>
            <a:off x="1332000" y="551664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200"/>
          <p:cNvSpPr/>
          <p:nvPr/>
        </p:nvSpPr>
        <p:spPr>
          <a:xfrm>
            <a:off x="2268360" y="609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3526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091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XC3A7009"/>
          <p:cNvPicPr/>
          <p:nvPr/>
        </p:nvPicPr>
        <p:blipFill>
          <a:blip r:embed="rId1"/>
          <a:stretch/>
        </p:blipFill>
        <p:spPr>
          <a:xfrm>
            <a:off x="1619280" y="549360"/>
            <a:ext cx="6913440" cy="561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34760" y="1073160"/>
            <a:ext cx="729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春   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6C76-0C4A-47FE-8BF8-D5008CBB8A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0" y="10666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春姑娘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真高兴，你们送给我这么多美丽的图画、动人的歌曲，还有那么好听的故事，谢谢你们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8C6F3CDE241BE8BC885D2056AC27AF5E"/>
          <p:cNvPicPr/>
          <p:nvPr/>
        </p:nvPicPr>
        <p:blipFill>
          <a:blip r:embed="rId2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73087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129"/>
          <p:cNvSpPr txBox="1"/>
          <p:nvPr/>
        </p:nvSpPr>
        <p:spPr>
          <a:xfrm rot="20451600">
            <a:off x="179280" y="549360"/>
            <a:ext cx="36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发现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2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135" descr="未标题-1 拷贝"/>
          <p:cNvPicPr/>
          <p:nvPr/>
        </p:nvPicPr>
        <p:blipFill>
          <a:blip r:embed="rId1"/>
          <a:stretch/>
        </p:blipFill>
        <p:spPr>
          <a:xfrm>
            <a:off x="6588000" y="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4" descr="歌"/>
          <p:cNvPicPr/>
          <p:nvPr/>
        </p:nvPicPr>
        <p:blipFill>
          <a:blip r:embed="rId2"/>
          <a:stretch/>
        </p:blipFill>
        <p:spPr>
          <a:xfrm>
            <a:off x="4680" y="2421000"/>
            <a:ext cx="784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979640" y="692280"/>
            <a:ext cx="518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g             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评价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86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车"/>
          <p:cNvPicPr/>
          <p:nvPr/>
        </p:nvPicPr>
        <p:blipFill>
          <a:blip r:embed="rId2"/>
          <a:stretch/>
        </p:blipFill>
        <p:spPr>
          <a:xfrm>
            <a:off x="250920" y="2852640"/>
            <a:ext cx="8424720" cy="93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钱"/>
          <p:cNvPicPr/>
          <p:nvPr/>
        </p:nvPicPr>
        <p:blipFill>
          <a:blip r:embed="rId3"/>
          <a:stretch/>
        </p:blipFill>
        <p:spPr>
          <a:xfrm>
            <a:off x="250920" y="4508640"/>
            <a:ext cx="864072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763640" y="22050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g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08000" y="393372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q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8200"/>
          <p:cNvSpPr/>
          <p:nvPr/>
        </p:nvSpPr>
        <p:spPr>
          <a:xfrm>
            <a:off x="971640" y="609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52680" y="320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识字方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975120" y="1700280"/>
            <a:ext cx="362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我发现的两种识字方法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28472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熟字加偏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熟字换偏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3263760" y="2851560"/>
            <a:ext cx="39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评（评比，评价，批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访（家访，拜访，访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挤（挤进，拥挤，挤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邮（邮票，邮车，邮件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轿（轿子，花轿，轿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钱（金钱，钱包，零用钱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0" y="0"/>
            <a:ext cx="5508720" cy="2879640"/>
          </a:xfrm>
          <a:prstGeom prst="irregularSeal2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1187280" y="981000"/>
            <a:ext cx="2160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0" y="0"/>
            <a:ext cx="4356000" cy="2565360"/>
          </a:xfrm>
          <a:prstGeom prst="irregularSeal2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971640" y="836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056600" y="2491560"/>
            <a:ext cx="7002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１）你会给下列的字加偏旁， 组词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例：　　　沙（沙）（细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　　　　　　（抄）（抄写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（　）（　　）果（　）（　　）鸟（　）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（　）（　　）　（　）（　　）　（　）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40360" y="836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会加偏旁，我也会组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谁发现得多，得的红花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64840" y="4724280"/>
            <a:ext cx="793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２）比一比，说一说，再组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情（       ）       静（       ）      景（      ）      报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睛（       ）       净（        ）     惊（      ）      服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920240" y="2498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68040" y="119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668040" y="256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66696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8C6F3CDE241BE8BC885D2056AC27AF5E"/>
          <p:cNvPicPr/>
          <p:nvPr/>
        </p:nvPicPr>
        <p:blipFill>
          <a:blip r:embed="rId1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900000" y="5805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332000" y="350028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春回大地　春暖花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春风拂面  柳绿花红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百花盛开　万物复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万里无云</a:t>
            </a:r>
            <a:r>
              <a:rPr b="0" lang="zh-CN" sz="4000" spc="-1" strike="noStrike">
                <a:solidFill>
                  <a:srgbClr val="e9b72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5"/>
          <p:cNvSpPr txBox="1"/>
          <p:nvPr/>
        </p:nvSpPr>
        <p:spPr>
          <a:xfrm rot="489600">
            <a:off x="4355640" y="549360"/>
            <a:ext cx="39006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日积月累</a:t>
            </a:r>
            <a:endParaRPr b="0" lang="en-US" sz="2400" spc="-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Picture 9" descr="5DF9723BC7BDCF975CD6F66EA3785F7E"/>
          <p:cNvPicPr/>
          <p:nvPr/>
        </p:nvPicPr>
        <p:blipFill>
          <a:blip r:embed="rId1"/>
          <a:stretch/>
        </p:blipFill>
        <p:spPr>
          <a:xfrm>
            <a:off x="684360" y="476280"/>
            <a:ext cx="170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{353942E6-A353-4CB8-ABDA-FCCA357FE5AA}0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4569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141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4598"/>
          <p:cNvPicPr/>
          <p:nvPr/>
        </p:nvPicPr>
        <p:blipFill>
          <a:blip r:embed="rId3"/>
          <a:stretch/>
        </p:blipFill>
        <p:spPr>
          <a:xfrm>
            <a:off x="0" y="0"/>
            <a:ext cx="385128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19772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园果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00000" y="1052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村种了许多果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0" y="162864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春天，果树开花了。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花开了，苹果花也开了。我们村成了花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0" y="2565360"/>
            <a:ext cx="68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秋天，果子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shó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了。梨熟了，苹果也熟了。我们村成了果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8C6F3CDE241BE8BC885D2056AC27AF5E"/>
          <p:cNvPicPr/>
          <p:nvPr/>
        </p:nvPicPr>
        <p:blipFill>
          <a:blip r:embed="rId4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53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