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2B6-B7DE-45EA-ACDB-9112E784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58D-B058-4A49-8C15-D5080AF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905-3FD4-4E99-9E4D-B2CDC9C9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9FB-D4D1-4A42-AFAA-D32F16FC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1780-62F2-4C30-8934-E74833CA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7A74-B145-4CD6-B7AC-06AEA48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EFCB-E8CC-49BE-9F38-6EDE9AF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13C0-CD76-4E4D-B138-D7593C33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A48A-DA30-4C80-95CF-D9005AA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5F6F-A311-4B52-B990-93E84F0A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B29B-C88E-4301-BDFA-58A2F94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070-4560-4042-8083-2EEAA7D4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7FE8-190D-456E-813C-95E3E84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A828-31C8-4F3C-8CC7-1601FDF4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AF21-EE88-4EE7-8056-DE4EC2FE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CBF-9975-4378-AF50-9F2043D7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FACA-8678-4FD6-AADF-2BEFFC24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2D5-F74F-446D-A836-2AC2C5D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707-2ED7-4A8F-B72E-2915000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E77-3D8C-49E9-A377-597B92DE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754-F686-4D81-9E29-F87078C6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3F4-CEA8-43C6-A834-1A2C1AB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AC4-4DAE-45EB-AA81-6B6C2AF7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9A6-4688-46B5-9158-02423C5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0FB9-0482-4020-AA79-586B2CB7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7686-2ED7-4B3B-B1AF-D7158CD6F7A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37D0-DEC1-4834-A3E9-0818C52B19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371600" y="1981080"/>
            <a:ext cx="67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语文园地四课件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62120" y="3049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一年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文下册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533520" y="3808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用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143000" y="1600200"/>
            <a:ext cx="5715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丽的夏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精彩的球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口的松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透明的翅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066680" y="1371600"/>
            <a:ext cx="7467840" cy="416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趣的问题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闷热的天气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亮晶晶的眼睛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绿油油的荷叶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69960" y="22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30492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会用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口语交际：续讲故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天，小兔在乡间的小路上散步，两旁的景色可美啦。小松鼠急急忙忙向他走来了。小松鼠为什么急急忙忙呢？向小兔走来是想干什么呢？请同学们帮帮忙，仔细看图，充分发挥自己的想象力，把这个故事续讲完，看谁讲得好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提示：小松鼠可能为了什么事才急急忙忙找小兔？小兔会怎么说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怎样帮助小松鼠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200"/>
          <p:cNvSpPr/>
          <p:nvPr/>
        </p:nvSpPr>
        <p:spPr>
          <a:xfrm>
            <a:off x="914400" y="5486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画一画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学生自由画画，老师巡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先画好的同学放在实物投影仪下让同学们欣赏，评价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组交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评出“小画家”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06E-0100-48C6-97CD-18A763DE47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自己画的画，把这个故事完整的讲给家人或朋友听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通过认字，引导学生发现识字方法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通过读句子，发现多音字；读音不同，意思也不同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引导学生积累好词好句，优秀段篇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口语交际，培养语言表达能力和动手实践能力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1428840" y="24987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9ed3d7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9ed3d7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1440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752480" y="2971800"/>
            <a:ext cx="63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膀  腰   肚   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219320" y="1828800"/>
            <a:ext cx="678168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月字旁的字跟身体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371600" y="28954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趴、蹲、跑、跳、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523880" y="1676520"/>
            <a:ext cx="65534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足字旁的字和脚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127160" y="25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14400" y="3049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200"/>
          <p:cNvSpPr/>
          <p:nvPr/>
        </p:nvSpPr>
        <p:spPr>
          <a:xfrm>
            <a:off x="990720" y="5029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685800" y="3048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睁、眼、睛、眠、睡、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981080" y="1676520"/>
            <a:ext cx="65534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目字旁的字跟眼睛有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2034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3520" y="30492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914400" y="25909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捕、摇、挤、搬、擦、抄、拾、摔、拨、拦、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371600" y="15238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提手旁的字跟手有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46280" y="17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5800" y="2286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我的发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685800" y="685800"/>
            <a:ext cx="8458200" cy="20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形声字规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形声字，分两半。形一半，表意思；声一半，示读音。形旁相同是同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914400" y="609480"/>
            <a:ext cx="7391520" cy="30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会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黑板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作业   收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摔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倒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开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住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摸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200"/>
          <p:cNvSpPr/>
          <p:nvPr/>
        </p:nvSpPr>
        <p:spPr>
          <a:xfrm>
            <a:off x="1143000" y="46483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28600" y="228600"/>
            <a:ext cx="9982080" cy="45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松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一条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的尾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听音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件快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望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窗外的大雨，奶奶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很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609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43400" y="762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219320" y="1752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73392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0948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21932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2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