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C7D-3948-48E1-B699-328F70CC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0E2-7CD7-467D-917A-772B155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B47-7426-4146-B487-756285EC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AF3-E5DB-4A16-A34A-E7128144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2383-81C8-4BF3-A9BD-1643F22C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E77B-33EC-4E00-9465-2689B24A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42B5-B663-4982-AEB9-FC4FFA5B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C869-6FD0-4AE7-8132-85A1A347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C34C-D4AB-441E-8302-FCABB59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F9A4-B624-4C77-9E72-E201593B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9A9A-2EEA-4E4B-BDF4-E543A79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A1F-8291-41C9-A29D-D924977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2A44-1BD0-4091-B94E-CF3803C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8E70-88E3-41AE-8A76-572D8000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3FE6-EB84-46C4-B0A1-0BDECC6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E801-3130-42C2-9C51-9832091C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6D27-2EC9-41A1-AB8D-A30F8D5E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9F0-205A-409B-93FA-3F529DFE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477-1E0B-4470-AC99-B9861452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5D6-7157-4EE6-A75E-EEFD688E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E4F-2D4C-47DE-A154-42C7E2A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6F4-301D-4C9A-916B-C18E8C4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7C5-3D08-4E03-9C79-880DD4B8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D43-9287-4966-9D70-4F81E50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94F9-1C02-46FB-8BE0-6FDF6F70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73D3-ED48-41C7-8CC1-013FFD0244A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3755-DAD3-487E-9D12-FD5A60C95E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39600" y="2570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19200" y="1828800"/>
            <a:ext cx="814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文园地三课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85800" y="3049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人教新课标一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语文下册第三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练习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读说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暖和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欢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外收集自己喜爱的小诗读读背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我们身边的垃圾（口语交际）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调查了解生活垃圾的来源，知道垃圾的产生不可避免，但可以处理好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交际过程中，学会倾听老师、同学的讲话，大胆表述自己的想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画画等，设想垃圾的处理，懂得从小就该爱护环境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互动交流，语言交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2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朋友，告诉你们一个很不幸的消息：地球爷爷生病了，你们知道是谁惹的祸吗？告诉你们是垃圾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们能告诉我垃圾是从哪儿来的吗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什么好办法处理吗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总结活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同学们真能干，你们帮地球爷爷找到了生病的原因，我们就可以帮他治病了。可是，我们的想法只有我们一个班级的人知道，想想怎么才能让大家都行动起来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8147-FE01-439B-9839-9BCD158BBA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延伸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家说服父母处理好垃圾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“金点子”寄给垃圾中转站的叔叔、阿姨，请他们采纳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画、模型等做成宣传品，到街道、社区去宣传，号召大家行动起来当环境卫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教材分析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园地三以三组字“加一加”、“减一减”、“合一合”的规律来识字。另外，以展示台的形式引导同学们懂得从商品包装上或商标上识字，激发大家识字的兴趣，让同学们养成在生活中识字的好习惯。口语交际有两部分内容：一是让同学们就身边的垃圾问题进行交流；二是把想法说说、画画，然后到课外去实践。通过背诵小诗、口语交际，让同学们体会保护环境的重要性，学习、生活、发现并快乐着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200"/>
          <p:cNvSpPr/>
          <p:nvPr/>
        </p:nvSpPr>
        <p:spPr>
          <a:xfrm>
            <a:off x="1066680" y="51814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学习目标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认“字”、“代”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生字 ，培养自主识字的能力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同学交流时，敢于大胆发表自己的见解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道保护环境的重要，自觉保护身边的环境卫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380880" y="2286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62120" y="380880"/>
            <a:ext cx="7772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趣     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赶   方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仿     子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971800" y="6858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加一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304920" y="1522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5280" y="2286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袋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代   活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舌   题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页    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00400" y="1143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减一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304920" y="3049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的新发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33520" y="2438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43000" y="2438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838080" y="3657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048120" y="13716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合一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666880" y="36576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362320" y="2514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禾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029200" y="35053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648320" y="24382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7162920" y="3581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7010280" y="2438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533520" y="380880"/>
            <a:ext cx="7924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我会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写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字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代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表    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舌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头  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页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面    拉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弓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秒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表    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炒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457200" y="304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3520" y="1447920"/>
            <a:ext cx="7924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奇怪   聪明  活泼  冰凉  可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准备   赶快  观看  包围  堆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33520" y="35812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花花绿绿  干干净净  高高兴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895480" y="3808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ABB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重叠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1066680" y="2286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找找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AABB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重叠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5800" y="1295280"/>
            <a:ext cx="7391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来来往往   明明白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欢欢喜喜   认认真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大小小   上上下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漂漂亮亮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200"/>
          <p:cNvSpPr/>
          <p:nvPr/>
        </p:nvSpPr>
        <p:spPr>
          <a:xfrm>
            <a:off x="914400" y="6019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51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9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