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chimes.wav" ContentType="audio/x-wav"/>
  <Override PartName="/ppt/media/cashreg.wav" ContentType="audio/x-wav"/>
  <Override PartName="/ppt/media/image4.jpeg" ContentType="image/jpeg"/>
  <Override PartName="/ppt/media/image3.jpeg" ContentType="image/jpeg"/>
  <Override PartName="/ppt/media/hammer.wav" ContentType="audio/x-wav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CE4-0608-4CA1-A141-C50D86798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3CCA-4C3D-4F08-A191-056C4330E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38C4-25F1-4D6C-B7D4-A60C1B2E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ABA-1239-4A62-BA1B-A6CC962BC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1EF07-700A-485E-80EA-BA21C50A5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BC49F-D879-4C14-8809-D694CCD0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D883F-6BA5-4741-9AC1-ECB733416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269D-80A6-4302-B76E-1B8E79D41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A1569-12E5-48C6-B5CB-90CA8F54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AD2B-F664-440C-B377-B525C8E8E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30888-558C-494B-9A86-A8C9D1E1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B5BC-5542-4C1B-9A7D-5982B527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03A3-5955-45AB-B3C4-F818EFCA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39A6-37AB-4097-9221-1F2CCA7B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6C52-6C1F-4CFC-8405-1B0A54D8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C62FE-A9F2-480E-8D22-7B844971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B515-D908-432A-8193-D1AEC3BF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D73C3-506C-414B-8FC3-2FABAAA48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090B-021C-4E55-8464-835B416C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93B-CEB7-4117-8889-B0A128054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47A6-C1B7-416E-91B9-261DA559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2A5-5E1A-4684-A8E6-2D85B93D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CF83-5DC9-4BC6-A0F5-E658F0E92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0B0C-EC7A-4895-AAC8-218E5BEB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FC9E-0174-43ED-95B9-810300D44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E3EA0-0B5A-4D3D-9A52-31D70B74CF87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DD3DC-AF6B-4F66-AF7D-7C6D71FDF4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audio" Target="../media/chimes.wav"/><Relationship Id="rId18" Type="http://schemas.openxmlformats.org/officeDocument/2006/relationships/audio" Target="../media/cashreg.wav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幼圆"/>
              </a:rPr>
              <a:t>语文园地五课件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幼圆"/>
              </a:rPr>
              <a:t>汉语拼音字母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 B    C    D    E    F   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    I    J    K     L   M    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 P   Q        R    S   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 V    W       X    Y    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685800" y="19051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457200" y="144792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ɑ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   b     c     d    e    f     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380880" y="2590920"/>
            <a:ext cx="944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   i     j      k     l     m    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609480" y="3581280"/>
            <a:ext cx="944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o   p    q       r     s    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609480" y="4648320"/>
            <a:ext cx="944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u   v     w      x    y    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5228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  <a:ea typeface="幼圆"/>
              </a:rPr>
              <a:t>汉语拼音字母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0" y="14475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    B    C    D    E    F   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    I    J    K     L   M    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O   P   Q        R    S    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U   V    W       X    Y    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685800" y="1905120"/>
            <a:ext cx="7924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457200" y="1447920"/>
            <a:ext cx="8839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</a:rPr>
              <a:t>ɑ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    b     c     d    e    f     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380880" y="2590920"/>
            <a:ext cx="944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h   i     j      k     l     m    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609480" y="3581280"/>
            <a:ext cx="944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o   p    q       r     s    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609480" y="4648320"/>
            <a:ext cx="944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Arial"/>
              </a:rPr>
              <a:t>u   v     w      x    y    z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8BB75-1376-4148-A1E2-B7284667688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1920" y="304920"/>
            <a:ext cx="81536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人有两件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51920" y="1295280"/>
            <a:ext cx="541044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人有两件宝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双手和大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双手会做工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大脑会思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用手不用脑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ff"/>
                </a:solidFill>
                <a:latin typeface="Arial"/>
                <a:ea typeface="楷体_GB2312"/>
              </a:rPr>
              <a:t>事情做不好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5029200" y="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1981080" y="35812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幼圆"/>
              </a:rPr>
              <a:t>ī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幼圆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k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4419720" y="1295280"/>
            <a:ext cx="617220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用手不用脑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啥也办不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用手又用脑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才能有创  造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一切创造靠劳动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劳动要用手和脑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4572000" y="18288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h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8"/>
          <p:cNvSpPr/>
          <p:nvPr/>
        </p:nvSpPr>
        <p:spPr>
          <a:xfrm>
            <a:off x="601992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hu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g  z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9"/>
          <p:cNvSpPr/>
          <p:nvPr/>
        </p:nvSpPr>
        <p:spPr>
          <a:xfrm>
            <a:off x="5105520" y="4495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iè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0"/>
          <p:cNvSpPr/>
          <p:nvPr/>
        </p:nvSpPr>
        <p:spPr>
          <a:xfrm>
            <a:off x="6781680" y="441972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 l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11"/>
          <p:cNvSpPr/>
          <p:nvPr/>
        </p:nvSpPr>
        <p:spPr>
          <a:xfrm>
            <a:off x="762120" y="609480"/>
            <a:ext cx="647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040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ɑǐ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                      shò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2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矮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胖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暗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美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忙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闲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新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3124080" y="289548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à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                      ch</a:t>
            </a: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ǒ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971800" y="51055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xi</a:t>
            </a:r>
            <a:r>
              <a:rPr b="1" lang="en-US" sz="4800" spc="-1" strike="noStrike">
                <a:solidFill>
                  <a:srgbClr val="0000ff"/>
                </a:solidFill>
                <a:latin typeface="宋体"/>
              </a:rPr>
              <a:t>á</a:t>
            </a: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n                      ji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6"/>
          <p:cNvGrpSpPr/>
          <p:nvPr/>
        </p:nvGrpSpPr>
        <p:grpSpPr>
          <a:xfrm>
            <a:off x="0" y="0"/>
            <a:ext cx="4343040" cy="990720"/>
            <a:chOff x="0" y="0"/>
            <a:chExt cx="4343040" cy="990720"/>
          </a:xfrm>
        </p:grpSpPr>
        <p:sp>
          <p:nvSpPr>
            <p:cNvPr id="90" name="AutoShape 7"/>
            <p:cNvSpPr/>
            <p:nvPr/>
          </p:nvSpPr>
          <p:spPr>
            <a:xfrm>
              <a:off x="0" y="0"/>
              <a:ext cx="3257280" cy="990720"/>
            </a:xfrm>
            <a:prstGeom prst="cloudCallout">
              <a:avLst>
                <a:gd name="adj1" fmla="val -6250"/>
                <a:gd name="adj2" fmla="val 888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8"/>
            <p:cNvSpPr/>
            <p:nvPr/>
          </p:nvSpPr>
          <p:spPr>
            <a:xfrm>
              <a:off x="339120" y="123480"/>
              <a:ext cx="40039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00ff"/>
                  </a:solidFill>
                  <a:latin typeface="Arial"/>
                  <a:ea typeface="华文彩云"/>
                </a:rPr>
                <a:t>我的发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6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04560" y="8377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         胖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         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忙         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04920" y="838080"/>
            <a:ext cx="8458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矮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胖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暗</a:t>
            </a:r>
            <a:r>
              <a:rPr b="0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美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忙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闲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新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10"/>
          <p:cNvGrpSpPr/>
          <p:nvPr/>
        </p:nvGrpSpPr>
        <p:grpSpPr>
          <a:xfrm>
            <a:off x="5791320" y="0"/>
            <a:ext cx="4571640" cy="1066680"/>
            <a:chOff x="5791320" y="0"/>
            <a:chExt cx="4571640" cy="1066680"/>
          </a:xfrm>
        </p:grpSpPr>
        <p:sp>
          <p:nvSpPr>
            <p:cNvPr id="95" name="AutoShape 9"/>
            <p:cNvSpPr/>
            <p:nvPr/>
          </p:nvSpPr>
          <p:spPr>
            <a:xfrm>
              <a:off x="5791320" y="0"/>
              <a:ext cx="3428640" cy="1066680"/>
            </a:xfrm>
            <a:prstGeom prst="cloudCallout">
              <a:avLst>
                <a:gd name="adj1" fmla="val -6250"/>
                <a:gd name="adj2" fmla="val 888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6148080" y="133200"/>
              <a:ext cx="4214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6600ff"/>
                  </a:solidFill>
                  <a:latin typeface="Arial"/>
                  <a:ea typeface="华文彩云"/>
                </a:rPr>
                <a:t>我的发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3"/>
          <p:cNvSpPr/>
          <p:nvPr/>
        </p:nvSpPr>
        <p:spPr>
          <a:xfrm>
            <a:off x="685800" y="1752480"/>
            <a:ext cx="84582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矮</a:t>
            </a:r>
            <a:r>
              <a:rPr b="0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瘦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暗</a:t>
            </a:r>
            <a:r>
              <a:rPr b="0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闲</a:t>
            </a:r>
            <a:r>
              <a:rPr b="0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8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旧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4"/>
          <p:cNvGrpSpPr/>
          <p:nvPr/>
        </p:nvGrpSpPr>
        <p:grpSpPr>
          <a:xfrm>
            <a:off x="5562720" y="380880"/>
            <a:ext cx="4571640" cy="1067040"/>
            <a:chOff x="5562720" y="380880"/>
            <a:chExt cx="4571640" cy="1067040"/>
          </a:xfrm>
        </p:grpSpPr>
        <p:sp>
          <p:nvSpPr>
            <p:cNvPr id="99" name="AutoShape 5"/>
            <p:cNvSpPr/>
            <p:nvPr/>
          </p:nvSpPr>
          <p:spPr>
            <a:xfrm>
              <a:off x="5562720" y="380880"/>
              <a:ext cx="3428640" cy="1067040"/>
            </a:xfrm>
            <a:prstGeom prst="cloudCallout">
              <a:avLst>
                <a:gd name="adj1" fmla="val -6250"/>
                <a:gd name="adj2" fmla="val 888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6"/>
            <p:cNvSpPr/>
            <p:nvPr/>
          </p:nvSpPr>
          <p:spPr>
            <a:xfrm>
              <a:off x="5919480" y="514080"/>
              <a:ext cx="42148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6600ff"/>
                  </a:solidFill>
                  <a:latin typeface="Arial"/>
                  <a:ea typeface="华文彩云"/>
                </a:rPr>
                <a:t>  </a:t>
              </a:r>
              <a:r>
                <a:rPr b="1" lang="zh-CN" sz="4400" spc="-1" strike="noStrike">
                  <a:solidFill>
                    <a:srgbClr val="6600ff"/>
                  </a:solidFill>
                  <a:latin typeface="Arial"/>
                  <a:ea typeface="华文彩云"/>
                </a:rPr>
                <a:t>我会认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文本框 8200"/>
          <p:cNvSpPr/>
          <p:nvPr/>
        </p:nvSpPr>
        <p:spPr>
          <a:xfrm>
            <a:off x="762120" y="1295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30492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真     笑     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香     远     饱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1371600" y="304920"/>
            <a:ext cx="14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4648320" y="15228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7848720" y="2286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晚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4572000" y="2666880"/>
            <a:ext cx="1447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 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近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1600200" y="26668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4"/>
          <p:cNvSpPr/>
          <p:nvPr/>
        </p:nvSpPr>
        <p:spPr>
          <a:xfrm>
            <a:off x="1600200" y="5029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7924680" y="266688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饿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1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1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1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77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0" dur="770" fill="hold"/>
                                        <p:tgtEl>
                                          <p:spTgt spid="1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4" dur="77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77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770" fill="hold"/>
                                        <p:tgtEl>
                                          <p:spTgt spid="10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77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28600" y="3048120"/>
            <a:ext cx="87631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水   打伞   打电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打鱼   打球   打个问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914400" y="457200"/>
            <a:ext cx="4191120" cy="1143000"/>
          </a:xfrm>
          <a:prstGeom prst="wedgeRoundRectCallout">
            <a:avLst>
              <a:gd name="adj1" fmla="val 5342"/>
              <a:gd name="adj2" fmla="val 7000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45684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  <a:ea typeface="华文彩云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5334120" y="541440"/>
            <a:ext cx="297180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0000"/>
                </a:solidFill>
                <a:latin typeface="Arial"/>
                <a:ea typeface="楷体_GB2312"/>
              </a:rPr>
              <a:t>打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4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6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8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5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3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2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*0.0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h+1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100"/>
                            </p:stCondLst>
                            <p:childTnLst>
                              <p:par>
                                <p:cTn id="197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179280" y="189000"/>
            <a:ext cx="2087640" cy="865080"/>
            <a:chOff x="179280" y="189000"/>
            <a:chExt cx="2087640" cy="865080"/>
          </a:xfrm>
        </p:grpSpPr>
        <p:sp>
          <p:nvSpPr>
            <p:cNvPr id="115" name="AutoShape 3"/>
            <p:cNvSpPr/>
            <p:nvPr/>
          </p:nvSpPr>
          <p:spPr>
            <a:xfrm>
              <a:off x="179280" y="189000"/>
              <a:ext cx="2087640" cy="86508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WordArt 4"/>
            <p:cNvSpPr txBox="1"/>
            <p:nvPr/>
          </p:nvSpPr>
          <p:spPr>
            <a:xfrm>
              <a:off x="292680" y="304920"/>
              <a:ext cx="1866960" cy="62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我会读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</p:grpSp>
      <p:sp>
        <p:nvSpPr>
          <p:cNvPr id="117" name="Text Box 5"/>
          <p:cNvSpPr/>
          <p:nvPr/>
        </p:nvSpPr>
        <p:spPr>
          <a:xfrm>
            <a:off x="503280" y="1268280"/>
            <a:ext cx="864072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b   p   m   f       d   t   n   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   k   h             j   q   x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zh   ch   sh   r   z   c   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         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8200"/>
          <p:cNvSpPr/>
          <p:nvPr/>
        </p:nvSpPr>
        <p:spPr>
          <a:xfrm>
            <a:off x="1295280" y="48006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24000" y="1557360"/>
            <a:ext cx="871200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o   e           i   u   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i   ei   ui     o   ou   ie   üe   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   en   in   un   ü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ng   eng   ing   o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"/>
          <p:cNvGrpSpPr/>
          <p:nvPr/>
        </p:nvGrpSpPr>
        <p:grpSpPr>
          <a:xfrm>
            <a:off x="179280" y="189000"/>
            <a:ext cx="2087640" cy="865080"/>
            <a:chOff x="179280" y="189000"/>
            <a:chExt cx="2087640" cy="865080"/>
          </a:xfrm>
        </p:grpSpPr>
        <p:sp>
          <p:nvSpPr>
            <p:cNvPr id="121" name="AutoShape 4"/>
            <p:cNvSpPr/>
            <p:nvPr/>
          </p:nvSpPr>
          <p:spPr>
            <a:xfrm>
              <a:off x="179280" y="189000"/>
              <a:ext cx="2087640" cy="86508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WordArt 5"/>
            <p:cNvSpPr txBox="1"/>
            <p:nvPr/>
          </p:nvSpPr>
          <p:spPr>
            <a:xfrm>
              <a:off x="292680" y="304920"/>
              <a:ext cx="1866960" cy="62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我会读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</p:grpSp>
      <p:grpSp>
        <p:nvGrpSpPr>
          <p:cNvPr id="123" name="Group 6"/>
          <p:cNvGrpSpPr/>
          <p:nvPr/>
        </p:nvGrpSpPr>
        <p:grpSpPr>
          <a:xfrm>
            <a:off x="395280" y="2781360"/>
            <a:ext cx="360360" cy="502920"/>
            <a:chOff x="395280" y="2781360"/>
            <a:chExt cx="360360" cy="502920"/>
          </a:xfrm>
        </p:grpSpPr>
        <p:sp>
          <p:nvSpPr>
            <p:cNvPr id="124" name="WordArt 7"/>
            <p:cNvSpPr txBox="1"/>
            <p:nvPr/>
          </p:nvSpPr>
          <p:spPr>
            <a:xfrm>
              <a:off x="395280" y="2893320"/>
              <a:ext cx="360360" cy="39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ā</a:t>
              </a:r>
              <a:endPara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125" name="Rectangle 8"/>
            <p:cNvSpPr/>
            <p:nvPr/>
          </p:nvSpPr>
          <p:spPr>
            <a:xfrm>
              <a:off x="395280" y="2781360"/>
              <a:ext cx="299160" cy="167400"/>
            </a:xfrm>
            <a:prstGeom prst="rect">
              <a:avLst/>
            </a:prstGeom>
            <a:solidFill>
              <a:srgbClr val="ff99ff">
                <a:alpha val="99000"/>
              </a:srgbClr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Group 9"/>
          <p:cNvGrpSpPr/>
          <p:nvPr/>
        </p:nvGrpSpPr>
        <p:grpSpPr>
          <a:xfrm>
            <a:off x="3492360" y="2781360"/>
            <a:ext cx="330480" cy="502920"/>
            <a:chOff x="3492360" y="2781360"/>
            <a:chExt cx="330480" cy="502920"/>
          </a:xfrm>
        </p:grpSpPr>
        <p:sp>
          <p:nvSpPr>
            <p:cNvPr id="127" name="WordArt 10"/>
            <p:cNvSpPr txBox="1"/>
            <p:nvPr/>
          </p:nvSpPr>
          <p:spPr>
            <a:xfrm>
              <a:off x="3492360" y="2893320"/>
              <a:ext cx="330480" cy="39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ā</a:t>
              </a:r>
              <a:endPara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128" name="Rectangle 11"/>
            <p:cNvSpPr/>
            <p:nvPr/>
          </p:nvSpPr>
          <p:spPr>
            <a:xfrm>
              <a:off x="3492360" y="2781360"/>
              <a:ext cx="274320" cy="167400"/>
            </a:xfrm>
            <a:prstGeom prst="rect">
              <a:avLst/>
            </a:prstGeom>
            <a:solidFill>
              <a:srgbClr val="ff99ff">
                <a:alpha val="99000"/>
              </a:srgbClr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Group 12"/>
          <p:cNvGrpSpPr/>
          <p:nvPr/>
        </p:nvGrpSpPr>
        <p:grpSpPr>
          <a:xfrm>
            <a:off x="468360" y="1700280"/>
            <a:ext cx="358560" cy="504360"/>
            <a:chOff x="468360" y="1700280"/>
            <a:chExt cx="358560" cy="504360"/>
          </a:xfrm>
        </p:grpSpPr>
        <p:sp>
          <p:nvSpPr>
            <p:cNvPr id="130" name="WordArt 13"/>
            <p:cNvSpPr txBox="1"/>
            <p:nvPr/>
          </p:nvSpPr>
          <p:spPr>
            <a:xfrm>
              <a:off x="468360" y="1812600"/>
              <a:ext cx="358560" cy="392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ā</a:t>
              </a:r>
              <a:endPara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131" name="Rectangle 14"/>
            <p:cNvSpPr/>
            <p:nvPr/>
          </p:nvSpPr>
          <p:spPr>
            <a:xfrm>
              <a:off x="468360" y="1700280"/>
              <a:ext cx="297720" cy="168120"/>
            </a:xfrm>
            <a:prstGeom prst="rect">
              <a:avLst/>
            </a:prstGeom>
            <a:solidFill>
              <a:srgbClr val="ff99ff">
                <a:alpha val="99000"/>
              </a:srgbClr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15"/>
          <p:cNvGrpSpPr/>
          <p:nvPr/>
        </p:nvGrpSpPr>
        <p:grpSpPr>
          <a:xfrm>
            <a:off x="395280" y="4941720"/>
            <a:ext cx="360360" cy="576000"/>
            <a:chOff x="395280" y="4941720"/>
            <a:chExt cx="360360" cy="576000"/>
          </a:xfrm>
        </p:grpSpPr>
        <p:sp>
          <p:nvSpPr>
            <p:cNvPr id="133" name="WordArt 16"/>
            <p:cNvSpPr txBox="1"/>
            <p:nvPr/>
          </p:nvSpPr>
          <p:spPr>
            <a:xfrm>
              <a:off x="395280" y="5070240"/>
              <a:ext cx="360360" cy="447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ā</a:t>
              </a:r>
              <a:endPara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134" name="Rectangle 17"/>
            <p:cNvSpPr/>
            <p:nvPr/>
          </p:nvSpPr>
          <p:spPr>
            <a:xfrm>
              <a:off x="395280" y="4941720"/>
              <a:ext cx="299160" cy="191880"/>
            </a:xfrm>
            <a:prstGeom prst="rect">
              <a:avLst/>
            </a:prstGeom>
            <a:solidFill>
              <a:srgbClr val="ff99ff">
                <a:alpha val="99000"/>
              </a:srgbClr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Group 18"/>
          <p:cNvGrpSpPr/>
          <p:nvPr/>
        </p:nvGrpSpPr>
        <p:grpSpPr>
          <a:xfrm>
            <a:off x="395280" y="3860640"/>
            <a:ext cx="360360" cy="505080"/>
            <a:chOff x="395280" y="3860640"/>
            <a:chExt cx="360360" cy="505080"/>
          </a:xfrm>
        </p:grpSpPr>
        <p:sp>
          <p:nvSpPr>
            <p:cNvPr id="136" name="WordArt 19"/>
            <p:cNvSpPr txBox="1"/>
            <p:nvPr/>
          </p:nvSpPr>
          <p:spPr>
            <a:xfrm>
              <a:off x="395280" y="3973320"/>
              <a:ext cx="360360" cy="39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黑体"/>
                </a:rPr>
                <a:t>ā</a:t>
              </a:r>
              <a:endPara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  <a:ea typeface="黑体"/>
              </a:endParaRPr>
            </a:p>
          </p:txBody>
        </p:sp>
        <p:sp>
          <p:nvSpPr>
            <p:cNvPr id="137" name="Rectangle 20"/>
            <p:cNvSpPr/>
            <p:nvPr/>
          </p:nvSpPr>
          <p:spPr>
            <a:xfrm>
              <a:off x="395280" y="3860640"/>
              <a:ext cx="299160" cy="168120"/>
            </a:xfrm>
            <a:prstGeom prst="rect">
              <a:avLst/>
            </a:prstGeom>
            <a:solidFill>
              <a:srgbClr val="ff99ff">
                <a:alpha val="99000"/>
              </a:srgbClr>
            </a:solidFill>
            <a:ln w="936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2"/>
          <p:cNvGrpSpPr/>
          <p:nvPr/>
        </p:nvGrpSpPr>
        <p:grpSpPr>
          <a:xfrm>
            <a:off x="179280" y="189000"/>
            <a:ext cx="2087640" cy="865080"/>
            <a:chOff x="179280" y="189000"/>
            <a:chExt cx="2087640" cy="865080"/>
          </a:xfrm>
        </p:grpSpPr>
        <p:sp>
          <p:nvSpPr>
            <p:cNvPr id="139" name="AutoShape 3"/>
            <p:cNvSpPr/>
            <p:nvPr/>
          </p:nvSpPr>
          <p:spPr>
            <a:xfrm>
              <a:off x="179280" y="189000"/>
              <a:ext cx="2087640" cy="86508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WordArt 4"/>
            <p:cNvSpPr txBox="1"/>
            <p:nvPr/>
          </p:nvSpPr>
          <p:spPr>
            <a:xfrm>
              <a:off x="292680" y="304920"/>
              <a:ext cx="1866960" cy="626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000000"/>
                    </a:solidFill>
                    <a:round/>
                  </a:ln>
                  <a:solidFill>
                    <a:srgbClr val="000000"/>
                  </a:solidFill>
                  <a:latin typeface="楷体_GB2312"/>
                </a:rPr>
                <a:t>我会读</a:t>
              </a:r>
              <a:endPara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  <a:ea typeface="楷体_GB2312"/>
              </a:endParaRPr>
            </a:p>
          </p:txBody>
        </p:sp>
      </p:grpSp>
      <p:sp>
        <p:nvSpPr>
          <p:cNvPr id="141" name="Text Box 5"/>
          <p:cNvSpPr/>
          <p:nvPr/>
        </p:nvSpPr>
        <p:spPr>
          <a:xfrm>
            <a:off x="250920" y="1700280"/>
            <a:ext cx="871380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zhi   chi   shi   ri   zi   ci   s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i   wu   y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e   yue   yu  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yin   yun   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4211640" y="4437000"/>
            <a:ext cx="36036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黑体"/>
              </a:rPr>
              <a:t>ā</a:t>
            </a:r>
            <a:endParaRPr b="0" lang="en-US" sz="4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4284720" y="4292640"/>
            <a:ext cx="276120" cy="216000"/>
          </a:xfrm>
          <a:prstGeom prst="rect">
            <a:avLst/>
          </a:prstGeom>
          <a:solidFill>
            <a:srgbClr val="ff99ff">
              <a:alpha val="99000"/>
            </a:srgbClr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8200"/>
          <p:cNvSpPr/>
          <p:nvPr/>
        </p:nvSpPr>
        <p:spPr>
          <a:xfrm>
            <a:off x="838080" y="13716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9T02:46:3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20Z</dcterms:modified>
  <cp:revision>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  <property fmtid="{D5CDD505-2E9C-101B-9397-08002B2CF9AE}" pid="3" name="Version">
    <vt:r8>1</vt:r8>
  </property>
</Properties>
</file>