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3C9-4AE3-473E-B360-E743052F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A74-7F72-4EED-B91A-404DB08F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24785-F7EE-4D65-99B6-4B1B5F51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F21E1-E743-4FAE-82AE-D6431524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5884C-ADCE-4C04-95E0-5D8C4360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88560-17E5-41D3-993B-857E4A41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D5880-B895-4025-8CB2-18FA5401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DD7E2-B7C8-41B6-A3C7-1E185641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13EEE-61E5-43ED-8572-33F2E712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5E77B-0228-443D-806F-939C9350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431CF-F41C-473B-9547-71FF2DA5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8969B-7EC3-468A-A367-59CD9B4B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AA7-F75A-4B5F-93CC-076678A7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3410E-97DE-47AD-8E3D-21DEEECB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B3498-AFAC-4E5B-BA80-7CDCE303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BBABA-6687-49D6-8C4D-F9762C52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0DA50-7536-42C2-9A94-EB273043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48614-C2C7-4D10-AFA2-EE09A5A6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F016B-85B1-495E-8C6A-0197678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18809-01A7-411B-9A64-6F0BBAEA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63B9A-310B-4E69-AF9F-C7AB066B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84A1A-9AA2-48F4-9432-1F64B35E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1E997-9A72-4A4F-8E7E-1840F858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F46-732D-4A50-82B0-6B6E636E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224F3-0034-4884-A18C-8D713A8B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2AC66-FB70-4ADF-AFD4-CEBD619E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25A52-7DCC-48AB-8CD3-3EC20C09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BF3E9-B6E9-4DF2-8773-6139064A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25989-C2AC-4F9F-B38B-07D50892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FF169-7F6E-4DF4-870E-C4729FE6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51F1C-C48C-454B-94D2-0F312CAD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6F197-BA23-4E33-88F1-17149E07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D3A5A-C77A-4F59-A368-2CF18C3B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A376D-D18A-4826-A0BE-EAD31B6E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B91E-8F37-4D43-92A6-06F5ADB9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9FC69-5324-4803-9BAA-EC388454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93B11-653F-4977-B74F-E9C50AAD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D91FB-A0E8-40E6-812A-7862CFB3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35014-9773-447F-B84B-92EB4D45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25D13-B40C-4D6A-A548-9EDE6A79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55AF7-84B7-4184-9C3C-6D521282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F4DCA-68A4-46A6-8F8D-7F66AF79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181B3-4A2D-40BC-9E75-F2C3A4A6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BC1E8-A8E3-4AB1-91CD-A541A357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3B8DE-C0FA-4E0A-BEAC-863744E5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939E-216B-4908-912A-3EC6885F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104D3-7105-4887-B8AC-AA5BA02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9D108-BD2B-4D13-9F1E-9B47F9D8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21C34-2028-4A89-8FDD-0308E5EB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E6DAC-5DC3-4CDD-9139-12378AB4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C8BE9-3B11-4898-B826-54422E5C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FC713-D211-4784-A9F3-989D72BE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F7CAA-7A83-48B5-993E-9CADB661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746EC-3D1F-43D9-947C-0449EF15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3FEDC-C88E-4E44-806F-C1186ECE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C5ADC-3E0B-45F9-84DF-0A37BB60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3259-5351-447A-9431-3A3C0458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BA9FD-DE9E-4D34-9E3F-94A234B7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064A9-FBA2-4B7B-9310-958E2E80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4F39A-D654-46FC-BFE3-D5494725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52312-BDDF-4A65-AC72-C12DE9BA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FF911-DAC6-4C8A-BA41-CA4CEEA6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249FD-92AB-4A37-8C87-EE550202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4BC5E-3CE6-47A8-89FC-C0886DF5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C468B-4709-4347-B397-A6790BE4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1CDD1-F646-41B6-B4FE-489A0150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B7EA1-3889-48BD-9623-B51E0E6F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E044-CD7E-424F-AE9C-F3DA99B4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2DC3D-F611-44E6-9E11-E0486AFD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F4FE0-7616-41D9-8656-B47D9EFE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BF50E-3F73-42E6-96BB-FC7A0E4A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83C79-43BC-4F10-88F0-4770012A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6A136-B000-4BEC-9F3E-C54EE36D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BBFE9-FC3D-40BC-82EE-23AB0BA2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640B7-0C2E-418E-9363-C7C06C69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98E51-6BEA-49CA-9860-7D248FB3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01E29F-5FFF-485C-BD47-9DFEB73C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0EDC-2E9E-4DE0-8190-1320671D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8664-056F-4FC8-B437-41A6B14F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59E2-05C5-4D09-99C8-7FAAD9CD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F6F-51A4-4E40-9DC0-D2D89C72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3886-D2B1-4520-A213-BDA61800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256E-1CF6-45C8-9FA4-FAE589CE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111A-9D28-4ED6-A440-8E7C31E8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97C5-5AF6-4038-9C7C-0A1CABA6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93AF-A4B1-4A38-9474-362AAD2C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91F6-A192-4BCF-8911-939BF3F0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FCBEA-8A46-4699-9F36-E7BBEFE9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A909-FDD4-4CE3-B53E-767D9F75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8157-EFBC-48EF-9F41-08CC783F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6E03-4C65-4F4A-B613-EFABB8EF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35E-13F2-45AB-B5DF-9392C192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1DCF8-9FC5-43C3-A34E-9BFDF68E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47CF-C011-4ABB-8A06-40C729F0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D6C77-2BE9-47ED-B50D-5A97A52C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654AD-8FB1-4CC5-9571-68B5C658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8EF8-3054-485E-93CE-DF8A65FD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FA3C-90DD-430E-838C-CB092CA4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9C1C9-03AB-463C-9300-5243BD1E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8DB3-9AAE-4D55-835B-2607767D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AD40E-5ECC-41D5-A8EC-554AC6E0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1723C-635A-418A-9A46-2982C68B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280-B4F3-4800-BE31-EE8318FF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DD96-9E53-451D-B517-47F31643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CAFD7-4458-4604-AA25-3B816CDC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0A845-2975-4B61-BA86-8B4431EB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C7217-305A-4695-BE07-9D019C42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B4FC3-3059-4240-A916-7BD454C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37CD-E2CB-4A31-8451-82E52665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9972-6146-44B1-91A9-4143EC8B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AFC21-DE5B-406E-A1C0-FDDABD84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87FCF-D902-4F6F-A1A8-3B4DA4A7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E8D9C-7616-46DC-AEEF-F53C71AB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EE3-3F10-4FD3-8139-396C9EA2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F6203-8397-44AC-8BED-DA847F38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0D395-BEA3-4228-AAF9-940745DF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9E2DC-F7F8-4735-841F-8E6CD439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67A79-BA1A-4E37-945D-CB1EB96A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0559A-6B52-4844-92C6-7F64E35E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B064B-5A0B-4B30-A12A-CE9E2926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77078-6F97-477C-BB77-A828F0F9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554AA-0E71-4FDA-BCA7-97B4BC5F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72650-2880-4315-AFEC-F6AD9C3B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02A97-51C6-4E08-9AC7-489CF8FD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9E5-8889-4621-B892-F130C49D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381AE-5497-47E6-B44A-86A43C8A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777BE-9E25-4F63-A945-02702167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9CC28-BAD7-44A4-8B86-B5F57565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DD16B-C565-4EA8-A70D-C1EEFC27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C21C6-0F48-49DE-82B9-6766BBF5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AA905-E50E-48C2-A0BE-82CADD8A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EC46D-8AEC-4CFE-8757-CE1A6EA9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6B8CB-B5A5-412E-A702-57E1D4DC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CF01C-AC8D-4E9B-B919-AE2A32BD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15BA-1DFF-4000-A7B3-6701922D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33A-FB54-45F4-AF8A-7E594531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1B5C1-42D8-4EEB-ACD7-BF1A16D9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3C405-9013-41FC-ADB9-FA912D41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5F8EB-4A0A-4EDF-8026-DCD551D4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B2019-3478-46E0-B73E-348D66B5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9372E-67A9-4A44-8FED-D48B76F0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ED971-3C4A-42AF-B117-931EEF60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4E6FF-869C-4D98-A135-6F6F1C36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E1A15-E6F4-457E-A1D6-F00DEEE4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67DE8-1FF1-4D21-A626-3D888359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5AB9A-8A35-4E20-97DA-B0F325E4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72A-6C8F-46FD-8B8C-D1F795F0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759AF-E939-4D86-8724-672D390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37D19-7B84-4783-9CE5-14AD582F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8190E-582C-4DC1-AD13-92BAB0E4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66896-EE09-4FE0-B99D-BF256E10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BD1B1-5057-44C2-8C3F-AF98A089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D14AF-DA69-4342-82A3-5E49D09C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7B80B-718E-415C-B4A0-2BFC910D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43794-D2D4-4FD5-B9BE-C085171F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E26FB-ECBF-42D3-B8A5-BA87D821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323EA-420A-442C-97C5-973A744E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10A-633B-412D-9853-B2F937F0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5CF72-C75C-4561-89CC-666486BD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5B69B-776A-461C-8104-05E5EC3B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D2F55-4BAA-4AE6-8E38-9BAE4FB1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798CB-60F0-4D11-BCDD-E9611D88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085F7-AB86-44C8-A447-1876C621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7485C-5F94-466D-A9C6-BFFC257C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84860-AA0B-4E8C-8DC7-59588FA9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A9EF5-FBE0-4ACC-9B23-D2A7C370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F98B5-8B22-4D0D-B6F0-64029632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1C304-3D5E-4183-A3AA-E14489F4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3142-D447-4DF3-AB75-C96378453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78B8-D347-4CF8-BF98-1228CBFCFB1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800B-3F15-4CB3-855C-5A27B33DF57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FC13-3B06-4603-8D0C-125221EDBB3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08E1-7AB8-4120-AD44-F0B472E5736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94A0-12C0-40F1-9571-547BFBCDBE4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2710-2C3F-4437-A0F5-16CDCAB5525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F286-5C35-4388-89C8-B8E147D797E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AC9F-258D-4FA1-9E5B-68E100F34F5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E519-3805-4BCA-9522-A20F7DE65ED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1612-B926-404D-A001-10738BFCD6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CDE7-78C7-40E4-96E0-3444186077F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AA30-14CA-437B-B7B2-B6420684865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44C1-1128-41C2-B2B4-874788EFD1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92BF-446A-4B3F-98BF-989687624AB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26ED-E616-4525-9DB1-CF0FCBEEFF7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B3BE-E6CD-4CD1-AF6A-2CAA605B22D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29B3-B0DA-4F34-95DC-1E576C0C858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5441-543D-4C8D-86B4-44FC901847C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4656-A01F-45AF-869B-6930C30EB85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2D11-5F0B-4975-95C6-3AD0C77DF2D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1068-7FF9-4B36-A581-34DBF5D0524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70BA-828C-43F7-982D-FCC5DD39B68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31E6-5D0B-458A-A215-0B26B855B69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AAD0-54F1-495B-AE67-C8C2DF0AFD3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1FEE-22B8-4D46-91F7-AB0EBFCF38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组合 1"/>
          <p:cNvGrpSpPr/>
          <p:nvPr/>
        </p:nvGrpSpPr>
        <p:grpSpPr>
          <a:xfrm>
            <a:off x="2590920" y="1523880"/>
            <a:ext cx="4592520" cy="2279880"/>
            <a:chOff x="2590920" y="1523880"/>
            <a:chExt cx="4592520" cy="2279880"/>
          </a:xfrm>
        </p:grpSpPr>
        <p:sp>
          <p:nvSpPr>
            <p:cNvPr id="575" name="矩形 3"/>
            <p:cNvSpPr/>
            <p:nvPr/>
          </p:nvSpPr>
          <p:spPr>
            <a:xfrm>
              <a:off x="3276720" y="2668320"/>
              <a:ext cx="78516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moban/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行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hangye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节日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jieri/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素材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背景图片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beijing/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图表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tubiao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优秀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xiazai/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powerpoint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word/              Excel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excel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资料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ziliao/     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课件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kejian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范文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fanwen/        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试卷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shiti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案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jiaoan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3" descr="I:\免费\鲁果原创\素材天下网 sucaitianxia.com-yuanxiaojie4副本.png"/>
            <p:cNvPicPr/>
            <p:nvPr/>
          </p:nvPicPr>
          <p:blipFill>
            <a:blip r:embed="rId2"/>
            <a:stretch/>
          </p:blipFill>
          <p:spPr>
            <a:xfrm>
              <a:off x="2590920" y="1523880"/>
              <a:ext cx="4592520" cy="227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文本框 15364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5365"/>
          <p:cNvSpPr/>
          <p:nvPr/>
        </p:nvSpPr>
        <p:spPr>
          <a:xfrm>
            <a:off x="3099600" y="12193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元宵节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3DC2-F518-4A92-8863-894A93CEFF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文本框 16385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4:34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27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