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016-5E67-4D6E-A074-EEE2A8A3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D78-D062-406E-81A4-397A6D2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D68-F4AB-4A55-9297-CD1F68CD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B00-5656-45CB-88D4-E01F857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90A-814C-4133-A5E5-5C96AA85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BEC3-7C90-4FFB-9E77-D8B4CDBB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F066-7C16-468B-A189-F10ABD8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503B-560E-4E5B-A68E-35ADEE3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ADD8-9F4D-4534-85C3-53C6EA1B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AE1-0EA9-4BC6-AEB3-0A8D8BFA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D430-A6DD-4ABE-BFDC-E371965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BEF-79C4-4DCC-8935-4DD9A75D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4E3B-C8B9-413E-9770-D600A7A3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ED9F-8CC8-4A0E-A76C-56E41B4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C01C-7E2C-4C49-8614-B67C981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5C5-2656-479F-9386-FBCCF216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F7A0-0717-4FAB-8921-3DE19552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9DA-46B7-42F4-BC9F-7FB7864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8FF-3991-4766-B6DB-0FAA0CA8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47C-14D2-40C5-B41B-28E496C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85D-6EF3-4E3B-BA1B-E248DC6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A27-8A70-4FCB-8ADA-02C2A3D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C72-3218-4FCE-9675-64E0863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672-11CD-46B5-8F7A-28BC95B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8B2-FB9F-4A92-8B30-C205806FC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0F9-C871-450E-A348-64329CAF02C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247-3CA1-4346-BA0E-657F23E0C0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968-3A64-4F9E-8557-A25D537A02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07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4"/>
          <p:cNvSpPr/>
          <p:nvPr/>
        </p:nvSpPr>
        <p:spPr>
          <a:xfrm>
            <a:off x="1550160" y="380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元宵节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5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