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5165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FAF-4A95-4613-B3F8-28994A4C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E6F-7A8E-4019-9592-F6AA3B22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E8ED7-37B5-4655-8C34-AEFFE3F2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F6098-152A-4F16-A35A-33E0ED62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1DF48-46AB-4349-B9F5-BBFBBB7F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2C2D0-AB68-4B58-BB96-973FAB3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75B05-8D53-469B-83B7-5F115E1A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3F93A-62B0-44BF-B3CC-D507F846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CEF2A-91A3-480F-9E33-D9EAC422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B7AA2-DF8A-40EC-868C-43628748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199DC-C401-4A5A-8DAA-8ACA8C21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74EDF-8B01-4BFC-9851-1472F1EC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62B-7B64-4A96-8FCE-46284871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DBCB9-5D42-416E-BA34-EB539ED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59FE4-CA1E-436D-B53E-1222F39C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9CFD3-729B-4FBD-8687-EE2737FC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9F5FC-A456-400C-98B7-E4B2EA87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3F06D-09B1-438B-9770-B821BABD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6C5A1-56F2-42DF-A0E8-A97F7E1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F5346-F4FE-4447-A0A0-11E37A93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F4FAA-EE84-4B08-BF8B-7510779A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E0175-A065-48F2-A8D1-819C69DC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5501C-AFF4-42A3-BC37-ADCDBEF4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F8B-2A60-404A-AA57-D3135F5F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9AB32-1887-46BD-A5D3-3071F78D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27EA8-7BD0-4F37-9ED0-C139FE52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9105B-C72C-472D-B10C-EE991876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E3AB7-F6DF-467F-B41B-3F060C1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E066B-ABF3-43F6-8622-C94C61F2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45DAB-87DB-41DF-AA81-D160118B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DB7DC-F51A-4844-9F07-45A381D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F079F-7B72-44A5-B4EB-C81B134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7CF45-19E2-48FD-998F-A927FBF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4805C-7B3D-46A7-A1B6-9C5D5DE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8FD3-00AD-453E-8EB7-67438CEF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71967-8744-47F5-A255-3442EE4B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CADF0-5355-4EE2-B607-45E5609D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4FD40-F7E0-41A2-AC1B-7ED45AD7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1EFDD-E841-450C-9DA1-97CF62BD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B32C9-84D0-4DDA-A511-62BBE5D2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CF82B-1B43-4FC0-9026-0F3F065C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960F1-B7A8-4ED6-98F1-942E7E6F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8735A-8CC6-4990-9E79-05C30438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C2137-6966-473D-B2CE-55F9C90D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DEC86-DA70-49A7-B803-53B665D1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61CB-1E20-4406-A437-2D3217A6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C5785-7A65-4FB5-A0C1-C815ABA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3A4C9-8746-4C26-BBCD-D4FC67FB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C2ED0-D127-48A0-8CF3-9936B96D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6DF84-9CC9-49E3-9C8A-84636536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28693-48A3-458C-B5AC-EF578131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9D318-1D4F-4863-8B73-F7F9DAC6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2BEC3-6420-4755-AF66-2B07F4F8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DE1FA-74DF-45EA-A4EB-EE49323A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79E08-BDE8-4A5A-AA41-E56FB8E0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C3FBA-A41A-4BBC-A785-C9839B89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E0B9-0713-4681-95AC-9A7CC57A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DC509-7146-4442-A011-72A0C3B1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6590F-317C-447C-A8A7-BEB1BBD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6D0AF-D1B8-4C72-A8B6-9100E0A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B36E5-1362-4FF7-9EB9-18916B2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1C0A6-8E5D-46D6-A6C8-5CFAC07F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5DD60-794C-4AA2-97FC-777EAB35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6B18C-2D00-4BC4-B290-C0027F4A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E94C-3C8D-4E7B-9C8F-83DA2B2A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4A21-3492-4FA2-A957-32CACAD0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E5C4-98FE-4D29-B070-5A4CCA3B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85B9-1EE5-4BA3-8559-214D909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52E-BAB1-45B9-9702-6D71C66E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200B-9040-4AFE-AE20-A133D9AC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6447-6C1E-4DE5-AE12-E92572BF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051A-BD6F-4A79-B1FD-169556B9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DE8F-84D1-4499-8239-76E37074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C3EE-4E8A-47DD-8FE4-7551269F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DA902-79D5-4D78-8613-CFDD06AC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7225-0EF0-4572-82AB-E5AB3E09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87E7-A876-4AAD-9EAE-3D742E66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3C62-7511-4080-9D70-CFDE015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F0B28-86F6-4C23-AA57-45FA91A3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E6C-BA62-43EF-B6E4-AB79FED6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BC25-D82F-4777-AA5F-E31F18A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BF38-68C6-45E9-B610-E56371EE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A3D0-D0A7-46AA-B7C0-B7C13974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4124-88E7-418B-8FDE-4ACD8820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D1BF-4057-4474-90F1-15E234D0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1395-3B74-4E01-A2AF-0091BA6A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7D87-8515-44D8-B4D4-5976B22E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BF96-BDDF-465D-BB48-8CD63F2A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FC6B-A168-4AC8-9649-AF18E11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F101-9122-4009-AF96-B4E735A6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511-3C15-48B8-B338-FCACDD3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8EA7A-31D4-4A12-8469-CAD51C05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0F12-46A7-4377-94EC-B50592A7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CFA5E-0B2C-4A48-A70C-94F99FD3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1372-25F3-4357-BD75-BEF939B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1125-07A0-4DC0-9379-CF12F8D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35CA-A3B2-4562-8276-C39B50D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D367-DD60-4F09-820D-F94C5211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C6DE2-0790-4B9B-B9BC-59055106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B5AA-39F5-4420-BDA0-67697579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7F2D0-A227-4941-9246-2860D2E4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E86-B9A3-4B0F-B080-919E1866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54682-72B2-4243-82C0-74ADAC97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FC62C-5540-4CF1-938F-A3D80E38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7F2CD-3221-41CB-9339-64FAFDA5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92FB9-B4B2-42E6-A369-D942E34F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4C0C2-F4FF-4E9B-832D-57FA4739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B32D6-B643-4AFD-A9CF-1A87CEBC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4B76-D9CC-4A04-AF87-C8BF7D7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A14F-6C31-43EB-8504-844162A3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A895-F606-46AD-B334-5080E7B3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C2E7-5474-4FE9-84EF-F1B2568F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DA6-C9B1-4CFD-95CA-2C1E3EC0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0CD35-5192-4FB5-A84F-B169BFD5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760BC-D19A-41B5-AF6E-20EBE99D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66202-803F-4D37-B1A4-4AF981B5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8A38F-CF2E-435B-B40F-CD0CF15F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F19A1-B928-4E8D-A8E4-341FB7D1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CF238-119E-4AA0-AA43-501910C9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C3D0A-274A-4AA0-9958-C557EAE5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BD688-1EC8-4664-98C2-CD544341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B699E-DED6-4815-AF82-A0CFE0E8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DE3AA-59D3-4AB1-865C-92DC3ADC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BD5-0CB4-45BA-AD62-E71A405F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A8AB2-3029-4961-A4E7-C9C6CA7A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4025-2E5E-4AFC-9059-D5CC9B23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F4143-BF8B-4E67-B960-D9C04208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4120-3839-484A-818E-1F462B6D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9A7B2-D01D-45B0-9C7C-B790D41F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FDD3C-8CA3-448C-9068-0EF5E742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A2D73-F319-4DF0-B831-153F57FE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A36D8-DDFA-413B-BE9B-D0F00D19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B439D-ABC2-4185-A9A1-11CE05A6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BE7D-AC73-423B-BFBB-E4AF254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A07-B8B1-4314-A393-626BBE68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CC6F3-C0E5-4D4F-9773-1508B949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C9F7-FF4D-4F42-B25A-974A9744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52F9-01D8-4871-A042-802ADB31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49A38-7642-4965-BCDC-DCE20F6C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F31D6-F255-4CB1-B401-4A950152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1A2E-0819-4459-BA4D-358DA106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EBC21-D3BC-4EBC-9804-28C7C8C1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AE8A6-055C-4471-95DF-90A87C17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035E-052B-41D5-8AA2-0FDFE7DF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E855F-C0DD-4578-95B4-89CDEF1E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7C1-3323-489B-8372-2786BF0F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C94E8-5D22-48A7-8A83-F63FEDFD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713B1-4D28-4C75-BC91-E343779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4160B-37E9-46C7-8CBE-FC1E2E65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577DE-E329-4B4D-AED6-57F542E0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4A5D4-4D37-489B-91FF-D281A2B1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F4592-B46F-469C-8A68-902FCBF3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8DC2F-051B-4610-87D0-EB34BAA9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545EA-61C8-46F6-AB09-CEAFEE5B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C5B59-675C-4383-9153-9F6436EC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4BA14-BF32-4A41-A784-18CEF6C5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04840"/>
            <a:ext cx="2133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04840"/>
            <a:ext cx="28958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04840"/>
            <a:ext cx="2133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1950-43D2-4358-9565-63F60B89E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0DD9-9C81-4EBF-8B7C-B1F33021A00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EC52-1116-4DA2-A1DC-D8778FDDE0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BB90-6645-4EC1-9DDF-5AE943DF3B9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BF5B-46EE-438E-9010-0934BF304B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64CA-73B0-46B5-A5AF-5D574468331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AB22-622D-423B-A8D8-9820B446B2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EFB2-B95B-4C5A-A60C-9270FE90B3C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9C90-AE5C-4D21-A637-D4A28AD27D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FED5-8B6F-457A-B5D9-AA0743EB372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4CCE-BCB6-4EE4-8AE3-93E45CD596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E6A6-2776-49ED-A94F-CBCE7BE4AA5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FD4C-BC89-4EFA-B53E-32B64D3959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52B0-CBCA-48FE-9E64-564ABF8B0A3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C3A5-EA97-4870-84A7-5D2FC3408DE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AFBA-4ECC-443E-9469-584BE34293A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BB5C-8E43-433B-B5B6-B0A4859430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E4A5-BCDF-4F13-A4EC-D0908AE704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5BA-8665-4831-BAF2-B9F9E55C5E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55BC-8321-40AF-B485-F38D788511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99F5-A6DB-4844-B281-081DE6E86C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7CD1-59CE-486A-8292-21AB04467DD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4CFC-EC4D-4056-B407-447762C032B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8FB-E76B-4E08-AAE9-D55E1E1654A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37EE-6941-4080-9EDE-A86BBDE0D0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14337"/>
          <p:cNvSpPr/>
          <p:nvPr/>
        </p:nvSpPr>
        <p:spPr>
          <a:xfrm>
            <a:off x="108000" y="4672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4338"/>
          <p:cNvSpPr/>
          <p:nvPr/>
        </p:nvSpPr>
        <p:spPr>
          <a:xfrm>
            <a:off x="2696400" y="1863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永远的丰碑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C99-8E59-4C33-9D6C-2E3DDB6BDB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文本框 1536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13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