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5EC-DFDE-4F5C-BE04-72CFDEE1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30F-3755-4182-9364-32A4D7D8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DDF-82AB-45AE-9791-E5814B3B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63D-CA68-49B3-B570-D225A2F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63E-06C3-49A6-B6B1-6CDB6C8B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C39-7FD2-40B5-88EB-66D11F7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816-8A61-4AB0-9C78-24C9FDA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5AD6-028D-48C6-BC3E-D8A4335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A44-F068-4E6F-9AA0-F7FA6BD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7693-7B82-4704-93C2-06E8AB67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AFA0-327F-4540-BEF7-FB85111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002-5666-43BE-A54B-E1D1ECC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BA1D-84A5-4108-A63C-74D0056C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E146-4E9E-48DE-86CA-8E79643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99E0-DA9B-42CF-BF68-586EE792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DB48-5558-4E31-A8F7-93515F5A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6221-974E-49E3-8715-B1B10644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052-33EB-4ED0-B5D4-D853FC43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5CC-35BE-4296-931F-F950C79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7D7-4CDA-492A-B797-B749DC2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D99-C564-4BBF-9B58-DB22E561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AC9-9578-44AE-835F-141C7E6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A37-9361-4FD7-9226-5F25ADD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07E-D46F-4C35-8941-8F1F18B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DA7-D6D6-450F-B50F-71644D7A32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301-3F37-4446-AA06-37CD603274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311C-25B9-422D-9750-90E7131F9B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 rot="1764600">
            <a:off x="-3308400" y="30272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 rot="1764600">
            <a:off x="-12600" y="-25538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7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85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  <a:ea typeface="宋体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0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88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  <a:ea typeface="宋体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2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91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  <a:ea typeface="宋体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09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091"/>
          <p:cNvSpPr/>
          <p:nvPr/>
        </p:nvSpPr>
        <p:spPr>
          <a:xfrm>
            <a:off x="4035240" y="414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炫彩英文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2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31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2"/>
          <p:cNvSpPr/>
          <p:nvPr/>
        </p:nvSpPr>
        <p:spPr>
          <a:xfrm>
            <a:off x="292104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3"/>
          <p:cNvSpPr/>
          <p:nvPr/>
        </p:nvSpPr>
        <p:spPr>
          <a:xfrm>
            <a:off x="461628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4"/>
          <p:cNvSpPr/>
          <p:nvPr/>
        </p:nvSpPr>
        <p:spPr>
          <a:xfrm>
            <a:off x="62928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79344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26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130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9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4201-6123-4DE2-8578-4408599F7A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  <a:ea typeface="宋体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3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