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2F13-0BF8-49DB-8BAE-024A98A5F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6184-12C3-4B79-8CBE-B12435CA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136C-23ED-4330-8E1A-DDF01D543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D4B1-F8E5-445F-A77E-D6AE0FA50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4FA3-65E8-491D-9D18-CED6B484F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C38E-A05A-47BF-96E6-B7DC6D57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F4B2-97EE-4494-987C-736DCC40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E1E4-FFD5-4A96-AECD-03DAB0DF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BA08-72AE-4BF9-8870-04C6ADDB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2081-18F3-49B3-B880-B4707E7E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DE63-71DA-4566-B315-8B2086D0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15BA-453A-4133-8F53-7DED3D88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933B-0256-4FC4-A567-DD24DEB1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5245-60A1-4E32-A9FB-2BC3C77A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5B25-5D6A-4888-9F1E-5C007B38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CBA2-0301-40F0-BFBF-E4E8A24B7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8E8F-B94B-4E1C-BA64-C53905C5E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8607-398F-4836-BA72-9ADBE958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58DF-64E1-4334-BD1E-6539E828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326B-ADC6-4EED-8CB8-06FE1C6A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0AC4-CD10-474E-9867-28B24E34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0D04-8FED-40AE-A4CC-435985FD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760C-14EC-4D26-B322-E5EAD49F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9208-7A9E-40B1-92B4-86508C0B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5C1B-72CA-4120-A2E1-A1490E69C48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618D-8870-4651-97DE-88AC2DEAA87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A26A-1A9A-4835-A926-5E7F954433D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B7C9-074F-4AC8-8C1E-9E71F35D441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image" Target="../media/image6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3.png"/><Relationship Id="rId19" Type="http://schemas.openxmlformats.org/officeDocument/2006/relationships/image" Target="../media/image5.png"/><Relationship Id="rId20" Type="http://schemas.openxmlformats.org/officeDocument/2006/relationships/image" Target="../media/image4.png"/><Relationship Id="rId21" Type="http://schemas.openxmlformats.org/officeDocument/2006/relationships/image" Target="../media/image3.png"/><Relationship Id="rId22" Type="http://schemas.openxmlformats.org/officeDocument/2006/relationships/image" Target="../media/image6.png"/><Relationship Id="rId23" Type="http://schemas.openxmlformats.org/officeDocument/2006/relationships/image" Target="../media/image5.png"/><Relationship Id="rId24" Type="http://schemas.openxmlformats.org/officeDocument/2006/relationships/image" Target="../media/image4.png"/><Relationship Id="rId25" Type="http://schemas.openxmlformats.org/officeDocument/2006/relationships/image" Target="../media/image3.png"/><Relationship Id="rId26" Type="http://schemas.openxmlformats.org/officeDocument/2006/relationships/image" Target="../media/image6.png"/><Relationship Id="rId2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hyperlink" Target="http://www.1ppt.com/moban/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hyperlink" Target="http://www.1ppt.com/moban/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3.png"/>
          <p:cNvPicPr/>
          <p:nvPr/>
        </p:nvPicPr>
        <p:blipFill>
          <a:blip r:embed="rId1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" descr="32.png"/>
          <p:cNvPicPr/>
          <p:nvPr/>
        </p:nvPicPr>
        <p:blipFill>
          <a:blip r:embed="rId2"/>
          <a:stretch/>
        </p:blipFill>
        <p:spPr>
          <a:xfrm>
            <a:off x="3684600" y="1171440"/>
            <a:ext cx="1789200" cy="27910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2" descr="25.png"/>
          <p:cNvPicPr/>
          <p:nvPr/>
        </p:nvPicPr>
        <p:blipFill>
          <a:blip r:embed="rId3"/>
          <a:stretch/>
        </p:blipFill>
        <p:spPr>
          <a:xfrm>
            <a:off x="2149560" y="155520"/>
            <a:ext cx="4844880" cy="4832280"/>
          </a:xfrm>
          <a:prstGeom prst="rect">
            <a:avLst/>
          </a:prstGeom>
          <a:ln w="0">
            <a:noFill/>
          </a:ln>
        </p:spPr>
      </p:pic>
      <p:pic>
        <p:nvPicPr>
          <p:cNvPr id="85" name="图片 3" descr="26.png"/>
          <p:cNvPicPr/>
          <p:nvPr/>
        </p:nvPicPr>
        <p:blipFill>
          <a:blip r:embed="rId4"/>
          <a:stretch/>
        </p:blipFill>
        <p:spPr>
          <a:xfrm>
            <a:off x="3071880" y="1071720"/>
            <a:ext cx="3000240" cy="3000240"/>
          </a:xfrm>
          <a:prstGeom prst="rect">
            <a:avLst/>
          </a:prstGeom>
          <a:ln w="0">
            <a:noFill/>
          </a:ln>
        </p:spPr>
      </p:pic>
      <p:pic>
        <p:nvPicPr>
          <p:cNvPr id="86" name="图片 4" descr="28.png"/>
          <p:cNvPicPr/>
          <p:nvPr/>
        </p:nvPicPr>
        <p:blipFill>
          <a:blip r:embed="rId5"/>
          <a:stretch/>
        </p:blipFill>
        <p:spPr>
          <a:xfrm>
            <a:off x="3643200" y="1643040"/>
            <a:ext cx="1857600" cy="1857240"/>
          </a:xfrm>
          <a:prstGeom prst="rect">
            <a:avLst/>
          </a:prstGeom>
          <a:ln w="0">
            <a:noFill/>
          </a:ln>
        </p:spPr>
      </p:pic>
      <p:pic>
        <p:nvPicPr>
          <p:cNvPr id="87" name="图片 5" descr="30.png"/>
          <p:cNvPicPr/>
          <p:nvPr/>
        </p:nvPicPr>
        <p:blipFill>
          <a:blip r:embed="rId6"/>
          <a:stretch/>
        </p:blipFill>
        <p:spPr>
          <a:xfrm>
            <a:off x="3786120" y="1785960"/>
            <a:ext cx="1571760" cy="157176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3079"/>
          <p:cNvSpPr/>
          <p:nvPr/>
        </p:nvSpPr>
        <p:spPr>
          <a:xfrm>
            <a:off x="142920" y="47037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3080"/>
          <p:cNvSpPr/>
          <p:nvPr/>
        </p:nvSpPr>
        <p:spPr>
          <a:xfrm>
            <a:off x="2759760" y="16812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竹动画新年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14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mph" presetID="8" repeatCount="4000">
                                  <p:stCondLst>
                                    <p:cond delay="1400"/>
                                  </p:stCondLst>
                                  <p:childTnLst>
                                    <p:animRot by="21600000">
                                      <p:cBhvr>
                                        <p:cTn id="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12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mph" presetID="8" repeatCount="3000">
                                  <p:stCondLst>
                                    <p:cond delay="1200"/>
                                  </p:stCondLst>
                                  <p:childTnLst>
                                    <p:animRot by="-21599939">
                                      <p:cBhvr>
                                        <p:cTn id="1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mph" presetID="8" repeatCount="3000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mph" presetID="8" repeatCount="3000">
                                  <p:stCondLst>
                                    <p:cond delay="800"/>
                                  </p:stCondLst>
                                  <p:childTnLst>
                                    <p:animRot by="-21599939"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xit" presetID="23" presetSubtype="32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xit" presetID="23" presetSubtype="32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xit" presetID="23" presetSubtype="32">
                                  <p:stCondLst>
                                    <p:cond delay="3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3" presetSubtype="16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xit" presetID="23" presetSubtype="16">
                                  <p:stCondLst>
                                    <p:cond delay="6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mph" presetID="6">
                                  <p:stCondLst>
                                    <p:cond delay="660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0">
                                  <p:stCondLst>
                                    <p:cond delay="66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xit" presetID="10">
                                  <p:stCondLst>
                                    <p:cond delay="6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6" descr="3.png"/>
          <p:cNvPicPr/>
          <p:nvPr/>
        </p:nvPicPr>
        <p:blipFill>
          <a:blip r:embed="rId1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pic>
        <p:nvPicPr>
          <p:cNvPr id="91" name="图片 4" descr="4.png"/>
          <p:cNvPicPr/>
          <p:nvPr/>
        </p:nvPicPr>
        <p:blipFill>
          <a:blip r:embed="rId2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pic>
        <p:nvPicPr>
          <p:cNvPr id="92" name="图片 2" descr="25.png"/>
          <p:cNvPicPr/>
          <p:nvPr/>
        </p:nvPicPr>
        <p:blipFill>
          <a:blip r:embed="rId3"/>
          <a:stretch/>
        </p:blipFill>
        <p:spPr>
          <a:xfrm>
            <a:off x="0" y="-2146320"/>
            <a:ext cx="2152800" cy="2146320"/>
          </a:xfrm>
          <a:prstGeom prst="rect">
            <a:avLst/>
          </a:prstGeom>
          <a:ln w="0">
            <a:noFill/>
          </a:ln>
        </p:spPr>
      </p:pic>
      <p:pic>
        <p:nvPicPr>
          <p:cNvPr id="93" name="图片 3" descr="26.png"/>
          <p:cNvPicPr/>
          <p:nvPr/>
        </p:nvPicPr>
        <p:blipFill>
          <a:blip r:embed="rId4"/>
          <a:stretch/>
        </p:blipFill>
        <p:spPr>
          <a:xfrm>
            <a:off x="2462040" y="-2109960"/>
            <a:ext cx="2109960" cy="21099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4" descr="28.png"/>
          <p:cNvPicPr/>
          <p:nvPr/>
        </p:nvPicPr>
        <p:blipFill>
          <a:blip r:embed="rId5"/>
          <a:stretch/>
        </p:blipFill>
        <p:spPr>
          <a:xfrm>
            <a:off x="4572000" y="-20574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95" name="图片 5" descr="30.png"/>
          <p:cNvPicPr/>
          <p:nvPr/>
        </p:nvPicPr>
        <p:blipFill>
          <a:blip r:embed="rId6"/>
          <a:stretch/>
        </p:blipFill>
        <p:spPr>
          <a:xfrm>
            <a:off x="6362640" y="-24382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96" name="图片 8" descr="26.png"/>
          <p:cNvPicPr/>
          <p:nvPr/>
        </p:nvPicPr>
        <p:blipFill>
          <a:blip r:embed="rId7"/>
          <a:stretch/>
        </p:blipFill>
        <p:spPr>
          <a:xfrm>
            <a:off x="9144000" y="-2109960"/>
            <a:ext cx="2109960" cy="2109960"/>
          </a:xfrm>
          <a:prstGeom prst="rect">
            <a:avLst/>
          </a:prstGeom>
          <a:ln w="0">
            <a:noFill/>
          </a:ln>
        </p:spPr>
      </p:pic>
      <p:pic>
        <p:nvPicPr>
          <p:cNvPr id="97" name="图片 9" descr="28.png"/>
          <p:cNvPicPr/>
          <p:nvPr/>
        </p:nvPicPr>
        <p:blipFill>
          <a:blip r:embed="rId8"/>
          <a:stretch/>
        </p:blipFill>
        <p:spPr>
          <a:xfrm>
            <a:off x="9144000" y="-4572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98" name="图片 11" descr="25.png"/>
          <p:cNvPicPr/>
          <p:nvPr/>
        </p:nvPicPr>
        <p:blipFill>
          <a:blip r:embed="rId9"/>
          <a:stretch/>
        </p:blipFill>
        <p:spPr>
          <a:xfrm>
            <a:off x="9144000" y="1498680"/>
            <a:ext cx="2152800" cy="2146320"/>
          </a:xfrm>
          <a:prstGeom prst="rect">
            <a:avLst/>
          </a:prstGeom>
          <a:ln w="0">
            <a:noFill/>
          </a:ln>
        </p:spPr>
      </p:pic>
      <p:pic>
        <p:nvPicPr>
          <p:cNvPr id="99" name="图片 12" descr="26.png"/>
          <p:cNvPicPr/>
          <p:nvPr/>
        </p:nvPicPr>
        <p:blipFill>
          <a:blip r:embed="rId10"/>
          <a:stretch/>
        </p:blipFill>
        <p:spPr>
          <a:xfrm>
            <a:off x="9144000" y="4087800"/>
            <a:ext cx="2109960" cy="211140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3" descr="28.png"/>
          <p:cNvPicPr/>
          <p:nvPr/>
        </p:nvPicPr>
        <p:blipFill>
          <a:blip r:embed="rId11"/>
          <a:stretch/>
        </p:blipFill>
        <p:spPr>
          <a:xfrm>
            <a:off x="7810560" y="542916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4" descr="30.png"/>
          <p:cNvPicPr/>
          <p:nvPr/>
        </p:nvPicPr>
        <p:blipFill>
          <a:blip r:embed="rId12"/>
          <a:stretch/>
        </p:blipFill>
        <p:spPr>
          <a:xfrm>
            <a:off x="5162400" y="51436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5" descr="25.png"/>
          <p:cNvPicPr/>
          <p:nvPr/>
        </p:nvPicPr>
        <p:blipFill>
          <a:blip r:embed="rId13"/>
          <a:stretch/>
        </p:blipFill>
        <p:spPr>
          <a:xfrm>
            <a:off x="2419200" y="5143680"/>
            <a:ext cx="2152800" cy="214596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6" descr="26.png"/>
          <p:cNvPicPr/>
          <p:nvPr/>
        </p:nvPicPr>
        <p:blipFill>
          <a:blip r:embed="rId14"/>
          <a:stretch/>
        </p:blipFill>
        <p:spPr>
          <a:xfrm>
            <a:off x="-2571840" y="5143680"/>
            <a:ext cx="2109960" cy="210960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18" descr="30.png"/>
          <p:cNvPicPr/>
          <p:nvPr/>
        </p:nvPicPr>
        <p:blipFill>
          <a:blip r:embed="rId15"/>
          <a:stretch/>
        </p:blipFill>
        <p:spPr>
          <a:xfrm>
            <a:off x="-723960" y="51436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19" descr="28.png"/>
          <p:cNvPicPr/>
          <p:nvPr/>
        </p:nvPicPr>
        <p:blipFill>
          <a:blip r:embed="rId16"/>
          <a:stretch/>
        </p:blipFill>
        <p:spPr>
          <a:xfrm>
            <a:off x="-2057400" y="-1028880"/>
            <a:ext cx="2057400" cy="205776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20" descr="30.png"/>
          <p:cNvPicPr/>
          <p:nvPr/>
        </p:nvPicPr>
        <p:blipFill>
          <a:blip r:embed="rId17"/>
          <a:stretch/>
        </p:blipFill>
        <p:spPr>
          <a:xfrm>
            <a:off x="-2743200" y="6667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21" descr="25.png"/>
          <p:cNvPicPr/>
          <p:nvPr/>
        </p:nvPicPr>
        <p:blipFill>
          <a:blip r:embed="rId18"/>
          <a:stretch/>
        </p:blipFill>
        <p:spPr>
          <a:xfrm>
            <a:off x="-2381400" y="2711520"/>
            <a:ext cx="2152800" cy="214632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22" descr="28.png"/>
          <p:cNvPicPr/>
          <p:nvPr/>
        </p:nvPicPr>
        <p:blipFill>
          <a:blip r:embed="rId19"/>
          <a:stretch/>
        </p:blipFill>
        <p:spPr>
          <a:xfrm>
            <a:off x="3543480" y="154296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23" descr="26.png"/>
          <p:cNvPicPr/>
          <p:nvPr/>
        </p:nvPicPr>
        <p:blipFill>
          <a:blip r:embed="rId20"/>
          <a:stretch/>
        </p:blipFill>
        <p:spPr>
          <a:xfrm>
            <a:off x="3516480" y="1515960"/>
            <a:ext cx="2111040" cy="211140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24" descr="25.png"/>
          <p:cNvPicPr/>
          <p:nvPr/>
        </p:nvPicPr>
        <p:blipFill>
          <a:blip r:embed="rId21"/>
          <a:stretch/>
        </p:blipFill>
        <p:spPr>
          <a:xfrm>
            <a:off x="3495600" y="1498680"/>
            <a:ext cx="2152800" cy="214632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25" descr="30.png"/>
          <p:cNvPicPr/>
          <p:nvPr/>
        </p:nvPicPr>
        <p:blipFill>
          <a:blip r:embed="rId22"/>
          <a:stretch/>
        </p:blipFill>
        <p:spPr>
          <a:xfrm>
            <a:off x="3200400" y="120024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34" descr="28.png"/>
          <p:cNvPicPr/>
          <p:nvPr/>
        </p:nvPicPr>
        <p:blipFill>
          <a:blip r:embed="rId23"/>
          <a:stretch/>
        </p:blipFill>
        <p:spPr>
          <a:xfrm>
            <a:off x="3543480" y="154296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35" descr="26.png"/>
          <p:cNvPicPr/>
          <p:nvPr/>
        </p:nvPicPr>
        <p:blipFill>
          <a:blip r:embed="rId24"/>
          <a:stretch/>
        </p:blipFill>
        <p:spPr>
          <a:xfrm>
            <a:off x="3516480" y="1515960"/>
            <a:ext cx="2111040" cy="211140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36" descr="25.png"/>
          <p:cNvPicPr/>
          <p:nvPr/>
        </p:nvPicPr>
        <p:blipFill>
          <a:blip r:embed="rId25"/>
          <a:stretch/>
        </p:blipFill>
        <p:spPr>
          <a:xfrm>
            <a:off x="3495600" y="1498680"/>
            <a:ext cx="2152800" cy="214632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37" descr="30.png"/>
          <p:cNvPicPr/>
          <p:nvPr/>
        </p:nvPicPr>
        <p:blipFill>
          <a:blip r:embed="rId26"/>
          <a:stretch/>
        </p:blipFill>
        <p:spPr>
          <a:xfrm>
            <a:off x="3200400" y="120024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4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4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4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4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4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4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xit" presetID="23" presetSubtype="54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4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4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4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xit" presetID="23" presetSubtype="54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4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4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xit" presetID="23" presetSubtype="54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4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4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xit" presetID="23" presetSubtype="54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4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4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xit" presetID="23" presetSubtype="544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4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4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xit" presetID="23" presetSubtype="54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4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xit" presetID="23" presetSubtype="544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4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4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xit" presetID="23" presetSubtype="54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4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xit" presetID="23" presetSubtype="544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4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xit" presetID="23" presetSubtype="544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4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4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xit" presetID="23" presetSubtype="54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4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4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900"/>
                            </p:stCondLst>
                            <p:childTnLst>
                              <p:par>
                                <p:cTn id="15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9688 0.88333 E">
                                      <p:cBhvr>
                                        <p:cTn id="159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L -0.5375 0.90556 E">
                                      <p:cBhvr>
                                        <p:cTn id="169" dur="1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xit" presetID="23" presetSubtype="3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 0 L -0.39375 0.93333 E">
                                      <p:cBhvr>
                                        <p:cTn id="179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xit" presetID="23" presetSubtype="3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 0 L -0.26562 1.01667 E">
                                      <p:cBhvr>
                                        <p:cTn id="189" dur="1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xit" presetID="23" presetSubtype="32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 0 L -0.69688 0.88333 E">
                                      <p:cBhvr>
                                        <p:cTn id="199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xit" presetID="23" presetSubtype="32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 0 L -0.5375 0.90556 E">
                                      <p:cBhvr>
                                        <p:cTn id="209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xit" presetID="23" presetSubtype="32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 0 L -0.43437 0.9 E">
                                      <p:cBhvr>
                                        <p:cTn id="219" dur="1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xit" presetID="23" presetSubtype="32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 0 L -0.32187 0.95556 E">
                                      <p:cBhvr>
                                        <p:cTn id="229" dur="1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xit" presetID="23" presetSubtype="32">
                                  <p:stCondLst>
                                    <p:cond delay="1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4" descr="4.png"/>
          <p:cNvPicPr/>
          <p:nvPr/>
        </p:nvPicPr>
        <p:blipFill>
          <a:blip r:embed="rId1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5" descr="6.png"/>
          <p:cNvPicPr/>
          <p:nvPr/>
        </p:nvPicPr>
        <p:blipFill>
          <a:blip r:embed="rId2"/>
          <a:srcRect l="0" t="0" r="-2133" b="0"/>
          <a:stretch/>
        </p:blipFill>
        <p:spPr>
          <a:xfrm>
            <a:off x="6286680" y="0"/>
            <a:ext cx="4929120" cy="514368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4" descr="2.png"/>
          <p:cNvPicPr/>
          <p:nvPr/>
        </p:nvPicPr>
        <p:blipFill>
          <a:blip r:embed="rId3"/>
          <a:srcRect l="0" t="0" r="56936" b="23833"/>
          <a:stretch/>
        </p:blipFill>
        <p:spPr>
          <a:xfrm>
            <a:off x="3243240" y="1521000"/>
            <a:ext cx="919080" cy="928440"/>
          </a:xfrm>
          <a:prstGeom prst="rect">
            <a:avLst/>
          </a:prstGeom>
          <a:ln w="0">
            <a:noFill/>
          </a:ln>
        </p:spPr>
      </p:pic>
      <p:grpSp>
        <p:nvGrpSpPr>
          <p:cNvPr id="119" name="组合 11"/>
          <p:cNvGrpSpPr/>
          <p:nvPr/>
        </p:nvGrpSpPr>
        <p:grpSpPr>
          <a:xfrm>
            <a:off x="4141800" y="1500120"/>
            <a:ext cx="1500120" cy="989280"/>
            <a:chOff x="4141800" y="1500120"/>
            <a:chExt cx="1500120" cy="989280"/>
          </a:xfrm>
        </p:grpSpPr>
        <p:pic>
          <p:nvPicPr>
            <p:cNvPr id="120" name="图片 4" descr="2.png"/>
            <p:cNvPicPr/>
            <p:nvPr/>
          </p:nvPicPr>
          <p:blipFill>
            <a:blip r:embed="rId4"/>
            <a:srcRect l="43081" t="0" r="-10024" b="70732"/>
            <a:stretch/>
          </p:blipFill>
          <p:spPr>
            <a:xfrm>
              <a:off x="4213080" y="1500120"/>
              <a:ext cx="142884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Box 7"/>
            <p:cNvSpPr/>
            <p:nvPr/>
          </p:nvSpPr>
          <p:spPr>
            <a:xfrm>
              <a:off x="4141800" y="1785960"/>
              <a:ext cx="1428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534741"/>
                  </a:solidFill>
                  <a:latin typeface="方正华隶简体"/>
                  <a:ea typeface="方正华隶简体"/>
                </a:rPr>
                <a:t>新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8"/>
          <p:cNvSpPr/>
          <p:nvPr/>
        </p:nvSpPr>
        <p:spPr>
          <a:xfrm>
            <a:off x="3294000" y="2368440"/>
            <a:ext cx="2143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34741"/>
                </a:solidFill>
                <a:latin typeface="方正华隶简体"/>
                <a:ea typeface="方正华隶简体"/>
              </a:rPr>
              <a:t>2011</a:t>
            </a:r>
            <a:r>
              <a:rPr b="0" lang="zh-CN" sz="1900" spc="-1" strike="noStrike">
                <a:solidFill>
                  <a:srgbClr val="534741"/>
                </a:solidFill>
                <a:latin typeface="方正华隶简体"/>
                <a:ea typeface="方正华隶简体"/>
              </a:rPr>
              <a:t>辛卯年</a:t>
            </a:r>
            <a:r>
              <a:rPr b="0" lang="en-US" sz="1900" spc="-1" strike="noStrike">
                <a:solidFill>
                  <a:srgbClr val="534741"/>
                </a:solidFill>
                <a:latin typeface="方正华隶简体"/>
                <a:ea typeface="方正华隶简体"/>
              </a:rPr>
              <a:t>(</a:t>
            </a:r>
            <a:r>
              <a:rPr b="0" lang="zh-CN" sz="1900" spc="-1" strike="noStrike">
                <a:solidFill>
                  <a:srgbClr val="534741"/>
                </a:solidFill>
                <a:latin typeface="方正华隶简体"/>
                <a:ea typeface="方正华隶简体"/>
              </a:rPr>
              <a:t>兔年</a:t>
            </a:r>
            <a:r>
              <a:rPr b="0" lang="en-US" sz="1900" spc="-1" strike="noStrike">
                <a:solidFill>
                  <a:srgbClr val="534741"/>
                </a:solidFill>
                <a:latin typeface="方正华隶简体"/>
                <a:ea typeface="方正华隶简体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174600" y="4827600"/>
            <a:ext cx="2200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</a:t>
            </a:r>
            <a:r>
              <a:rPr b="0" lang="en-US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网 </a:t>
            </a:r>
            <a:r>
              <a:rPr b="0" lang="en-US" sz="8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moban/</a:t>
            </a:r>
            <a:r>
              <a:rPr b="0" lang="en-US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512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dur="indefinite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4" descr="4.png"/>
          <p:cNvPicPr/>
          <p:nvPr/>
        </p:nvPicPr>
        <p:blipFill>
          <a:blip r:embed="rId1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5" descr="6.png"/>
          <p:cNvPicPr/>
          <p:nvPr/>
        </p:nvPicPr>
        <p:blipFill>
          <a:blip r:embed="rId2"/>
          <a:srcRect l="0" t="0" r="-2133" b="0"/>
          <a:stretch/>
        </p:blipFill>
        <p:spPr>
          <a:xfrm>
            <a:off x="6286680" y="0"/>
            <a:ext cx="492912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27" name="组合 11"/>
          <p:cNvGrpSpPr/>
          <p:nvPr/>
        </p:nvGrpSpPr>
        <p:grpSpPr>
          <a:xfrm>
            <a:off x="3243240" y="1500120"/>
            <a:ext cx="2398680" cy="1251000"/>
            <a:chOff x="3243240" y="1500120"/>
            <a:chExt cx="2398680" cy="1251000"/>
          </a:xfrm>
        </p:grpSpPr>
        <p:pic>
          <p:nvPicPr>
            <p:cNvPr id="128" name="图片 4" descr="2.png"/>
            <p:cNvPicPr/>
            <p:nvPr/>
          </p:nvPicPr>
          <p:blipFill>
            <a:blip r:embed="rId3"/>
            <a:srcRect l="0" t="0" r="56936" b="23833"/>
            <a:stretch/>
          </p:blipFill>
          <p:spPr>
            <a:xfrm>
              <a:off x="3243240" y="1519920"/>
              <a:ext cx="918720" cy="929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9" name="组合 11"/>
            <p:cNvGrpSpPr/>
            <p:nvPr/>
          </p:nvGrpSpPr>
          <p:grpSpPr>
            <a:xfrm>
              <a:off x="4142160" y="1500120"/>
              <a:ext cx="1499760" cy="989280"/>
              <a:chOff x="4142160" y="1500120"/>
              <a:chExt cx="1499760" cy="989280"/>
            </a:xfrm>
          </p:grpSpPr>
          <p:pic>
            <p:nvPicPr>
              <p:cNvPr id="130" name="图片 4" descr="2.png"/>
              <p:cNvPicPr/>
              <p:nvPr/>
            </p:nvPicPr>
            <p:blipFill>
              <a:blip r:embed="rId4"/>
              <a:srcRect l="43081" t="0" r="-10024" b="70732"/>
              <a:stretch/>
            </p:blipFill>
            <p:spPr>
              <a:xfrm>
                <a:off x="4213440" y="1500120"/>
                <a:ext cx="1428480" cy="35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TextBox 7"/>
              <p:cNvSpPr/>
              <p:nvPr/>
            </p:nvSpPr>
            <p:spPr>
              <a:xfrm>
                <a:off x="4142160" y="1785960"/>
                <a:ext cx="1428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534741"/>
                    </a:solidFill>
                    <a:latin typeface="方正华隶简体"/>
                    <a:ea typeface="方正华隶简体"/>
                  </a:rPr>
                  <a:t>新年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TextBox 8"/>
            <p:cNvSpPr/>
            <p:nvPr/>
          </p:nvSpPr>
          <p:spPr>
            <a:xfrm>
              <a:off x="3293640" y="2367720"/>
              <a:ext cx="21427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534741"/>
                  </a:solidFill>
                  <a:latin typeface="方正华隶简体"/>
                  <a:ea typeface="方正华隶简体"/>
                </a:rPr>
                <a:t>2011</a:t>
              </a:r>
              <a:r>
                <a:rPr b="0" lang="zh-CN" sz="1900" spc="-1" strike="noStrike">
                  <a:solidFill>
                    <a:srgbClr val="534741"/>
                  </a:solidFill>
                  <a:latin typeface="方正华隶简体"/>
                  <a:ea typeface="方正华隶简体"/>
                </a:rPr>
                <a:t>辛卯年</a:t>
              </a:r>
              <a:r>
                <a:rPr b="0" lang="en-US" sz="1900" spc="-1" strike="noStrike">
                  <a:solidFill>
                    <a:srgbClr val="534741"/>
                  </a:solidFill>
                  <a:latin typeface="方正华隶简体"/>
                  <a:ea typeface="方正华隶简体"/>
                </a:rPr>
                <a:t>(</a:t>
              </a:r>
              <a:r>
                <a:rPr b="0" lang="zh-CN" sz="1900" spc="-1" strike="noStrike">
                  <a:solidFill>
                    <a:srgbClr val="534741"/>
                  </a:solidFill>
                  <a:latin typeface="方正华隶简体"/>
                  <a:ea typeface="方正华隶简体"/>
                </a:rPr>
                <a:t>兔年</a:t>
              </a:r>
              <a:r>
                <a:rPr b="0" lang="en-US" sz="1900" spc="-1" strike="noStrike">
                  <a:solidFill>
                    <a:srgbClr val="534741"/>
                  </a:solidFill>
                  <a:latin typeface="方正华隶简体"/>
                  <a:ea typeface="方正华隶简体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图片 4" descr="7.png"/>
          <p:cNvPicPr/>
          <p:nvPr/>
        </p:nvPicPr>
        <p:blipFill>
          <a:blip r:embed="rId5"/>
          <a:stretch/>
        </p:blipFill>
        <p:spPr>
          <a:xfrm>
            <a:off x="7139160" y="2717640"/>
            <a:ext cx="2004840" cy="242604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3"/>
          <p:cNvSpPr/>
          <p:nvPr/>
        </p:nvSpPr>
        <p:spPr>
          <a:xfrm>
            <a:off x="2035080" y="1714680"/>
            <a:ext cx="50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10" descr="8.png"/>
          <p:cNvPicPr/>
          <p:nvPr/>
        </p:nvPicPr>
        <p:blipFill>
          <a:blip r:embed="rId6"/>
          <a:stretch/>
        </p:blipFill>
        <p:spPr>
          <a:xfrm>
            <a:off x="1357200" y="2247840"/>
            <a:ext cx="596880" cy="64764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11" descr="9.png"/>
          <p:cNvPicPr/>
          <p:nvPr/>
        </p:nvPicPr>
        <p:blipFill>
          <a:blip r:embed="rId7"/>
          <a:stretch/>
        </p:blipFill>
        <p:spPr>
          <a:xfrm>
            <a:off x="7000920" y="1428840"/>
            <a:ext cx="542880" cy="53640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5" descr="2.png"/>
          <p:cNvPicPr/>
          <p:nvPr/>
        </p:nvPicPr>
        <p:blipFill>
          <a:blip r:embed="rId8"/>
          <a:stretch/>
        </p:blipFill>
        <p:spPr>
          <a:xfrm>
            <a:off x="7991640" y="214200"/>
            <a:ext cx="10000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6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9133E-006 L 0.46268 -0.32922 E">
                                      <p:cBhvr>
                                        <p:cTn id="271" dur="1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6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800"/>
                            </p:stCondLst>
                            <p:childTnLst>
                              <p:par>
                                <p:cTn id="28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800"/>
                            </p:stCondLst>
                            <p:childTnLst>
                              <p:par>
                                <p:cTn id="286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FBD7-06A2-4963-9E0A-5BF5DFF40F3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4" descr="4.png"/>
          <p:cNvPicPr/>
          <p:nvPr/>
        </p:nvPicPr>
        <p:blipFill>
          <a:blip r:embed="rId1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6" descr="2.png"/>
          <p:cNvPicPr/>
          <p:nvPr/>
        </p:nvPicPr>
        <p:blipFill>
          <a:blip r:embed="rId2"/>
          <a:stretch/>
        </p:blipFill>
        <p:spPr>
          <a:xfrm>
            <a:off x="3286080" y="1352520"/>
            <a:ext cx="21337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144" name="组合 9"/>
          <p:cNvGrpSpPr/>
          <p:nvPr/>
        </p:nvGrpSpPr>
        <p:grpSpPr>
          <a:xfrm>
            <a:off x="3429000" y="1357200"/>
            <a:ext cx="2643120" cy="1203480"/>
            <a:chOff x="3429000" y="1357200"/>
            <a:chExt cx="2643120" cy="1203480"/>
          </a:xfrm>
        </p:grpSpPr>
        <p:sp>
          <p:nvSpPr>
            <p:cNvPr id="145" name="TextBox 7"/>
            <p:cNvSpPr/>
            <p:nvPr/>
          </p:nvSpPr>
          <p:spPr>
            <a:xfrm>
              <a:off x="3465360" y="1857240"/>
              <a:ext cx="221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7f7f7f"/>
                  </a:solidFill>
                  <a:latin typeface="Calibri"/>
                </a:rPr>
                <a:t>THANKS!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8"/>
            <p:cNvSpPr/>
            <p:nvPr/>
          </p:nvSpPr>
          <p:spPr>
            <a:xfrm>
              <a:off x="3429000" y="1357200"/>
              <a:ext cx="2643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7f7f7f"/>
                  </a:solidFill>
                  <a:latin typeface="方正华隶简体"/>
                  <a:ea typeface="方正华隶简体"/>
                </a:rPr>
                <a:t>谢谢观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图片 5" descr="6.png"/>
          <p:cNvPicPr/>
          <p:nvPr/>
        </p:nvPicPr>
        <p:blipFill>
          <a:blip r:embed="rId3"/>
          <a:srcRect l="0" t="0" r="-2133" b="0"/>
          <a:stretch/>
        </p:blipFill>
        <p:spPr>
          <a:xfrm>
            <a:off x="6286680" y="0"/>
            <a:ext cx="4929120" cy="5143680"/>
          </a:xfrm>
          <a:prstGeom prst="rect">
            <a:avLst/>
          </a:prstGeom>
          <a:ln w="0">
            <a:noFill/>
          </a:ln>
        </p:spPr>
      </p:pic>
      <p:sp>
        <p:nvSpPr>
          <p:cNvPr id="148" name="TextBox 9"/>
          <p:cNvSpPr/>
          <p:nvPr/>
        </p:nvSpPr>
        <p:spPr>
          <a:xfrm>
            <a:off x="146160" y="4902120"/>
            <a:ext cx="2200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</a:t>
            </a:r>
            <a:r>
              <a:rPr b="0" lang="en-US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网 </a:t>
            </a:r>
            <a:r>
              <a:rPr b="0" lang="en-US" sz="8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moban/</a:t>
            </a:r>
            <a:r>
              <a:rPr b="0" lang="en-US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31T05:44:3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3:49Z</dcterms:modified>
  <cp:revision>4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