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36A-D478-4D83-B1CB-6680626B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C92-8986-4939-98F4-7B602388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32A-482D-4A05-8118-79AC0126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7DA-A8DB-4974-BF99-75F9FC47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434-844D-4033-BA09-40E7D73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365-0206-4B95-B274-16E8103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9DD5-595F-45E0-8A66-B0AF9D2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4D74-EECE-4E05-88E5-C87317A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2625-17B8-40DC-97BA-CA4468D5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371C-544A-4D5C-BF8D-A328427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9B9-ADD1-4EDD-861B-8F7ACCE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BF4-94F9-4F3B-9A99-198A332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1CB4-6833-4AA3-89BB-97F672F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7F52-0E9F-473D-8283-E723A72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437-2936-43C1-BBFD-195AA784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9544-0859-4DC4-A671-8CB98EA1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D52D-5E87-4D87-AC0A-104E8310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E483-D812-447B-91C5-9DB02E45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0026-27B7-4258-9CF6-20A4DA83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B1FD-F4E4-40CC-B0F6-EBB15B05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99FD-0045-412E-8D42-690C589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110F-E6AE-4810-807B-1468D41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275-68E7-4C0B-BFC1-824BEE3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E11F-42C3-4B4F-A47D-D5299763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372F-669D-4073-8AB8-A9B8CFC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AF3C-3AEA-47DA-8D8C-66237201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2E49-30D1-4E30-ACA0-F71C4D7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1AB9-48F8-4DAA-A0F1-355E727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999C-3E98-4762-826A-BB402CFE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0E50-90BC-4A72-AF84-FFD5F862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DB2-A4FD-41C6-81F5-12F2BA70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9B9-99B3-4E9F-8AB2-72CE4D6D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C7F-3196-4551-BFF7-9C8EF47F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864-92A5-41EB-A913-5B2038F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5C7-502D-4471-B1BB-69314B9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D87-ED07-4EA3-A1B8-9164C14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7D71-0B81-47CD-8E25-F118C2951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D108-6E2D-42F8-B1CF-AC44EA68B2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8C5-F898-41D2-A820-7D1A6D232E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683-0291-40E7-905A-0F3982EAE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3124080"/>
            <a:ext cx="5333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Brush Script MT"/>
              </a:rPr>
              <a:t>A Pie Down Low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09680" y="4495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our Subtitle Goes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图片 2051" descr="grandma_bake_pie_hg_clr"/>
          <p:cNvPicPr/>
          <p:nvPr/>
        </p:nvPicPr>
        <p:blipFill>
          <a:blip r:embed="rId1"/>
          <a:stretch/>
        </p:blipFill>
        <p:spPr>
          <a:xfrm>
            <a:off x="6924600" y="2228760"/>
            <a:ext cx="1685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图片 4099" descr="curious_cardinal_and_pie_lg_clr"/>
          <p:cNvPicPr/>
          <p:nvPr/>
        </p:nvPicPr>
        <p:blipFill>
          <a:blip r:embed="rId1"/>
          <a:stretch/>
        </p:blipFill>
        <p:spPr>
          <a:xfrm>
            <a:off x="7543800" y="5257800"/>
            <a:ext cx="14860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图片 5123" descr="mums_apple_pie_hr"/>
          <p:cNvPicPr/>
          <p:nvPr/>
        </p:nvPicPr>
        <p:blipFill>
          <a:blip r:embed="rId2"/>
          <a:stretch/>
        </p:blipFill>
        <p:spPr>
          <a:xfrm>
            <a:off x="7010280" y="5216400"/>
            <a:ext cx="1600200" cy="11080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8198"/>
          <p:cNvSpPr/>
          <p:nvPr/>
        </p:nvSpPr>
        <p:spPr>
          <a:xfrm>
            <a:off x="1143000" y="2438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B385-C00C-4025-9DB2-8303978E49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5120" y="3276360"/>
            <a:ext cx="533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Brush Script MT"/>
              </a:rPr>
              <a:t>Transitional Page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7:34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