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29A-E6EB-4069-AB6B-BB9E2365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8F6-3628-4F82-8653-90F78C17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AE468-67BE-4ECE-859E-8C604038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2967F-6E49-4A80-83B2-F8393685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0D8E2-669E-46B7-8E3D-3E4B55ED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B8EAF-59C7-4692-86DB-B3E22AA5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FA1F5-D1F3-4753-945A-FF12587D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B352C-90B3-4C31-B944-143731B8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65C6F-8308-4EAC-8FB0-1DD4D0B3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BB5F3-0BFA-400A-BB8C-19A43ECC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853FB-C9AB-45BF-B379-FB27F77D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6F3C2-B08A-4AFE-A696-C7415E7C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136-43A7-4B2A-9D8B-8D46FC5A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A9844-5B7E-43BA-B29B-94B392F4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F62E1-7360-4E72-8A78-AC4B4978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01166-72A1-416A-8EB2-5520AE78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775C1-721B-45C3-9089-21085EEF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9FA63-C8B3-4824-BE8C-7FC00F9D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B6AD3-F38B-4A17-A5FF-39EFA9D2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5B9FA-F2F2-49F3-A9CA-3B4BA0FB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4D040-87C6-4E0C-9546-A5A2008B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6F583-02F8-4E7B-BD79-A39560BC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F7546-26EC-4AB5-B86F-67359C9C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6B4-BB38-4C3F-A356-F84B046F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BF24E-6EB3-4FCC-AF90-5BB06D3A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DCDEA-8357-4D6A-A6D9-D4D333AD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6162C-F35B-44DE-B55D-D4085EEA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F5D80-75D1-4DBC-A664-31560080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1F736-2774-44E0-9EAC-9B61BFB9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DDD47-2538-4AAF-A62E-48AC0448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55EBD-21B8-423C-9A4E-A5CB285B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2E7B4-4BC7-47AB-93E6-206647D7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19711-EA65-4AEC-8750-3A82F771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82E87-C1CE-4427-A2C9-98EA6B3E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3815-B000-4195-8F4B-6DC92779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1E30D-429E-4AA4-B0B9-829FBD1D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3809D-A181-4CE6-BEFD-29CFFF8E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A6733-6DA9-45D4-8F9E-61407C93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4AF89-45D3-4DA6-830A-04199679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5E681-944E-4608-9552-B00195CB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1DC88-38AB-41D9-8B79-FAB044F0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93A77-68BD-44BB-BC05-CC80437B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5DCC2-6D2C-406A-8109-C8F6B79D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C3F28-4080-4822-B286-F406CD8D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66A26-2B49-421B-86B7-DD84E48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FD83-D26A-4AD1-A426-7EF827BC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B4492-1A2A-4ACF-838B-AF8720A0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7E276-3D9F-438A-A1BE-102D5DEE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03016-184C-481F-A8BE-6F84A3DF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48B68-FF81-4765-903A-DE36FBE8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1A4B9-7942-4D2E-8C54-98654062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305B7-999C-455F-BAED-AB6497F1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99421-D5A7-4589-82FC-582AF8A1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84176-938A-424A-AB63-0B438555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5F48B-AAF2-4F0B-BD10-AA2998E2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67418-8A71-47CD-BE1B-B4BBA9BA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5F2A-3FF4-4EA3-814C-C63184D4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C8F92-65C3-48DD-86B1-271386F2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A5DC1-985A-4B7A-AEB3-8706652A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6D264-D7BB-484B-BBD8-3E985BEE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589D2-08FC-497D-9A0F-E6019E3F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2D7CC-EF7D-4405-A2DA-94D6B0C5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72D51-DC75-416A-A882-7893E37F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9DBD8-B8D1-4ECC-8A5A-3FABF713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B90DF-BD72-4D50-8A04-2B6A80B2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087B8-5AAB-4C4A-B84F-A1FFC818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AF6F3-F883-431E-92C6-08963F1E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1A45-C1C1-49C1-9DB0-EA593B5A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D82F9-15C2-4F43-85C7-F0814EA8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E1ED8-8700-42F7-ACD5-243F78AE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8919C-C8C0-4D81-AF15-FDEAC50E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EE687-F070-4997-A9A3-5DF07326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71E04-DF14-4C8D-9889-6916FDFA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96F9B-FA24-4251-81C2-F7246C42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59958-C8FC-481E-96E4-EF62F642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897EE-53C9-439A-8AD7-9F6DFC15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35326-94E2-459A-A74A-CC915289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EB64E-1702-4C4E-88F1-3D75F8D7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40C8-F866-4DCB-A6AE-78B6FADA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67F62C-3D5A-4AE7-AE24-6D19A671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3F021-5406-4E29-A493-F6B1ACF1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89BA0-3D94-43D0-A8CF-7F51828C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ACECF-6F5D-4F71-90CC-77A7641A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7A5D4-EC65-45C2-A4A2-4C303F6A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FEA4C-B064-4DD1-BA05-CC18E573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CEA51-C5DA-4358-972F-23590872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2D101-0E63-40F3-8142-129F16C2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8C55F-A81B-47CE-AF07-78A3B352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0CD4E-87ED-4414-9B56-1602727A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B7DD-A006-4E8D-BAC5-3D915C55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C0A70-7B78-47B7-BFED-9FE0F6C9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6C9E-FDD5-44C3-9868-5B744072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A88-2306-4D82-9806-16712837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86C0-BFC8-42F1-970A-19EDBA8C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846F-6498-42F1-B795-D39DE795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ECFE-8E5A-469E-AB29-6035F59C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92D0-4606-4E3A-AC23-F6A463D4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80BB-A39F-4E0B-BF7C-0EE4B5F1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19C-51FB-4EE5-8BA5-C13C46E2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6272-113D-47CC-A682-287FC7FCFA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8AD8-B3CB-456F-B638-A6299930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54BC-EE6E-4727-8C83-104ED8F9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77D-C8BD-46B9-85D1-8EB2817A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AF46-7CB0-47BB-A153-E0E47CEC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47395-D850-4F15-9E4A-25951A35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22D6A-3D36-43FD-ACD7-14BD9ABE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B158-20FB-45D0-AE27-DA78A83E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0D1D-DA83-4C02-8D62-F4A3405A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1D4C1-BC70-42C5-A2CC-7CB6C6D3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96E7-BB65-4C10-9B2F-87D3A968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E716-B017-4954-9241-B42AB280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0B5F-61E9-4A37-9C22-7F9C6EA1DC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1A87F-8753-4A51-8A61-A22DC18B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315-EFA0-4E00-98C4-D7031724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8010D-F703-42AD-875B-2E32AD4B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D7227-016F-476F-997C-5AC242AC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A557A-AA37-4451-809D-8CCC50A9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0A8EB-1ECF-4384-B023-B1122101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655CD-42D9-4E03-B3DA-E1F77C98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69FCE-CD53-4552-AF0F-6EE7ED81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7F23-AA59-4B81-95DD-A9CDAD4F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A8223-9444-4050-85BC-1B4012D4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F390E-8EEF-4023-9B96-9C43EF0A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C78D4-527A-4404-9938-5BC29F67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225-A29F-46F5-8BBF-537C75B7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6E5F-D5AC-47D0-B1DA-F218F907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1BBA1-5A24-45D2-8E3D-6199951B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4C02A-50BB-463F-ABD4-1B991684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D104C-1EB4-4C23-9C52-9A5E4F87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9B591-6129-4A4D-BBC8-7C98887A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67BB5-3C9D-49AB-B784-0C9D26E3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A8C75-80EE-46CE-B703-66ADA30C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54F17-EAE8-436A-9C92-6F65141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F66F5-A54E-445F-9740-0C9DF8FD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4831D-E314-48EB-840C-BEB0FDF4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C0E-8C92-4BC9-B773-91A9A4A3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A4D71-FC26-4D6D-9195-B11B98FB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5B331-7992-4FBD-BE54-01BCF424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6036B-AAB7-42CD-8348-7BC50D06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09596-BF99-4899-B554-601A06E6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673CA-9C8A-4D66-8140-A5E99FCA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22757-F170-46CE-BB32-ABD4B33D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3EDF7-3E3A-4F91-8A83-E8823FC4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84E12-8889-415B-8E04-5D66CB47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B1908-41C7-4B9D-AE36-06E8E981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1D581-C37E-4F98-A351-7BBD147D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8C1-99A2-40C9-8BC5-A57901EC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48A4F-4847-43BB-9FF8-2F16F1E9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A5E9C-6D24-4D6C-AC61-593DF607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D31DB-7FD6-4195-A133-52825892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27A6E-5FEC-4D89-A462-6E779D67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AB87D-E0CF-4331-9DB9-D5DD7889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34B4C-B2DF-4CAC-A639-1FA633AF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DBE5D-A5F1-47CD-828A-2BCE0B4C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AF283-A2F7-4499-A15B-ABB8D7D3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A8C2B-CE17-41D8-9DBC-D8497E72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25CEA-3C18-4435-833B-B8C79664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84F-1A13-4BCC-8F89-A4B37281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755280" y="404640"/>
            <a:ext cx="777708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618FA-BB5C-4C40-A2BF-832E9716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D4BB7-9F8D-4A47-A1B5-0489989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69D74-005F-4E82-A4AE-95510E2F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8CDFA-C21F-404C-BA96-202B835E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14C16-6E24-4A75-9C9D-46FE78E9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6176E-7C82-4FC6-930A-C789C8A1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3A6B5-AD4A-491F-8A32-CB2167B6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38AA5-D6F4-4431-8F32-C689D20C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A5FA5-BBC4-4FC0-8EE4-966DBABA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383BC-5CF2-461B-9154-CA8A8255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60B8-8DB3-415F-8CEB-B95082D063B8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183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EFDF-6E9E-49C2-A081-97D4080F070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1F52-1134-40FC-8390-EAFB4408C63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D885-25D4-4BC5-911D-1F76675EAED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8810-ACA4-43A9-9580-AC2F04677CC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3203-A2CD-4620-B376-5EF8717D040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F641-1D11-4CDA-850B-63C41D47803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2557-F410-4333-A7BB-8196DD47A78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7515-7DE6-451E-B218-D66A36E60FC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6E29-E6A8-42CF-A4D0-A67F3E746C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4968-6CF1-44D4-9366-F63880F04AB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1641-9B8F-4C09-903D-E6890EDB5C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0C7D-0241-4547-B630-1E7080586C8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AECE-C707-44D8-9C4F-02189C25F1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6765-4207-4BBB-8BA2-B949AC5F779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9329-02AA-4EFA-B120-15F071C7C23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9894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8050-2877-4EC9-870C-273A887D4628}" type="datetime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E2B4-91FF-4B62-9E10-4BFEB78E9895}" type="datetime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3779640" y="6347880"/>
            <a:ext cx="1834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F7FD-F617-499F-9E66-1F90E4EF294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C6A2-78D5-4D2D-8774-057D606932C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2696-563F-492A-801B-0FED2E3BA50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245E-EA63-4B37-877E-4C57E1DE12B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A8F6-8472-412B-B629-DF988809542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EBC1-C22C-4681-9438-8FB5DDA474F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D66D-1256-41F7-ADEA-7440F86250A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9CC2-C66E-425B-BA18-C9FDFB19949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DCF2-983F-4283-B68C-1CBC209D330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2C4D-3FD0-4CA6-B14D-47E47EA9EB6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5E07-622A-48B9-8657-B805795D66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03280" y="2565360"/>
            <a:ext cx="7197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中国风新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2555640" y="4292280"/>
            <a:ext cx="532116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Picture 7" descr="未标题-1"/>
          <p:cNvPicPr/>
          <p:nvPr/>
        </p:nvPicPr>
        <p:blipFill>
          <a:blip r:embed="rId1"/>
          <a:stretch/>
        </p:blipFill>
        <p:spPr>
          <a:xfrm>
            <a:off x="6004080" y="260280"/>
            <a:ext cx="2595240" cy="1567080"/>
          </a:xfrm>
          <a:prstGeom prst="rect">
            <a:avLst/>
          </a:prstGeom>
          <a:ln w="0">
            <a:noFill/>
          </a:ln>
        </p:spPr>
      </p:pic>
      <p:sp>
        <p:nvSpPr>
          <p:cNvPr id="615" name="矩形 6"/>
          <p:cNvSpPr/>
          <p:nvPr/>
        </p:nvSpPr>
        <p:spPr>
          <a:xfrm>
            <a:off x="108000" y="2556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16389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77708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幸福吉祥年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文本框 17410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1DB6-097C-4154-A114-3E60DD9434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410920" y="2997000"/>
            <a:ext cx="6045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MV Boli"/>
                <a:ea typeface="华文隶书"/>
              </a:rPr>
              <a:t>Happy New Year</a:t>
            </a:r>
            <a:br>
              <a:rPr sz="4300"/>
            </a:br>
            <a:r>
              <a:rPr b="1" lang="en-US" sz="4300" spc="-1" strike="noStrike">
                <a:solidFill>
                  <a:srgbClr val="ffffff"/>
                </a:solidFill>
                <a:latin typeface="MV Boli"/>
                <a:ea typeface="华文隶书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V Boli"/>
                <a:ea typeface="华文隶书"/>
              </a:rPr>
              <a:t>O(∩_∩)O~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7" descr="未标题-1"/>
          <p:cNvPicPr/>
          <p:nvPr/>
        </p:nvPicPr>
        <p:blipFill>
          <a:blip r:embed="rId1"/>
          <a:stretch/>
        </p:blipFill>
        <p:spPr>
          <a:xfrm>
            <a:off x="6443640" y="189000"/>
            <a:ext cx="25956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4:28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05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