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D30-FFCD-4F34-BA92-92E66DD3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34FD-DFBC-4095-9BE9-3B72F1FD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F99-58E8-4148-8D6E-FBFE486F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0695-5DCD-4B53-9D86-436009F1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1E36-F633-4F16-90DF-39057069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9BE8-378A-42F3-8974-D8BF14E7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0A3C-32C0-44B5-AE91-91A2B2AA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8963-FC68-49AC-B6E9-46ACFF86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8761-AAFB-4BB1-9CE8-EA7397CD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EF3D-9C26-493D-BAA2-952D9D1F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6BCC-E7F3-4AC8-B8E5-E7411CF0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AC1-5B36-4D05-9288-16661807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4F53-445A-400B-AB1C-9D30D60E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7F17-FCE9-4343-97AB-7757F089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B055-AC73-47EE-99A5-BD0638C8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9A9F-B50D-4F6C-A0AA-48E3CADA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C790-62AE-462D-AC80-6956673B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2006A-E380-4359-831C-63751E69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3D85-54B2-4FB3-B7B6-A9389289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FA674-9F4B-4E93-A2F7-442C411A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E3883-6C2C-4C42-9C4D-63E24B41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6552-9AD7-4FF6-90D7-B729EF4E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92B-A321-488F-B785-0684C928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E338-13D7-4005-887B-1C1994AF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24BC3-3F99-4B33-AFBE-01AF0B12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AA0B6-45E1-4B3F-9DB3-E3E4575C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6ED13-46EA-4221-A7B4-621BD5EC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2DEB1-2519-4994-A178-A7147722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20C5-E963-428B-B30A-7B429094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517DC-07E4-45DB-B246-CD9D2A16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546E7-7E8D-4ECA-BED5-DDFBC2AB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F4568-5A19-4D3F-94F0-EC025818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1D652-D11B-4E4A-B172-1D99FE68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826-8407-49C0-9BDF-43DED416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3B954-6F83-4AD4-9FC7-AA54AA13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9C3AB-03F8-43E7-8255-5AF45EDD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48EAF-0085-4908-A892-56ED0190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47589-C014-40DE-BAE8-C5EE33AA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42E5D-2A7C-463F-9AB3-E1BDB7EA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ABFD6-4FC7-4F8B-8A98-2CD24EDA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BB821-BAB6-4E1D-94A8-81A21CB6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69F5A-72AC-4D1F-A7C1-808964FC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AA685-737A-4E9F-91C3-E74434CA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AAD-E11C-421A-B71D-46B42CF2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229-206A-4CBE-A0CA-71650185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D64-BF42-419C-AD74-F4D1EDCE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AE3-4F65-43AF-B5C9-2744908D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2EC-72FE-41DF-A79E-854A9013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CFDE-4DC1-49FB-BEAA-B9519015F91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10.png"/>
          <p:cNvPicPr/>
          <p:nvPr/>
        </p:nvPicPr>
        <p:blipFill>
          <a:blip r:embed="rId3"/>
          <a:stretch/>
        </p:blipFill>
        <p:spPr>
          <a:xfrm>
            <a:off x="108000" y="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2A25-A073-4090-A303-F3C35F6C96A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5D94-C4AE-4068-86CA-4A73102836E9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5BAC-8412-4621-8F6D-F324A99EC8E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1A64-3B53-4CDB-B6CD-F1063CFFB8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1D6D-48BC-4460-BCC0-0E9CA8964E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7" descr="10.png"/>
          <p:cNvPicPr/>
          <p:nvPr/>
        </p:nvPicPr>
        <p:blipFill>
          <a:blip r:embed="rId2"/>
          <a:stretch/>
        </p:blipFill>
        <p:spPr>
          <a:xfrm>
            <a:off x="108000" y="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5" descr=""/>
          <p:cNvPicPr/>
          <p:nvPr/>
        </p:nvPicPr>
        <p:blipFill>
          <a:blip r:embed="rId4"/>
          <a:stretch/>
        </p:blipFill>
        <p:spPr>
          <a:xfrm>
            <a:off x="2124000" y="2513160"/>
            <a:ext cx="4708440" cy="12762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6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4575240" cy="3859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9"/>
          <p:cNvSpPr/>
          <p:nvPr/>
        </p:nvSpPr>
        <p:spPr>
          <a:xfrm>
            <a:off x="1853640" y="1775880"/>
            <a:ext cx="1780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钩沉党史之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1853640" y="1775880"/>
            <a:ext cx="1780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钩沉党史之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5215680" y="1775880"/>
            <a:ext cx="1780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追寻辉煌瞬间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5215680" y="1775880"/>
            <a:ext cx="1780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追寻辉煌瞬间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5130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5131"/>
          <p:cNvSpPr/>
          <p:nvPr/>
        </p:nvSpPr>
        <p:spPr>
          <a:xfrm>
            <a:off x="1582560" y="47628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中国红党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动态片头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75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10">
                                  <p:stCondLst>
                                    <p:cond delay="75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23" presetSubtype="16">
                                  <p:stCondLst>
                                    <p:cond delay="75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750"/>
                            </p:stCondLst>
                            <p:childTnLst>
                              <p:par>
                                <p:cTn id="33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">
                                  <p:stCondLst>
                                    <p:cond delay="75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0">
                                  <p:stCondLst>
                                    <p:cond delay="75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23" presetSubtype="16">
                                  <p:stCondLst>
                                    <p:cond delay="75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2:4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03Z</dcterms:modified>
  <cp:revision>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