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407-F2BA-4622-90E7-8BD8BC6A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0AA-61B1-4687-8EE7-57180F85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52E5-C953-482D-80EF-10FE5CA2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3013-A400-4351-8CBC-1F0B8F93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E128-966A-4825-B1FE-D350BD92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071E-FBE4-451E-9276-97EDE09A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E299E-052C-4A84-A07B-D2C8ACC6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5221-CB96-4A5B-897A-45CAC94B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9313-1FAE-4135-94CF-8C870608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2854-DECC-4307-BB83-C561CE2B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AB8C-9E85-4455-88E9-B4C68FBD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09BB-F1B3-4C1D-94FD-4D243E5E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E202-8825-4330-8E15-5236AF5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6213-9FA6-4AFD-807E-B22068E0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8D5F-B7C6-44B3-9886-209DC3B9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F5DB-62AA-45A7-A520-84AA32241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DAD2-00E7-4C2E-9B78-2FBF88DD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6F49-EDA3-4DBB-B901-F9AE9FA7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FF2-495D-4AB7-AE62-14C7982F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43A-B657-4FAE-8B78-A04AEE41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084-01D7-4242-9FF2-3BEF9CBC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2B9-E1A0-4646-8377-B7FCE1A3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B89-B1EA-4E22-9C77-43B7F0C0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1B71-FCCA-4770-8E5D-8BBFE18F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A6FB-891B-4842-82E4-55CDEAC44CA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F125-9538-4397-B8C7-03FBA79C3BB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F347-12F4-4F09-B9F8-72CA35A32F6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五边形 7"/>
          <p:cNvSpPr/>
          <p:nvPr/>
        </p:nvSpPr>
        <p:spPr>
          <a:xfrm>
            <a:off x="0" y="0"/>
            <a:ext cx="8153280" cy="6858000"/>
          </a:xfrm>
          <a:custGeom>
            <a:avLst/>
            <a:gdLst>
              <a:gd name="textAreaLeft" fmla="*/ 0 w 8153280"/>
              <a:gd name="textAreaRight" fmla="*/ 8153640 w 81532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59" y="0"/>
                </a:lnTo>
                <a:lnTo>
                  <a:pt x="21600" y="10800"/>
                </a:lnTo>
                <a:lnTo>
                  <a:pt x="138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任意多边形 8"/>
          <p:cNvSpPr/>
          <p:nvPr/>
        </p:nvSpPr>
        <p:spPr>
          <a:xfrm>
            <a:off x="5078520" y="-12600"/>
            <a:ext cx="7132680" cy="6864120"/>
          </a:xfrm>
          <a:custGeom>
            <a:avLst/>
            <a:gdLst/>
            <a:ahLst/>
            <a:rect l="l" t="t" r="r" b="b"/>
            <a:pathLst>
              <a:path w="7033846" h="6865034">
                <a:moveTo>
                  <a:pt x="7019778" y="0"/>
                </a:moveTo>
                <a:lnTo>
                  <a:pt x="0" y="0"/>
                </a:lnTo>
                <a:lnTo>
                  <a:pt x="2996418" y="3446585"/>
                </a:lnTo>
                <a:lnTo>
                  <a:pt x="0" y="6865034"/>
                </a:lnTo>
                <a:lnTo>
                  <a:pt x="7033846" y="6865034"/>
                </a:lnTo>
                <a:cubicBezTo>
                  <a:pt x="7029157" y="4576689"/>
                  <a:pt x="7024467" y="2288345"/>
                  <a:pt x="7019778" y="0"/>
                </a:cubicBezTo>
                <a:close/>
              </a:path>
            </a:pathLst>
          </a:custGeom>
          <a:solidFill>
            <a:srgbClr val="7f7f7f"/>
          </a:solidFill>
          <a:ln w="1260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4038480" y="633240"/>
            <a:ext cx="3670560" cy="5542200"/>
          </a:xfrm>
          <a:prstGeom prst="rect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黑体"/>
                <a:ea typeface="黑体"/>
              </a:rPr>
              <a:t>简历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4038480" y="633240"/>
            <a:ext cx="3670560" cy="1239840"/>
          </a:xfrm>
          <a:prstGeom prst="rect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我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3"/>
          <p:cNvSpPr/>
          <p:nvPr/>
        </p:nvSpPr>
        <p:spPr>
          <a:xfrm>
            <a:off x="4038480" y="4950000"/>
            <a:ext cx="3670560" cy="1239840"/>
          </a:xfrm>
          <a:prstGeom prst="rect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组合 14"/>
          <p:cNvGrpSpPr/>
          <p:nvPr/>
        </p:nvGrpSpPr>
        <p:grpSpPr>
          <a:xfrm>
            <a:off x="5952240" y="5443200"/>
            <a:ext cx="1594800" cy="337680"/>
            <a:chOff x="5952240" y="5443200"/>
            <a:chExt cx="1594800" cy="337680"/>
          </a:xfrm>
        </p:grpSpPr>
        <p:sp>
          <p:nvSpPr>
            <p:cNvPr id="88" name="椭圆 15"/>
            <p:cNvSpPr/>
            <p:nvPr/>
          </p:nvSpPr>
          <p:spPr>
            <a:xfrm rot="4414800">
              <a:off x="5984280" y="5475240"/>
              <a:ext cx="266760" cy="2667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椭圆 16"/>
            <p:cNvSpPr/>
            <p:nvPr/>
          </p:nvSpPr>
          <p:spPr>
            <a:xfrm rot="4414800">
              <a:off x="6405480" y="5475240"/>
              <a:ext cx="266760" cy="2667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椭圆 17"/>
            <p:cNvSpPr/>
            <p:nvPr/>
          </p:nvSpPr>
          <p:spPr>
            <a:xfrm rot="4414800">
              <a:off x="7247880" y="5481720"/>
              <a:ext cx="266760" cy="2667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18"/>
            <p:cNvSpPr/>
            <p:nvPr/>
          </p:nvSpPr>
          <p:spPr>
            <a:xfrm rot="4414800">
              <a:off x="6826680" y="5481720"/>
              <a:ext cx="266760" cy="266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19"/>
          <p:cNvSpPr/>
          <p:nvPr/>
        </p:nvSpPr>
        <p:spPr>
          <a:xfrm>
            <a:off x="4195800" y="5010120"/>
            <a:ext cx="234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st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308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3085"/>
          <p:cNvSpPr/>
          <p:nvPr/>
        </p:nvSpPr>
        <p:spPr>
          <a:xfrm>
            <a:off x="2941200" y="9360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紫灰搭配简约实用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5"/>
          <p:cNvSpPr/>
          <p:nvPr/>
        </p:nvSpPr>
        <p:spPr>
          <a:xfrm>
            <a:off x="669960" y="2805120"/>
            <a:ext cx="2587680" cy="131292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身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7"/>
          <p:cNvSpPr/>
          <p:nvPr/>
        </p:nvSpPr>
        <p:spPr>
          <a:xfrm>
            <a:off x="3571920" y="3014640"/>
            <a:ext cx="80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是一名大学生，距离毕业还有</a:t>
            </a:r>
            <a:r>
              <a:rPr b="1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年</a:t>
            </a:r>
            <a:r>
              <a:rPr b="1" lang="zh-CN" sz="4000" spc="-1" strike="noStrike">
                <a:solidFill>
                  <a:srgbClr val="7030a0"/>
                </a:solidFill>
                <a:latin typeface="Franklin Gothic Book"/>
                <a:ea typeface="黑体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8"/>
          <p:cNvSpPr/>
          <p:nvPr/>
        </p:nvSpPr>
        <p:spPr>
          <a:xfrm>
            <a:off x="3728880" y="4129200"/>
            <a:ext cx="7743960" cy="1440"/>
          </a:xfrm>
          <a:custGeom>
            <a:avLst/>
            <a:gdLst/>
            <a:ahLst/>
            <a:rect l="l" t="t" r="r" b="b"/>
            <a:pathLst>
              <a:path w="7743825" h="635">
                <a:moveTo>
                  <a:pt x="0" y="0"/>
                </a:moveTo>
                <a:lnTo>
                  <a:pt x="7743825" y="0"/>
                </a:lnTo>
              </a:path>
            </a:pathLst>
          </a:cu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14"/>
          <p:cNvGrpSpPr/>
          <p:nvPr/>
        </p:nvGrpSpPr>
        <p:grpSpPr>
          <a:xfrm>
            <a:off x="767880" y="4447080"/>
            <a:ext cx="2390760" cy="506520"/>
            <a:chOff x="767880" y="4447080"/>
            <a:chExt cx="2390760" cy="506520"/>
          </a:xfrm>
        </p:grpSpPr>
        <p:sp>
          <p:nvSpPr>
            <p:cNvPr id="100" name="椭圆 10"/>
            <p:cNvSpPr/>
            <p:nvPr/>
          </p:nvSpPr>
          <p:spPr>
            <a:xfrm rot="15214800">
              <a:off x="2709720" y="450504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11"/>
            <p:cNvSpPr/>
            <p:nvPr/>
          </p:nvSpPr>
          <p:spPr>
            <a:xfrm rot="15214800">
              <a:off x="2078280" y="450504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椭圆 12"/>
            <p:cNvSpPr/>
            <p:nvPr/>
          </p:nvSpPr>
          <p:spPr>
            <a:xfrm rot="15214800">
              <a:off x="815760" y="449568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13"/>
            <p:cNvSpPr/>
            <p:nvPr/>
          </p:nvSpPr>
          <p:spPr>
            <a:xfrm rot="15214800">
              <a:off x="1446840" y="449568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"/>
          <p:cNvSpPr/>
          <p:nvPr/>
        </p:nvSpPr>
        <p:spPr>
          <a:xfrm>
            <a:off x="768240" y="2793960"/>
            <a:ext cx="2586240" cy="131292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爱好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4"/>
          <p:cNvSpPr/>
          <p:nvPr/>
        </p:nvSpPr>
        <p:spPr>
          <a:xfrm>
            <a:off x="3643200" y="260676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大爱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（毕业就想和她在一起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喜欢摄影摄像，是一名设计屌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5"/>
          <p:cNvSpPr/>
          <p:nvPr/>
        </p:nvSpPr>
        <p:spPr>
          <a:xfrm>
            <a:off x="3728880" y="4129200"/>
            <a:ext cx="6586560" cy="56880"/>
          </a:xfrm>
          <a:custGeom>
            <a:avLst/>
            <a:gdLst/>
            <a:ahLst/>
            <a:rect l="l" t="t" r="r" b="b"/>
            <a:pathLst>
              <a:path w="7743825" h="57150">
                <a:moveTo>
                  <a:pt x="0" y="0"/>
                </a:moveTo>
                <a:lnTo>
                  <a:pt x="7743825" y="0"/>
                </a:lnTo>
              </a:path>
            </a:pathLst>
          </a:cu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1"/>
          <p:cNvGrpSpPr/>
          <p:nvPr/>
        </p:nvGrpSpPr>
        <p:grpSpPr>
          <a:xfrm>
            <a:off x="767880" y="4447080"/>
            <a:ext cx="2390760" cy="506520"/>
            <a:chOff x="767880" y="4447080"/>
            <a:chExt cx="2390760" cy="506520"/>
          </a:xfrm>
        </p:grpSpPr>
        <p:sp>
          <p:nvSpPr>
            <p:cNvPr id="109" name="椭圆 12"/>
            <p:cNvSpPr/>
            <p:nvPr/>
          </p:nvSpPr>
          <p:spPr>
            <a:xfrm rot="15214800">
              <a:off x="2709720" y="450504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3"/>
            <p:cNvSpPr/>
            <p:nvPr/>
          </p:nvSpPr>
          <p:spPr>
            <a:xfrm rot="15214800">
              <a:off x="2078280" y="450504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椭圆 14"/>
            <p:cNvSpPr/>
            <p:nvPr/>
          </p:nvSpPr>
          <p:spPr>
            <a:xfrm rot="15214800">
              <a:off x="815760" y="449568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15"/>
            <p:cNvSpPr/>
            <p:nvPr/>
          </p:nvSpPr>
          <p:spPr>
            <a:xfrm rot="15214800">
              <a:off x="1446840" y="449568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4"/>
          <p:cNvSpPr/>
          <p:nvPr/>
        </p:nvSpPr>
        <p:spPr>
          <a:xfrm>
            <a:off x="1828800" y="3492360"/>
            <a:ext cx="9001080" cy="64260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只能说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"/>
          <p:cNvSpPr/>
          <p:nvPr/>
        </p:nvSpPr>
        <p:spPr>
          <a:xfrm>
            <a:off x="1828800" y="838080"/>
            <a:ext cx="8715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是不是好学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5"/>
          <p:cNvSpPr/>
          <p:nvPr/>
        </p:nvSpPr>
        <p:spPr>
          <a:xfrm rot="1070400">
            <a:off x="9234000" y="532080"/>
            <a:ext cx="1114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  <a:ea typeface="黑体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组合 7"/>
          <p:cNvGrpSpPr/>
          <p:nvPr/>
        </p:nvGrpSpPr>
        <p:grpSpPr>
          <a:xfrm>
            <a:off x="4755600" y="2405880"/>
            <a:ext cx="2388960" cy="506160"/>
            <a:chOff x="4755600" y="2405880"/>
            <a:chExt cx="2388960" cy="506160"/>
          </a:xfrm>
        </p:grpSpPr>
        <p:sp>
          <p:nvSpPr>
            <p:cNvPr id="118" name="椭圆 8"/>
            <p:cNvSpPr/>
            <p:nvPr/>
          </p:nvSpPr>
          <p:spPr>
            <a:xfrm rot="15214800">
              <a:off x="6696000" y="2463480"/>
              <a:ext cx="400320" cy="399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9"/>
            <p:cNvSpPr/>
            <p:nvPr/>
          </p:nvSpPr>
          <p:spPr>
            <a:xfrm rot="15214800">
              <a:off x="6064920" y="2463480"/>
              <a:ext cx="400320" cy="3996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椭圆 10"/>
            <p:cNvSpPr/>
            <p:nvPr/>
          </p:nvSpPr>
          <p:spPr>
            <a:xfrm rot="15214800">
              <a:off x="4803480" y="2454120"/>
              <a:ext cx="400320" cy="3996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11"/>
            <p:cNvSpPr/>
            <p:nvPr/>
          </p:nvSpPr>
          <p:spPr>
            <a:xfrm rot="15214800">
              <a:off x="5434200" y="2454120"/>
              <a:ext cx="400320" cy="39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"/>
          <p:cNvSpPr/>
          <p:nvPr/>
        </p:nvSpPr>
        <p:spPr>
          <a:xfrm>
            <a:off x="1828800" y="3492360"/>
            <a:ext cx="9001080" cy="119124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……………………………………………………………………</a:t>
            </a:r>
            <a:r>
              <a:rPr b="0" lang="en-US" sz="3600" spc="-1" strike="noStrike">
                <a:solidFill>
                  <a:srgbClr val="ffffff"/>
                </a:solidFill>
                <a:latin typeface="Franklin Gothic Book"/>
                <a:ea typeface="Franklin Gothic Book"/>
              </a:rPr>
              <a:t>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1658880" y="83808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只有这些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"/>
          <p:cNvSpPr/>
          <p:nvPr/>
        </p:nvSpPr>
        <p:spPr>
          <a:xfrm rot="1070400">
            <a:off x="9234000" y="532080"/>
            <a:ext cx="1114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7030a0"/>
                </a:solidFill>
                <a:latin typeface="Franklin Gothic Book"/>
                <a:ea typeface="黑体"/>
              </a:rPr>
              <a:t>？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组合 7"/>
          <p:cNvGrpSpPr/>
          <p:nvPr/>
        </p:nvGrpSpPr>
        <p:grpSpPr>
          <a:xfrm>
            <a:off x="4755600" y="2405880"/>
            <a:ext cx="2388960" cy="506160"/>
            <a:chOff x="4755600" y="2405880"/>
            <a:chExt cx="2388960" cy="506160"/>
          </a:xfrm>
        </p:grpSpPr>
        <p:sp>
          <p:nvSpPr>
            <p:cNvPr id="127" name="椭圆 8"/>
            <p:cNvSpPr/>
            <p:nvPr/>
          </p:nvSpPr>
          <p:spPr>
            <a:xfrm rot="15214800">
              <a:off x="6696000" y="2463480"/>
              <a:ext cx="400320" cy="39960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9"/>
            <p:cNvSpPr/>
            <p:nvPr/>
          </p:nvSpPr>
          <p:spPr>
            <a:xfrm rot="15214800">
              <a:off x="6064920" y="2463480"/>
              <a:ext cx="400320" cy="39960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10"/>
            <p:cNvSpPr/>
            <p:nvPr/>
          </p:nvSpPr>
          <p:spPr>
            <a:xfrm rot="15214800">
              <a:off x="4803480" y="2454120"/>
              <a:ext cx="400320" cy="39960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11"/>
            <p:cNvSpPr/>
            <p:nvPr/>
          </p:nvSpPr>
          <p:spPr>
            <a:xfrm rot="15214800">
              <a:off x="5434200" y="2454120"/>
              <a:ext cx="400320" cy="39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7178"/>
          <p:cNvSpPr/>
          <p:nvPr/>
        </p:nvSpPr>
        <p:spPr>
          <a:xfrm>
            <a:off x="1762200" y="3027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2d700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89D4-41A7-4175-83CE-D68ED4D92F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"/>
          <p:cNvSpPr/>
          <p:nvPr/>
        </p:nvSpPr>
        <p:spPr>
          <a:xfrm>
            <a:off x="2479680" y="514440"/>
            <a:ext cx="7429320" cy="1312920"/>
          </a:xfrm>
          <a:prstGeom prst="rect">
            <a:avLst/>
          </a:prstGeom>
          <a:noFill/>
          <a:ln w="38160">
            <a:solidFill>
              <a:srgbClr val="7030a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  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我的</a:t>
            </a:r>
            <a:r>
              <a:rPr b="1" lang="en-US" sz="8000" spc="-1" strike="noStrike">
                <a:solidFill>
                  <a:srgbClr val="7030a0"/>
                </a:solidFill>
                <a:latin typeface="Franklin Gothic Book"/>
                <a:ea typeface="Franklin Gothic Book"/>
              </a:rPr>
              <a:t>P</a:t>
            </a:r>
            <a:r>
              <a:rPr b="1" lang="zh-CN" sz="8000" spc="-1" strike="noStrike">
                <a:solidFill>
                  <a:srgbClr val="ffffff"/>
                </a:solidFill>
                <a:latin typeface="Franklin Gothic Book"/>
                <a:ea typeface="黑体"/>
              </a:rPr>
              <a:t>经历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5"/>
          <p:cNvGrpSpPr/>
          <p:nvPr/>
        </p:nvGrpSpPr>
        <p:grpSpPr>
          <a:xfrm>
            <a:off x="4998600" y="2012040"/>
            <a:ext cx="2390760" cy="506520"/>
            <a:chOff x="4998600" y="2012040"/>
            <a:chExt cx="2390760" cy="506520"/>
          </a:xfrm>
        </p:grpSpPr>
        <p:sp>
          <p:nvSpPr>
            <p:cNvPr id="139" name="椭圆 6"/>
            <p:cNvSpPr/>
            <p:nvPr/>
          </p:nvSpPr>
          <p:spPr>
            <a:xfrm rot="15214800">
              <a:off x="6940440" y="2070000"/>
              <a:ext cx="400320" cy="39996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椭圆 7"/>
            <p:cNvSpPr/>
            <p:nvPr/>
          </p:nvSpPr>
          <p:spPr>
            <a:xfrm rot="15214800">
              <a:off x="6309000" y="2070000"/>
              <a:ext cx="400320" cy="3999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椭圆 8"/>
            <p:cNvSpPr/>
            <p:nvPr/>
          </p:nvSpPr>
          <p:spPr>
            <a:xfrm rot="15214800">
              <a:off x="5046480" y="2060640"/>
              <a:ext cx="400320" cy="3999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椭圆 9"/>
            <p:cNvSpPr/>
            <p:nvPr/>
          </p:nvSpPr>
          <p:spPr>
            <a:xfrm rot="15214800">
              <a:off x="5677560" y="2060640"/>
              <a:ext cx="400320" cy="399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31T08:45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3:55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