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A2D8-21EB-493F-8C04-FED15AF9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30CB-360E-4E60-9569-57A661A9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C556-5DDE-4840-AB70-8D31DD96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25BD-5BBE-4A27-8216-2F7AC5F3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1659-9951-4D9A-A588-51AC3BEC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2164-3BFE-4103-9526-72B41B73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1F29-9987-465E-BBED-AD2D1A4E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7E8C-5D6C-4DB0-B2CD-52B18CA7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421B-88F8-4CCC-AA64-DFA7E3EF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6D9E-384C-4896-B4C2-938C3F6B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9F57-01A8-4EAC-BBB3-2338E495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E25F-6508-493F-8F58-D7F19394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82F8-0D3A-412A-A5FF-13BEEFBF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EB8B-8951-4C2B-BC12-D0D2023C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145E-FBAE-40C4-A592-2C3007C3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4F46-19F6-43A6-B743-37F31EDC2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7F4F-FEBA-43B7-92A1-25E42DC73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E7758-4C73-408E-8519-92B8860FC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A9D22-57BE-4A29-9C6C-B5DC3101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F98B9-AF38-45A2-BEC7-95D37B59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545BA-E971-4758-A554-8235A83C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75C57-806D-4EC2-8D44-CB060E3C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6B21-8981-4780-880E-016BD0A2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AC490-FBD0-4394-B5E6-87949B9E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055FA-C1C0-4E90-8D9C-88F4D73C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4BA8D-C2FB-4783-B697-918DA07B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95E81-0FD5-4E3F-966D-7A4C19C3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42818-4ED1-49E7-942B-8E5B2634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3C9AF-9455-4D74-8ACF-C7AA02DE6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8F8EE-5FD8-4112-A58F-97ACFBA57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C8FE-03F2-4100-BAA1-70E61BFC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3E58-EF8F-4976-93AD-E75F27CF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B2B5-F966-406C-A7A8-846E76E3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495C-4351-4A00-9808-90B3FBEA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C83F-410C-4025-9721-F8DC1A93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41E8-5C7F-4E06-9AB9-57D9E1B4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57A3-588E-4809-AE7E-BF73FD55D2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9628-7C75-4DDC-BE21-4E419889143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43D7-3B83-4D30-B2CC-C0F0ADAF3D5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E31C-546D-4DBB-86D0-0A0F390B743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341440" y="2274840"/>
            <a:ext cx="489456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足球场运动主题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340000" y="3286080"/>
            <a:ext cx="48960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5" name="文本框 409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92000" y="1701720"/>
            <a:ext cx="6769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搜集整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5123"/>
          <p:cNvSpPr/>
          <p:nvPr/>
        </p:nvSpPr>
        <p:spPr>
          <a:xfrm>
            <a:off x="2197080" y="27306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BF56-9559-4955-A071-043FD557CDC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49440" y="2852280"/>
            <a:ext cx="707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ackslash"/>
              </a:rPr>
              <a:t>Thank you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03:51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4:34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