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4403388" cy="71993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DD7-49E4-49AB-8E94-386B88FF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12960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161600"/>
            <a:ext cx="12960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555-4C49-49B6-8D75-50F7EBFC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16160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361280" y="416160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B1E9-9237-4805-AE0A-7BC6C1BA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2640" y="167904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484560" y="167904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16160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02640" y="416160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484560" y="416160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678-4799-4C79-964E-130E1A2C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D5D3-90A5-4E02-BF2B-A24CBC4C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679040"/>
            <a:ext cx="12960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8359-CEF2-472B-8FF9-40F75C70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1296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4B08-E41C-459C-AA28-6C4CAB41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09E1-B5BE-4AEA-829F-81F2DA13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A47C-7772-4A9B-BC5D-7BA9D23E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360" y="288720"/>
            <a:ext cx="1296036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BE6F-33FB-41AD-8714-D471AFCC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16160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B321-1DF5-4DD8-946C-9896B845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679040"/>
            <a:ext cx="12960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AE3C-9FB7-45E4-BB69-A065BD56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361280" y="416160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7173-E025-46F9-96D4-33A1EC38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161600"/>
            <a:ext cx="12960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F336-07C7-4621-83E9-186DDD70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12960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161600"/>
            <a:ext cx="12960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1D65-082D-4FD5-ADE3-361B1197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16160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361280" y="416160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73D2-169E-4C3C-85D6-16782BF3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02640" y="167904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484560" y="167904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16160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102640" y="416160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9484560" y="416160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4C50-C1AD-473B-BDAD-01236EAE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1296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120-0800-4B36-BACC-AB9292BA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750-7A72-42E8-B22C-81B4097E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C78-9FD9-499F-8DBD-A0CD8AA9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288720"/>
            <a:ext cx="1296036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D36D-C741-4DA7-8E38-A3CD89BA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16160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E46-489E-4A4F-8C1D-388E5C52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361280" y="416160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A43-059F-4CB8-BAF5-085ABD2A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161600"/>
            <a:ext cx="12960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9B3-EE49-477C-AB8A-AA700E3E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1679040"/>
            <a:ext cx="1296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360" y="6557760"/>
            <a:ext cx="3359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23000" y="6557760"/>
            <a:ext cx="45590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321560" y="6557760"/>
            <a:ext cx="3359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38B3-D931-4B8B-91A3-98F5F2D7A0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A600-F371-4254-A507-6DE3F940E40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2777-E8B0-42A7-ABC5-CACC6247BC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EF09-3F15-4E97-808E-89D8071981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073" descr="背景"/>
          <p:cNvPicPr/>
          <p:nvPr/>
        </p:nvPicPr>
        <p:blipFill>
          <a:blip r:embed="rId1"/>
          <a:stretch/>
        </p:blipFill>
        <p:spPr>
          <a:xfrm>
            <a:off x="0" y="0"/>
            <a:ext cx="14473080" cy="71992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074" descr="未标题-1 拷贝"/>
          <p:cNvPicPr/>
          <p:nvPr/>
        </p:nvPicPr>
        <p:blipFill>
          <a:blip r:embed="rId2"/>
          <a:stretch/>
        </p:blipFill>
        <p:spPr>
          <a:xfrm>
            <a:off x="0" y="-382680"/>
            <a:ext cx="6170760" cy="39117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3075" descr="月"/>
          <p:cNvPicPr/>
          <p:nvPr/>
        </p:nvPicPr>
        <p:blipFill>
          <a:blip r:embed="rId3"/>
          <a:stretch/>
        </p:blipFill>
        <p:spPr>
          <a:xfrm>
            <a:off x="576360" y="-936720"/>
            <a:ext cx="4248000" cy="37450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3076" descr="飞禽"/>
          <p:cNvPicPr/>
          <p:nvPr/>
        </p:nvPicPr>
        <p:blipFill>
          <a:blip r:embed="rId4"/>
          <a:stretch/>
        </p:blipFill>
        <p:spPr>
          <a:xfrm>
            <a:off x="14905080" y="1152360"/>
            <a:ext cx="3313080" cy="28623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077" descr="枝条"/>
          <p:cNvPicPr/>
          <p:nvPr/>
        </p:nvPicPr>
        <p:blipFill>
          <a:blip r:embed="rId5"/>
          <a:stretch/>
        </p:blipFill>
        <p:spPr>
          <a:xfrm>
            <a:off x="9721800" y="-41400"/>
            <a:ext cx="4896000" cy="30657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3078" descr="星点"/>
          <p:cNvPicPr/>
          <p:nvPr/>
        </p:nvPicPr>
        <p:blipFill>
          <a:blip r:embed="rId6"/>
          <a:stretch/>
        </p:blipFill>
        <p:spPr>
          <a:xfrm>
            <a:off x="4680000" y="2879640"/>
            <a:ext cx="6192720" cy="3932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079" descr="螺旋菌"/>
          <p:cNvPicPr/>
          <p:nvPr/>
        </p:nvPicPr>
        <p:blipFill>
          <a:blip r:embed="rId7"/>
          <a:stretch/>
        </p:blipFill>
        <p:spPr>
          <a:xfrm>
            <a:off x="10441080" y="3600360"/>
            <a:ext cx="4967280" cy="40878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080" descr="飞禽"/>
          <p:cNvPicPr/>
          <p:nvPr/>
        </p:nvPicPr>
        <p:blipFill>
          <a:blip r:embed="rId8"/>
          <a:stretch/>
        </p:blipFill>
        <p:spPr>
          <a:xfrm>
            <a:off x="5545080" y="1655640"/>
            <a:ext cx="1582920" cy="13194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081" descr="音符22 拷贝"/>
          <p:cNvPicPr/>
          <p:nvPr/>
        </p:nvPicPr>
        <p:blipFill>
          <a:blip r:embed="rId9"/>
          <a:stretch/>
        </p:blipFill>
        <p:spPr>
          <a:xfrm>
            <a:off x="11665080" y="1944720"/>
            <a:ext cx="203040" cy="2430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082" descr="美女"/>
          <p:cNvPicPr/>
          <p:nvPr/>
        </p:nvPicPr>
        <p:blipFill>
          <a:blip r:embed="rId10"/>
          <a:stretch/>
        </p:blipFill>
        <p:spPr>
          <a:xfrm>
            <a:off x="-3559320" y="1008000"/>
            <a:ext cx="3559320" cy="65041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083" descr="诗"/>
          <p:cNvPicPr/>
          <p:nvPr/>
        </p:nvPicPr>
        <p:blipFill>
          <a:blip r:embed="rId11"/>
          <a:srcRect l="0" t="0" r="76247" b="0"/>
          <a:stretch/>
        </p:blipFill>
        <p:spPr>
          <a:xfrm>
            <a:off x="216000" y="2664000"/>
            <a:ext cx="3240000" cy="9331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3084" descr="诗"/>
          <p:cNvPicPr/>
          <p:nvPr/>
        </p:nvPicPr>
        <p:blipFill>
          <a:blip r:embed="rId12"/>
          <a:srcRect l="24292" t="3067" r="53014" b="0"/>
          <a:stretch/>
        </p:blipFill>
        <p:spPr>
          <a:xfrm>
            <a:off x="2232000" y="3416400"/>
            <a:ext cx="3095640" cy="9046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085" descr="诗"/>
          <p:cNvPicPr/>
          <p:nvPr/>
        </p:nvPicPr>
        <p:blipFill>
          <a:blip r:embed="rId13"/>
          <a:srcRect l="47580" t="6308" r="30249" b="0"/>
          <a:stretch/>
        </p:blipFill>
        <p:spPr>
          <a:xfrm>
            <a:off x="4321080" y="4176720"/>
            <a:ext cx="3024360" cy="8748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3086" descr="诗"/>
          <p:cNvPicPr/>
          <p:nvPr/>
        </p:nvPicPr>
        <p:blipFill>
          <a:blip r:embed="rId14"/>
          <a:srcRect l="70648" t="6134" r="6658" b="0"/>
          <a:stretch/>
        </p:blipFill>
        <p:spPr>
          <a:xfrm>
            <a:off x="6265800" y="4956120"/>
            <a:ext cx="3095640" cy="8762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087" descr="音符222222 拷贝"/>
          <p:cNvPicPr/>
          <p:nvPr/>
        </p:nvPicPr>
        <p:blipFill>
          <a:blip r:embed="rId15"/>
          <a:stretch/>
        </p:blipFill>
        <p:spPr>
          <a:xfrm>
            <a:off x="11593440" y="1944720"/>
            <a:ext cx="189000" cy="2700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3088" descr="音符22222 拷贝"/>
          <p:cNvPicPr/>
          <p:nvPr/>
        </p:nvPicPr>
        <p:blipFill>
          <a:blip r:embed="rId16"/>
          <a:stretch/>
        </p:blipFill>
        <p:spPr>
          <a:xfrm>
            <a:off x="11315880" y="1816200"/>
            <a:ext cx="349200" cy="4888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089" descr="音符2222 拷贝"/>
          <p:cNvPicPr/>
          <p:nvPr/>
        </p:nvPicPr>
        <p:blipFill>
          <a:blip r:embed="rId17"/>
          <a:stretch/>
        </p:blipFill>
        <p:spPr>
          <a:xfrm>
            <a:off x="11377440" y="1800360"/>
            <a:ext cx="225720" cy="6030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090" descr="音符222 拷贝"/>
          <p:cNvPicPr/>
          <p:nvPr/>
        </p:nvPicPr>
        <p:blipFill>
          <a:blip r:embed="rId18"/>
          <a:stretch/>
        </p:blipFill>
        <p:spPr>
          <a:xfrm>
            <a:off x="11593440" y="1944720"/>
            <a:ext cx="216000" cy="203040"/>
          </a:xfrm>
          <a:prstGeom prst="rect">
            <a:avLst/>
          </a:prstGeom>
          <a:ln w="0">
            <a:noFill/>
          </a:ln>
        </p:spPr>
      </p:pic>
      <p:pic>
        <p:nvPicPr>
          <p:cNvPr id="104" name="1.mp3" descr=""/>
          <p:cNvPicPr/>
          <p:nvPr/>
        </p:nvPicPr>
        <p:blipFill>
          <a:blip r:embed="rId19"/>
          <a:stretch/>
        </p:blipFill>
        <p:spPr>
          <a:xfrm>
            <a:off x="7048440" y="3446640"/>
            <a:ext cx="303120" cy="30456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3092"/>
          <p:cNvSpPr/>
          <p:nvPr/>
        </p:nvSpPr>
        <p:spPr>
          <a:xfrm>
            <a:off x="216000" y="66978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093"/>
          <p:cNvSpPr/>
          <p:nvPr/>
        </p:nvSpPr>
        <p:spPr>
          <a:xfrm>
            <a:off x="5511240" y="12970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中秋幻灯片免费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1"/>
                            </p:stCondLst>
                            <p:childTnLst>
                              <p:par>
                                <p:cTn id="1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834 -0.03618 C -0.1181 -0.03088 -0.10785 -0.02559 -0.13661 -0.04324 C -0.16536 -0.06088 -0.23752 -0.14868 -0.30131 -0.14207 C -0.36488 -0.13545 -0.44794 -0.00529 -0.51845 -0.00331 C -0.58918 -0.00132 -0.64933 -0.12839 -0.72535 -0.13037 C -0.80136 -0.13236 -0.93257 -0.03463 -0.97444 -0.015 E">
                                      <p:cBhvr>
                                        <p:cTn id="15" dur="6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001"/>
                            </p:stCondLst>
                            <p:childTnLst>
                              <p:par>
                                <p:cTn id="17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001"/>
                            </p:stCondLst>
                            <p:childTnLst>
                              <p:par>
                                <p:cTn id="23" dur="indefinite" autoRev="1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9859E-006 -1.81337E-006 L 0.06346 0.02361 L 0.07294 0.06354 L 0.03768 0.09663 L 6.39859E-006 0.10126 L -0.05398 0.11075 L -0.09628 0.10126 L -0.12922 0.08008 L -0.17858 0.0706 L -0.19389 0.04015 L -0.19268 0.02361 L -0.17737 0.01412 L -0.15159 -0.0022 L -0.10807 -0.00463 L -0.08339 -0.00706 L -0.03877 -0.00706 L 6.39859E-006 -1.81337E-006 Z">
                                      <p:cBhvr>
                                        <p:cTn id="24" dur="8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8001"/>
                            </p:stCondLst>
                            <p:childTnLst>
                              <p:par>
                                <p:cTn id="26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92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192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192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192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3001"/>
                            </p:stCondLst>
                            <p:childTnLst>
                              <p:par>
                                <p:cTn id="36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6001"/>
                            </p:stCondLst>
                            <p:childTnLst>
                              <p:par>
                                <p:cTn id="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9001"/>
                            </p:stCondLst>
                            <p:childTnLst>
                              <p:par>
                                <p:cTn id="4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356 0.00861 L 0.95307 0.01853 E">
                                      <p:cBhvr>
                                        <p:cTn id="48" dur="10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9001"/>
                            </p:stCondLst>
                            <p:childTnLst>
                              <p:par>
                                <p:cTn id="5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2001"/>
                            </p:stCondLst>
                            <p:childTnLst>
                              <p:par>
                                <p:cTn id="5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5001"/>
                            </p:stCondLst>
                            <p:childTnLst>
                              <p:par>
                                <p:cTn id="6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8001"/>
                            </p:stCondLst>
                            <p:childTnLst>
                              <p:par>
                                <p:cTn id="6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1001"/>
                            </p:stCondLst>
                            <p:childTnLst>
                              <p:par>
                                <p:cTn id="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1501"/>
                            </p:stCondLst>
                            <p:childTnLst>
                              <p:par>
                                <p:cTn id="78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38836E-006 -3.89195E-006 C -0.02503 -0.02513 -0.05006 -0.05005 -0.08546 -0.0463 C -0.12085 -0.04255 -0.17444 0.02514 -0.21248 0.02294 C -0.25053 0.02073 -0.28041 -0.03947 -0.31404 -0.06019 C -0.34767 -0.08092 -0.39354 -0.09503 -0.41449 -0.10165 C -0.43544 -0.10827 -0.43688 -0.09989 -0.43996 -0.09944 C -0.44305 -0.099 -0.43809 -0.09922 -0.43302 -0.09944 E">
                                      <p:cBhvr>
                                        <p:cTn id="7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3501"/>
                            </p:stCondLst>
                            <p:childTnLst>
                              <p:par>
                                <p:cTn id="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4001"/>
                            </p:stCondLst>
                            <p:childTnLst>
                              <p:par>
                                <p:cTn id="85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5 -0.00948 C -0.02018 -0.03969 -0.03341 -0.0699 -0.06462 -0.06946 C -0.09582 -0.06901 -0.16066 -0.01124 -0.19396 -0.00705 C -0.22726 -0.00286 -0.2352 -0.02822 -0.26442 -0.0441 C -0.29364 -0.05997 -0.35109 -0.09195 -0.3695 -0.10187 E">
                                      <p:cBhvr>
                                        <p:cTn id="8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6001"/>
                            </p:stCondLst>
                            <p:childTnLst>
                              <p:par>
                                <p:cTn id="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6501"/>
                            </p:stCondLst>
                            <p:childTnLst>
                              <p:par>
                                <p:cTn id="92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41 -0.01874 C -0.05811 -0.03462 -0.09681 -0.05027 -0.12681 -0.0441 C -0.1568 -0.03792 -0.16959 0.02205 -0.19958 0.01831 C -0.22957 0.01456 -0.28813 -0.05292 -0.30698 -0.06725 E">
                                      <p:cBhvr>
                                        <p:cTn id="9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8501"/>
                            </p:stCondLst>
                            <p:childTnLst>
                              <p:par>
                                <p:cTn id="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9001"/>
                            </p:stCondLst>
                            <p:childTnLst>
                              <p:par>
                                <p:cTn id="99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9 -0.02866 C -0.01621 -0.04454 -0.0194 -0.0602 -0.03936 -0.05645 C -0.05932 -0.0527 -0.10376 -0.00904 -0.13298 -0.00551 C -0.1622 -0.00198 -0.19583 -0.02756 -0.2149 -0.03572 C -0.23398 -0.04388 -0.24324 -0.05204 -0.24732 -0.05402 C -0.2514 -0.05601 -0.24534 -0.0516 -0.23916 -0.04719 E">
                                      <p:cBhvr>
                                        <p:cTn id="10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1001"/>
                            </p:stCondLst>
                            <p:childTnLst>
                              <p:par>
                                <p:cTn id="1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1501"/>
                            </p:stCondLst>
                            <p:childTnLst>
                              <p:par>
                                <p:cTn id="106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0151E-006 3.49504E-006 C -0.01753 -0.01323 -0.03506 -0.02624 -0.05425 -0.01853 C -0.07343 -0.01081 -0.09295 0.04101 -0.11545 0.0463 C -0.13794 0.0516 -0.17775 0.01896 -0.18932 0.01389 E">
                                      <p:cBhvr>
                                        <p:cTn id="107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3:07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18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