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4103688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1423-D2E0-4D86-A242-A294D9055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4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56880"/>
            <a:ext cx="8229600" cy="129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371680"/>
            <a:ext cx="8229600" cy="129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3D66-E6D5-4263-B1D8-476107458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4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56880"/>
            <a:ext cx="4015800" cy="129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56880"/>
            <a:ext cx="4015800" cy="129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371680"/>
            <a:ext cx="4015800" cy="129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371680"/>
            <a:ext cx="4015800" cy="129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8922-3154-4225-B4FD-E29C65391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4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56880"/>
            <a:ext cx="2649600" cy="129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56880"/>
            <a:ext cx="2649600" cy="129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56880"/>
            <a:ext cx="2649600" cy="129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371680"/>
            <a:ext cx="2649600" cy="129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371680"/>
            <a:ext cx="2649600" cy="129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371680"/>
            <a:ext cx="2649600" cy="129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0EB4-6ACB-4098-94A2-14346B55A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D6972-AFA7-49EB-9993-FDA720BF9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4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56880"/>
            <a:ext cx="8229600" cy="27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5BACC-44C3-43DB-B73D-D8EBEC951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24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56880"/>
            <a:ext cx="8229600" cy="27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1D162-20F6-49A9-AB92-92A6C6580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4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56880"/>
            <a:ext cx="4015800" cy="27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956880"/>
            <a:ext cx="4015800" cy="27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0744B-4B35-402B-8B3A-84B310903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4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D58A3-68D4-47BB-BC2D-ED96430C3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65240"/>
            <a:ext cx="822960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084A4-FC1E-472C-B9AD-0DB3C9161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4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56880"/>
            <a:ext cx="4015800" cy="129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956880"/>
            <a:ext cx="4015800" cy="27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371680"/>
            <a:ext cx="4015800" cy="129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9C9F1-BD83-4360-A0C8-6CC95770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4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56880"/>
            <a:ext cx="8229600" cy="27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7B18-144C-488B-98D0-3F3205D58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4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56880"/>
            <a:ext cx="4015800" cy="27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956880"/>
            <a:ext cx="4015800" cy="129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371680"/>
            <a:ext cx="4015800" cy="129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34675-5DFE-467E-ABAD-406CE8D2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24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56880"/>
            <a:ext cx="4015800" cy="129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956880"/>
            <a:ext cx="4015800" cy="129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371680"/>
            <a:ext cx="8229600" cy="129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A7880-9BC5-4326-9442-26BC5ACD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4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56880"/>
            <a:ext cx="8229600" cy="129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371680"/>
            <a:ext cx="8229600" cy="129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AC2EE-33F9-4B57-A138-74693EBB4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24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56880"/>
            <a:ext cx="4015800" cy="129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956880"/>
            <a:ext cx="4015800" cy="129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371680"/>
            <a:ext cx="4015800" cy="129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371680"/>
            <a:ext cx="4015800" cy="129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B5C7F-4050-4958-8E08-F84FFBD6D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24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56880"/>
            <a:ext cx="2649600" cy="129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956880"/>
            <a:ext cx="2649600" cy="129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956880"/>
            <a:ext cx="2649600" cy="129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371680"/>
            <a:ext cx="2649600" cy="129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371680"/>
            <a:ext cx="2649600" cy="129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371680"/>
            <a:ext cx="2649600" cy="129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C31A0-2E9D-4971-9F79-7F8EAA2BC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4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56880"/>
            <a:ext cx="8229600" cy="27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7E8C-6687-4A17-B929-81888B3A6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4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56880"/>
            <a:ext cx="4015800" cy="27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56880"/>
            <a:ext cx="4015800" cy="27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99F1-2A99-4292-B2EC-2A0E6D28D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4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A20A-4535-424D-94B7-7A3EE64A6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65240"/>
            <a:ext cx="822960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3EC0-BD9E-4259-BF43-A8E8A1C85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4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56880"/>
            <a:ext cx="4015800" cy="129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56880"/>
            <a:ext cx="4015800" cy="27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371680"/>
            <a:ext cx="4015800" cy="129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BCDB-FF76-4B69-B1FD-EBB2D02A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4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56880"/>
            <a:ext cx="4015800" cy="27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56880"/>
            <a:ext cx="4015800" cy="129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371680"/>
            <a:ext cx="4015800" cy="129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C6E0-8A56-40E9-9125-9221CAFC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4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56880"/>
            <a:ext cx="4015800" cy="129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56880"/>
            <a:ext cx="4015800" cy="129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371680"/>
            <a:ext cx="8229600" cy="129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C957-760C-4208-8A9B-1B7B704F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65240"/>
            <a:ext cx="82296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56880"/>
            <a:ext cx="8229600" cy="27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3803760"/>
            <a:ext cx="2133720" cy="2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D3F74-BC56-4C24-AC19-B153C852283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3803760"/>
            <a:ext cx="2895840" cy="2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3803760"/>
            <a:ext cx="2133720" cy="2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00007-7801-497B-AB03-40F65CCE1B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FCE87-5495-4261-8FF4-95DD78C062C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D6C51-A2B0-43D7-9BEE-00EFA203511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2.jpe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4.png"/><Relationship Id="rId22" Type="http://schemas.openxmlformats.org/officeDocument/2006/relationships/image" Target="../media/image5.png"/><Relationship Id="rId23" Type="http://schemas.openxmlformats.org/officeDocument/2006/relationships/image" Target="../media/image6.png"/><Relationship Id="rId24" Type="http://schemas.openxmlformats.org/officeDocument/2006/relationships/image" Target="../media/image7.png"/><Relationship Id="rId25" Type="http://schemas.openxmlformats.org/officeDocument/2006/relationships/image" Target="../media/image8.png"/><Relationship Id="rId26" Type="http://schemas.openxmlformats.org/officeDocument/2006/relationships/image" Target="../media/image9.png"/><Relationship Id="rId27" Type="http://schemas.openxmlformats.org/officeDocument/2006/relationships/image" Target="../media/image10.png"/><Relationship Id="rId28" Type="http://schemas.openxmlformats.org/officeDocument/2006/relationships/image" Target="../media/image7.png"/><Relationship Id="rId29" Type="http://schemas.openxmlformats.org/officeDocument/2006/relationships/image" Target="../media/image8.png"/><Relationship Id="rId30" Type="http://schemas.openxmlformats.org/officeDocument/2006/relationships/image" Target="../media/image7.png"/><Relationship Id="rId31" Type="http://schemas.openxmlformats.org/officeDocument/2006/relationships/image" Target="../media/image8.png"/><Relationship Id="rId3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8880D-30DA-49B5-BA4E-CE137334892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27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图片 13" descr=""/>
          <p:cNvPicPr/>
          <p:nvPr/>
        </p:nvPicPr>
        <p:blipFill>
          <a:blip r:embed="rId16"/>
          <a:stretch/>
        </p:blipFill>
        <p:spPr>
          <a:xfrm>
            <a:off x="7920" y="4680"/>
            <a:ext cx="9137520" cy="4102200"/>
          </a:xfrm>
          <a:prstGeom prst="rect">
            <a:avLst/>
          </a:prstGeom>
          <a:ln w="0">
            <a:noFill/>
          </a:ln>
        </p:spPr>
      </p:pic>
      <p:sp>
        <p:nvSpPr>
          <p:cNvPr id="88" name="椭圆 25"/>
          <p:cNvSpPr/>
          <p:nvPr/>
        </p:nvSpPr>
        <p:spPr>
          <a:xfrm rot="18124200">
            <a:off x="220680" y="-1652760"/>
            <a:ext cx="4537080" cy="4537080"/>
          </a:xfrm>
          <a:prstGeom prst="ellipse">
            <a:avLst/>
          </a:prstGeom>
          <a:blipFill rotWithShape="0">
            <a:blip r:embed="rId1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椭圆 24"/>
          <p:cNvSpPr/>
          <p:nvPr/>
        </p:nvSpPr>
        <p:spPr>
          <a:xfrm rot="18124200">
            <a:off x="343080" y="-1623960"/>
            <a:ext cx="4535280" cy="4535280"/>
          </a:xfrm>
          <a:prstGeom prst="ellipse">
            <a:avLst/>
          </a:prstGeom>
          <a:blipFill rotWithShape="0">
            <a:blip r:embed="rId1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椭圆 23"/>
          <p:cNvSpPr/>
          <p:nvPr/>
        </p:nvSpPr>
        <p:spPr>
          <a:xfrm rot="18124200">
            <a:off x="-525240" y="-833400"/>
            <a:ext cx="4535280" cy="4535640"/>
          </a:xfrm>
          <a:prstGeom prst="ellipse">
            <a:avLst/>
          </a:prstGeom>
          <a:blipFill rotWithShape="0">
            <a:blip r:embed="rId1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椭圆 1"/>
          <p:cNvSpPr/>
          <p:nvPr/>
        </p:nvSpPr>
        <p:spPr>
          <a:xfrm rot="18124200">
            <a:off x="343080" y="-1652760"/>
            <a:ext cx="4535640" cy="4535280"/>
          </a:xfrm>
          <a:prstGeom prst="ellipse">
            <a:avLst/>
          </a:prstGeom>
          <a:blipFill rotWithShape="0">
            <a:blip r:embed="rId2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图片 12" descr=""/>
          <p:cNvPicPr/>
          <p:nvPr/>
        </p:nvPicPr>
        <p:blipFill>
          <a:blip r:embed="rId21"/>
          <a:stretch/>
        </p:blipFill>
        <p:spPr>
          <a:xfrm>
            <a:off x="4365720" y="1047600"/>
            <a:ext cx="4782960" cy="3060720"/>
          </a:xfrm>
          <a:prstGeom prst="rect">
            <a:avLst/>
          </a:prstGeom>
          <a:ln w="0">
            <a:noFill/>
          </a:ln>
        </p:spPr>
      </p:pic>
      <p:pic>
        <p:nvPicPr>
          <p:cNvPr id="93" name="图片 14" descr=""/>
          <p:cNvPicPr/>
          <p:nvPr/>
        </p:nvPicPr>
        <p:blipFill>
          <a:blip r:embed="rId22"/>
          <a:stretch/>
        </p:blipFill>
        <p:spPr>
          <a:xfrm>
            <a:off x="0" y="0"/>
            <a:ext cx="5464080" cy="4105440"/>
          </a:xfrm>
          <a:prstGeom prst="rect">
            <a:avLst/>
          </a:prstGeom>
          <a:ln w="0">
            <a:noFill/>
          </a:ln>
        </p:spPr>
      </p:pic>
      <p:pic>
        <p:nvPicPr>
          <p:cNvPr id="94" name="图片 15" descr=""/>
          <p:cNvPicPr/>
          <p:nvPr/>
        </p:nvPicPr>
        <p:blipFill>
          <a:blip r:embed="rId23"/>
          <a:stretch/>
        </p:blipFill>
        <p:spPr>
          <a:xfrm>
            <a:off x="-7920" y="-4680"/>
            <a:ext cx="2809800" cy="3105000"/>
          </a:xfrm>
          <a:prstGeom prst="rect">
            <a:avLst/>
          </a:prstGeom>
          <a:ln w="0">
            <a:noFill/>
          </a:ln>
        </p:spPr>
      </p:pic>
      <p:pic>
        <p:nvPicPr>
          <p:cNvPr id="95" name="图片 16" descr=""/>
          <p:cNvPicPr/>
          <p:nvPr/>
        </p:nvPicPr>
        <p:blipFill>
          <a:blip r:embed="rId24"/>
          <a:stretch/>
        </p:blipFill>
        <p:spPr>
          <a:xfrm>
            <a:off x="2490840" y="1076400"/>
            <a:ext cx="2152440" cy="2089080"/>
          </a:xfrm>
          <a:prstGeom prst="rect">
            <a:avLst/>
          </a:prstGeom>
          <a:ln w="0">
            <a:noFill/>
          </a:ln>
        </p:spPr>
      </p:pic>
      <p:pic>
        <p:nvPicPr>
          <p:cNvPr id="96" name="图片 17" descr=""/>
          <p:cNvPicPr/>
          <p:nvPr/>
        </p:nvPicPr>
        <p:blipFill>
          <a:blip r:embed="rId25"/>
          <a:stretch/>
        </p:blipFill>
        <p:spPr>
          <a:xfrm>
            <a:off x="1581120" y="-34920"/>
            <a:ext cx="2058840" cy="3200400"/>
          </a:xfrm>
          <a:prstGeom prst="rect">
            <a:avLst/>
          </a:prstGeom>
          <a:ln w="0">
            <a:noFill/>
          </a:ln>
        </p:spPr>
      </p:pic>
      <p:pic>
        <p:nvPicPr>
          <p:cNvPr id="97" name="图片 11" descr=""/>
          <p:cNvPicPr/>
          <p:nvPr/>
        </p:nvPicPr>
        <p:blipFill>
          <a:blip r:embed="rId26"/>
          <a:stretch/>
        </p:blipFill>
        <p:spPr>
          <a:xfrm>
            <a:off x="-6480" y="2573280"/>
            <a:ext cx="3497400" cy="1530360"/>
          </a:xfrm>
          <a:prstGeom prst="rect">
            <a:avLst/>
          </a:prstGeom>
          <a:ln w="0">
            <a:noFill/>
          </a:ln>
        </p:spPr>
      </p:pic>
      <p:pic>
        <p:nvPicPr>
          <p:cNvPr id="98" name="图片 18" descr=""/>
          <p:cNvPicPr/>
          <p:nvPr/>
        </p:nvPicPr>
        <p:blipFill>
          <a:blip r:embed="rId27"/>
          <a:stretch/>
        </p:blipFill>
        <p:spPr>
          <a:xfrm>
            <a:off x="2789280" y="2500200"/>
            <a:ext cx="558720" cy="1135080"/>
          </a:xfrm>
          <a:prstGeom prst="rect">
            <a:avLst/>
          </a:prstGeom>
          <a:ln w="0">
            <a:noFill/>
          </a:ln>
        </p:spPr>
      </p:pic>
      <p:sp>
        <p:nvSpPr>
          <p:cNvPr id="99" name="TextBox 19"/>
          <p:cNvSpPr/>
          <p:nvPr/>
        </p:nvSpPr>
        <p:spPr>
          <a:xfrm>
            <a:off x="3902760" y="395280"/>
            <a:ext cx="473148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25126"/>
                </a:solidFill>
                <a:latin typeface="隶书"/>
                <a:ea typeface="隶书"/>
              </a:rPr>
              <a:t>花好月圆日中秋喜相逢明月寓团圆祝福寄友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25126"/>
                </a:solidFill>
                <a:latin typeface="隶书"/>
                <a:ea typeface="隶书"/>
              </a:rPr>
              <a:t>愿生活如圆月，梦想皆达成，幸福明月光，伴你天下行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25126"/>
                </a:solidFill>
                <a:latin typeface="隶书"/>
                <a:ea typeface="隶书"/>
              </a:rPr>
              <a:t>中秋快乐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图片 10" descr=""/>
          <p:cNvPicPr/>
          <p:nvPr/>
        </p:nvPicPr>
        <p:blipFill>
          <a:blip r:embed="rId28"/>
          <a:stretch/>
        </p:blipFill>
        <p:spPr>
          <a:xfrm>
            <a:off x="2490840" y="1076400"/>
            <a:ext cx="2152440" cy="208908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20" descr=""/>
          <p:cNvPicPr/>
          <p:nvPr/>
        </p:nvPicPr>
        <p:blipFill>
          <a:blip r:embed="rId29"/>
          <a:stretch/>
        </p:blipFill>
        <p:spPr>
          <a:xfrm>
            <a:off x="1581120" y="-34920"/>
            <a:ext cx="2058840" cy="320040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21" descr=""/>
          <p:cNvPicPr/>
          <p:nvPr/>
        </p:nvPicPr>
        <p:blipFill>
          <a:blip r:embed="rId30"/>
          <a:stretch/>
        </p:blipFill>
        <p:spPr>
          <a:xfrm>
            <a:off x="2490840" y="1076400"/>
            <a:ext cx="2152440" cy="208908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22" descr=""/>
          <p:cNvPicPr/>
          <p:nvPr/>
        </p:nvPicPr>
        <p:blipFill>
          <a:blip r:embed="rId31"/>
          <a:stretch/>
        </p:blipFill>
        <p:spPr>
          <a:xfrm>
            <a:off x="1581120" y="-34920"/>
            <a:ext cx="2058840" cy="3200400"/>
          </a:xfrm>
          <a:prstGeom prst="rect">
            <a:avLst/>
          </a:prstGeom>
          <a:ln w="0">
            <a:noFill/>
          </a:ln>
        </p:spPr>
      </p:pic>
      <p:sp>
        <p:nvSpPr>
          <p:cNvPr id="104" name="文本框 3091"/>
          <p:cNvSpPr/>
          <p:nvPr/>
        </p:nvSpPr>
        <p:spPr>
          <a:xfrm>
            <a:off x="250920" y="356400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文本框 3092"/>
          <p:cNvSpPr/>
          <p:nvPr/>
        </p:nvSpPr>
        <p:spPr>
          <a:xfrm>
            <a:off x="2286720" y="684360"/>
            <a:ext cx="485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中秋节动态宽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dur="indefinite" nodeType="afterEffect" fill="hold" presetClass="entr" presetID="2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23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23" presetSubtype="3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43" dur="500" fill="hold"/>
                                        <p:tgtEl>
                                          <p:spTgt spid="101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xit" presetID="10">
                                  <p:stCondLst>
                                    <p:cond delay="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50" dur="500" fill="hold"/>
                                        <p:tgtEl>
                                          <p:spTgt spid="100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xit" presetID="10">
                                  <p:stCondLst>
                                    <p:cond delay="1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57" dur="500" fill="hold"/>
                                        <p:tgtEl>
                                          <p:spTgt spid="96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xit" presetID="10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64" dur="500" fill="hold"/>
                                        <p:tgtEl>
                                          <p:spTgt spid="95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47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8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14462E-006 C -0.00226 0.04524 0.00416 0.20418 -0.01354 0.27223 C -0.03125 0.34029 -0.08698 0.38012 -0.10625 0.40835 E">
                                      <p:cBhvr>
                                        <p:cTn id="82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8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14462E-006 C -0.00226 0.04524 0.00416 0.20418 -0.01354 0.27223 C -0.03125 0.34029 -0.08698 0.38012 -0.10625 0.40835 E">
                                      <p:cBhvr>
                                        <p:cTn id="86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9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mph" presetID="8" repeatCount="indefinite">
                                  <p:stCondLst>
                                    <p:cond delay="1000"/>
                                  </p:stCondLst>
                                  <p:childTnLst>
                                    <p:animRot by="5400000">
                                      <p:cBhvr>
                                        <p:cTn id="9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33333E-006 1.14462E-006 C -0.00226 0.04524 0.00416 0.20418 -0.01354 0.27223 C -0.03125 0.34029 -0.08698 0.38012 -0.10625 0.40835 E">
                                      <p:cBhvr>
                                        <p:cTn id="95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10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mph" presetID="8" repeatCount="indefinite">
                                  <p:stCondLst>
                                    <p:cond delay="500"/>
                                  </p:stCondLst>
                                  <p:childTnLst>
                                    <p:animRot by="5400000">
                                      <p:cBhvr>
                                        <p:cTn id="10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path" presetID="0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3.33333E-006 1.14462E-006 C -0.00226 0.04524 0.00416 0.20418 -0.01354 0.27223 C -0.03125 0.34029 -0.08698 0.38012 -0.10625 0.40835 E">
                                      <p:cBhvr>
                                        <p:cTn id="102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2T06:25:4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29:26Z</dcterms:modified>
  <cp:revision>2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