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C8E5B-258F-4A75-8C54-3309B8FF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F76F7-A9ED-4AAA-ADE6-E6CD085B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423A9-4094-4E55-8ADA-C7B95F6A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6DAD8-4E26-4ACF-8720-31D13E34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DB49F-0A89-47AB-BBE2-BDF2AC93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081A2-A721-4426-ACDE-6A186575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DB69B-6E5F-4F76-992E-92E0B470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A2DEB-39C8-44D4-A230-66906C1C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036A9-61A8-4A68-A227-A03CA10F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12E00-0092-47A8-AA55-5141887B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67897-6478-4A37-97A7-3B980DF5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E833E-EEB1-4427-A893-90BC1F4A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4A348-7E33-4300-9C1D-52118C3A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13627-5D02-45CD-A7DB-0316B5E4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40D74-74B4-4714-959B-7165051A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C4E61-DE2E-45E8-855F-92C4A44F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F70C7-45C1-4567-AC38-816E863B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2EE85-A9FF-43CB-81F3-16F1D13C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C9568-DE36-4307-994F-60F41E81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8BECF-8CDE-4175-B5E6-1D1F0299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61786-63BB-4273-A090-548BDF6C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78258-6998-4E80-A303-2BF052AE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FB8FE-357D-4A90-9E4A-D0A7DF90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21EAF-5231-4E2B-95DD-A24E7792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A3843-F208-4D04-B1DC-DB960C5F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DD0D3-0CE1-478A-B66E-41CB4B2D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0A12D-98ED-4605-8316-E3D2E11A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6BFE2-BBE2-46D6-A129-37D652C6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5805B-AF92-40C9-80C0-1FC5A37E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162F5-2977-43A8-8359-1DBE84A5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495-3259-4D3C-816F-69727E1B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8B026-8F8D-4E9D-9357-2795404E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F07A7-D085-4212-B0E0-4C1D1D63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85460-3648-4831-92E0-72AD7846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41CA3-B42A-497B-A733-CDEC45C0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A82CF-E5F6-4532-B744-1D5C5B74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04A11-139C-4C0C-AD8D-B8E76313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CFD15-E075-4819-A535-D2F1F6A5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B0327-B0EB-4BCD-85A6-B88FFCFA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8F1CD-4236-4F52-9A95-40F32BE6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7E401-B73D-48E0-86EC-E25B64DB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5A1-8419-4399-BB57-A0E96DA1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6828D-D34B-49B0-9383-87F89E8D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76AFB-45DB-4E31-9377-CC9B0891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B00A3-5F0E-4686-86A4-8BE4DE18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D191F-A947-472F-A716-C18FA751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E30D2-E301-4EA5-9945-FEB57507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683AD-8D32-4B78-878B-D2E4D0DD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D1A48-9D59-4DA9-A60C-54AA6A4A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33260-58B6-48F3-86D4-6EA04FA3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7F8B1-6CC2-4B68-AA67-20B84340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DF9C9-AFDA-4E49-AF5A-5D206B2D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FD6-BADA-4BAC-89E0-3442F95B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4620C-3BE4-47AC-85D9-7EAB37D0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C85D9-7E6F-4493-974F-ED910B1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0FB75-C529-480F-BB54-DF316CB1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1D56A-5A9D-4AE0-8D91-3ED02528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CF125-8B8F-498E-A4F8-92BF7E06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55454-27A4-4E1A-A737-75B7F002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28F27-F555-4940-8FE8-C4A294F5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EFAC1-65FE-481B-A841-7F6BEDE8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4C18D-4202-4B15-A58B-A59B9747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CE1A4-AED2-4EDA-B5B2-2A55675B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062-6F5B-4AB1-84C8-CDCF5D5E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8CC2E-BC81-49BB-A6DD-8FE3F5DB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1AA85-2291-4B5F-B9AC-143D3A15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57A68-3C1B-4CFC-839F-807B58E9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8540D-C889-4CE2-97A5-B6E1F8C7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F9388-120E-42E1-853C-DEBD8C5A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8207B-45F0-4E14-BDDE-A7F90EB8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F0464-BFE0-4E86-A839-5128CB93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0F519-50CC-4EEC-9BBE-5DE2B5E2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393D3-3C90-4DFB-98DF-2AF95389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429C1-E399-47A1-8ADC-EACFCF87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B08-0B70-4B19-9D3F-F009A425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B1658-CA9B-465F-9A2F-9C1636D3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974E3-AAEB-4B8E-8A6B-665C539D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26B27-09F5-487C-88E0-7F753BA5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475DF-7250-4706-A8AB-DCAE0B54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D38ED-8813-4150-85CC-4AE8CE4A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E4399-33C4-4D64-A62F-2FD0A75C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6D031-39C4-483F-B341-17FD4CB7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2B39F-C3B4-4399-BA89-35CD066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7B68A-4C8D-4E97-A482-AE12A1F9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FD2CE-226D-4FB2-9011-80EC58E4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4EF-6452-4B79-9E9A-F073BD09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08976-1BBB-4839-B3CF-E1FEAB94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5E54B-C621-462F-80A0-5D6CF99B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039E0-38C7-44B3-85CD-D52A5744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EEE25-00CB-401D-A093-39E56F92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6EBB0-643A-437B-8CD8-51402075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510A4-EE4B-4255-A8C5-26DE163C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98317-AA09-4E6D-915B-8247E01A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24CD6-2958-41E1-A23A-C8BDA1C4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AB7C8-03BB-48B1-8397-FBA2E21B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43D5B-2FCB-4AE0-AE4B-A5C832A8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054-E247-4781-BF08-9A21A52A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49D4C-469D-460E-9025-E04834FF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654D3-DD70-4CBE-BE35-877B7E15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D29AAB-E623-427E-8FFA-FBDB814B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60C13-BB43-499E-A6B8-061210F5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C54F0C-F957-4A2E-B9E8-F86E5DB1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D2C7DA-7C54-4DA2-BAED-99BFF87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361D4-D77F-4A59-A741-3E6137F7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BD1D0-15FC-44E7-A9CC-CF38BD57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90DD6-70C7-4A9D-BCB4-79B98791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C09C7-907E-4742-9C25-43B7BD71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E67-76BE-4985-8A86-5F2E8074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50696-30AA-4660-A9E0-541674B2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FDDAFB-45EA-4540-A474-673B8B4F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70727-10E3-4410-8DBF-C9F44ABA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B123A-8603-4F12-9F0B-6EAF7CD7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F9BE70-902D-49DD-A1FC-3D3AF1BC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52136-576E-4A0A-9378-C6B0533C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2A757-6982-4B49-BCCB-D5AC685D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0C13A5-7024-4BBD-8200-0F91A430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6A077-7D9E-435C-8C08-CC04A57D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858440-CA7A-4793-ADD9-AD6876E0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972-9E50-4A72-B6C5-56EA2A3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F234C-32B6-4EFD-A330-19102FA2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D4E7F-DCB1-469C-8FA0-75164CD4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B8E16-FB44-47A0-99FB-4E72C606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6CBC3-82AF-4509-BE0A-D72313EE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E3C0A-76A7-41BB-8669-9DBAB903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4820B-0766-43B0-B325-8A1D348D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9A4D5-765F-4B6C-A278-53C2A956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18419-8F58-4BC8-BBF5-4D68E3C3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C88842-B7AC-458B-9FBD-AF05510F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57BB2-4036-47E0-A8B4-458ECCE0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982-2D51-404C-95F8-575857D4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49A2C-62EC-4BD2-8F37-E60C2448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C14354-2720-442A-BD90-849C9DAD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B3450-88BB-4D9A-9E00-8A0B1030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D554D-A10F-444B-B4BE-B930AB4C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56EAB-69BF-49A5-91FD-5E317A11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5BB92-38AB-4731-9F00-90A210D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612E4-7A74-459F-8828-73962560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9E6C40-574A-4163-A6B2-14A4EE6F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45B515-C36B-4272-9400-739E0F7E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5783DB-FCCE-4D10-B81E-7C6EA56D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273-1BEA-43B5-8294-FC09A07A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237248-049B-4249-B20F-51A86370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BD0CE1-C231-40B5-BFF2-A41EDB4C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A877E-6992-482C-BD49-E071FD09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F2C88D-DA4B-4F57-A4E9-593D014F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4AD62F-1F39-4EE9-A1E0-A70904CC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D8D5C-6DCA-4C25-9D9B-338B4C5F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E948C-168F-4D59-985D-4820CA79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553D4-7980-4CA8-94DF-E7BBC948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322D6-079C-4DCA-9B53-88A127DE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6C53F2-A268-4BC2-B2F4-88AD85ED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F5F-6D56-4760-9F87-B22CD752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3121F8-FA2A-4A55-9537-2427A459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B5978C-2015-469E-B0A0-F53282FF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D19CD1-8299-4DB9-8A0D-0C24B515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CF84FE-BC86-42A1-B884-9C49358A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4E22A-EB79-4E99-AEA5-8D774113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246E2-CFCC-41C2-AEBD-434A19B0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1827A5-5461-49EF-8D7D-9D701C7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50804F-9881-4672-B20D-C1875F5A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204F0F-8AFC-4B0D-BE55-8D68D1A5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1E859C-0C1C-4FAA-A7B6-2C0BA46D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8451-3326-4F13-BDD8-C7C360F4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0F944-D80E-45E4-9171-F40852B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3BDB1E-67FE-4353-9FFC-979DCA2A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FF900-6A37-4CDF-919A-F0BE6A28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0C2E1C-7739-4223-99CD-C93AF47E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4B2F39-1A5B-4E7D-BA98-C01F3569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3313FC-324F-4CEF-ACDA-4F5BB2D5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91716D-DEAB-4FA7-A545-FBBB091C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B7CD26-C90C-4499-AB48-E734F2C5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FEC87E-D0FD-4862-9517-56DED860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DF2487-DB2C-43B4-868C-5CBBB8D5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F4AE-A0C7-4BAC-9549-DD46DD1C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619E1-0F22-4D6F-8C1D-0B51DACC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3119C3-9AF7-407F-B950-623AAFC5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D70E72-DA1D-4CB7-AD7A-116D1071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B139C2-03D2-42CA-A4DF-5A19DC65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D132A3-2DB0-432C-9FF8-326D20D4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F2E34F-D962-4B59-AE22-843A6D99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9B8A37-7637-4097-B16C-D044FBA4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D687E0-BE28-45A9-BF72-9D7F01FF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2E3BBE-1A8D-4A7D-9825-6B22ECAB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0849DE-65C9-4AD9-BE34-7567D912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1234-7DC4-47CF-932F-B54C227D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F6B72A-EC76-4321-B97D-2CA23B82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5B0AE7-937C-467A-BC7C-D3F0A8C6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56B49F-30BB-446A-BF1F-657EEA1A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F9253E-B590-4432-B7F0-BDBC13D0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4CFC98-15F9-47E8-82B5-F6BDEFBC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84159B-1EC0-4F08-B176-9DB58B18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900B7E-F84C-4AD5-B01E-8D032746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AA6FC4-648D-4EEC-9F8B-E2CE847C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1A3091-2E4C-4AF9-9017-517F6A7A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31F3DE-6DBA-4743-8B90-25E901DF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6706-1491-4CCB-8FBE-D2F8DAD4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94AEED-6E6E-4AC0-89C4-D2D278D7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C5184B-102B-4F2F-9EDF-E64261C9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71880F-6B97-488C-B197-9505CEA4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15C731-F104-46ED-9267-6A9057F0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1C296A-06E3-4A6B-924D-9B15C6C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9EEC0D-FB26-4184-B9B1-04D77B5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C9A6AF-4F65-444C-96F2-B794A4D0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17C920-8DF2-42E1-8858-0A68E195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12043-6F0A-4487-9CDB-F00850AB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6130-A971-4E4F-802E-4721F075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FE00-3237-4723-96E7-C3660953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60D6-DCB1-4E3A-90D1-93F5010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B9EA-D21B-4E93-98B7-EF55498D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32D8-00F2-4994-A0C1-C9B5E72B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CFE1-D2AE-40F1-A5E6-74A9DCF1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2548-C6E4-4AA4-B395-D6D4962D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3677-0685-4FD6-B940-58249EFD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F353-C427-407B-BA2C-C7FFFC58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6CDF-DC29-452E-9798-3BF63B56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3075-5753-4743-BFD9-56172CB9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D6C27-EC60-4BDE-9470-3ADD9BF0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AAC3-06BA-4EC3-9652-65666E42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ACF76-B6BC-4137-B4AF-7E5FA9F1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9888-2350-4A08-99E4-C8761CE4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ED79-732C-419F-A8A3-C75ABADC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9625-AA33-4492-B200-A0195D4B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C915-6926-4D96-9C3A-E53648A4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BDDD5-3AE3-4697-94D5-FE5955EB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DFD6-9255-48CA-99B8-3647AFC6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4FF0-9B16-4652-8ECE-F26ACB90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FCA04-0140-421B-9BAA-52803466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D9A2-3155-47DC-B781-2BD5EA0A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26421-3A9F-461E-A2BA-11DAAD26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E19DA-C5AB-45D1-9A87-6345F931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0F0AA-8035-4C49-A9DC-F61D95FC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46C6-0C61-4703-9C59-AFE483C4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D340C-A0C1-4685-8D2F-AAB88D25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90910-49FD-4E2E-BB79-CC46DBCF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2818-1F64-4F41-B144-43B5215A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F37B-FE6E-49FE-8F76-87E2C9ED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4D537-C533-4214-9F56-B1134CC1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45C05-0611-4CE7-8647-C37C293D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E1F02-294C-4776-A0CA-87C7FBAC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BE5D7-5077-4A94-9CA4-C65A3718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587AC-A9F0-4C62-B338-822DEAE8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E03E2-AADD-4B36-BA57-C59282AC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350C0-138B-469D-A299-3C5F3B65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3522E-EDD7-46D9-9CEB-8D58DD34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28D21-CA03-440B-ADA1-BCDC68F1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DFA1A-50A9-4D60-A432-A00AC83D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8C62E-4070-4578-8573-A46AFBD4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7F6D-F739-4C29-94C0-51D71E33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EEB88-FEC9-4FF7-BB60-26D25AA5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AF8B7-0909-415B-B840-D6AD9A0E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72CAB-7A2B-4584-AF23-64B29067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8A317-AB76-4764-9100-D757FFEA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D3EB8-119E-462F-9095-7D70B8F7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F8B1E-1C64-4D7E-BFB1-FC631453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315D7-6B45-4334-BEC3-A2BD3035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6CDED-CA8F-445E-8DB6-5676B893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B7977-4CDC-4890-9D61-4121EA8C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DC30A-DC12-41A8-9857-35A14C6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C8D80-B1CE-453D-8ABE-FCF815F1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A91D-3831-4451-8D08-9F6B1B6F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3D0F-2F99-41E4-B00F-10A754D8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188E7-84DF-4C57-A0A3-B7DE40D6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DD0BF-0514-47DC-A823-CC2EFD55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B7B7-7551-45DE-9E01-38276F7B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B2C13-8C94-43EE-8BC0-DF044907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44A72-0BC2-4D29-BC8B-20EA6C6B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4E0A4-9DB1-4D5D-BD81-935628B6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C313A-C0B9-42B0-8714-5E9ECD84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4DF21-8644-4A28-ABFA-E8BD6F67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F9E82-97F7-4C0D-B430-96B047CB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E1022-82BF-43CE-9846-B1029298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2341E-C161-42FB-8EF7-8763C7CA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C8CFC-C719-4125-949A-FE728738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5F8EA-A135-42DD-B40D-1BD6EA44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C089E-F4D2-4113-A4C5-919DA461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FEA5D-0AF1-43A8-A6FB-0ACBCB4A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8794-331A-4F66-B686-AA8EA4788F66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E4A6-7057-4B94-9172-98680AE0423E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CF22-5448-4ECE-8334-190F642F63E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E5DE-842F-4888-9622-D52D3C521AA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00F6-6A0F-410E-BAED-DB7A98EB372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2A62-A58B-4037-BAB7-32AE796FC61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2D05-F7DF-4ED4-AD32-42E580E4AB0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EDDD-6179-41E3-B576-BDD27A4FC79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4899-BC40-49AC-8A34-A65897BEEA2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434C-68EF-4914-93EF-80A5AED6062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EFE5-9FE4-4687-9F22-44CE242B119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4980-44B3-45AA-9E8B-2E09501ED0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3F71-A550-4FB4-881B-9635D8B182A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6A1E-3BF4-4A6E-A814-32A24A77042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C804-F393-48D8-9353-140F1A9548F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AED2-4CE2-451E-8FE7-8C06A7D4F18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3079-DA67-45CD-9D74-01883067193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A584-7194-4216-A80C-F4D572CD587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CA69-96A2-4757-BA84-17A23E6315C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45C0-F409-4DEC-BBB6-B5D6860E68B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8228-3923-4C71-9385-AD36F59B1E4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4D38-FA54-4ED3-B2A5-E7B60A3BBEF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4C36-CA12-4361-862F-EF179DF3011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C80C-D1DD-4B7A-9FB3-C31FED6410A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DB2A-4316-4A88-B57C-BCAC39DA787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43DE-AC71-42BF-B543-9C4BA326DCD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F778-5803-4805-AF4C-66BF5CFBFA1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FD37-8984-49CE-8425-ADD16AFECD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51B3-1460-4A15-9EFB-DCE955AC71D8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176A-81E4-4AF8-B596-10C774FD75D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FEFC-A809-4F26-8524-06B097B12359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AD7B-6FBB-40F0-8B93-7356D1675128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CFB4-A25F-4C51-A7C9-C9E28B433C6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F6C2-ADE5-4E96-9958-F43EE45BDFC7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DA29-71AA-4765-A2E9-1DB38677F6B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3"/>
          <p:cNvSpPr/>
          <p:nvPr/>
        </p:nvSpPr>
        <p:spPr>
          <a:xfrm>
            <a:off x="5793480" y="2421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中秋佳节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8"/>
          <p:cNvSpPr/>
          <p:nvPr/>
        </p:nvSpPr>
        <p:spPr>
          <a:xfrm>
            <a:off x="221760" y="3573360"/>
            <a:ext cx="8899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bfbfbf"/>
                </a:solidFill>
                <a:latin typeface="Calibri"/>
                <a:ea typeface="宋体"/>
              </a:rPr>
              <a:t>节日</a:t>
            </a:r>
            <a:r>
              <a:rPr b="0" lang="en-US" sz="400" spc="-1" strike="noStrike">
                <a:solidFill>
                  <a:srgbClr val="bfbfbf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bfbfbf"/>
                </a:solidFill>
                <a:latin typeface="Calibri"/>
                <a:ea typeface="宋体"/>
              </a:rPr>
              <a:t>模板：</a:t>
            </a:r>
            <a:r>
              <a:rPr b="0" lang="en-US" sz="400" spc="-1" strike="noStrike">
                <a:solidFill>
                  <a:srgbClr val="bfbfbf"/>
                </a:solidFill>
                <a:latin typeface="Calibri"/>
              </a:rPr>
              <a:t>www.1ppt.com/jieri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2560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25604"/>
          <p:cNvSpPr/>
          <p:nvPr/>
        </p:nvSpPr>
        <p:spPr>
          <a:xfrm>
            <a:off x="4542840" y="155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秋佳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2"/>
          <p:cNvSpPr/>
          <p:nvPr/>
        </p:nvSpPr>
        <p:spPr>
          <a:xfrm>
            <a:off x="376776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3767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3839040" y="422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"/>
          <p:cNvSpPr/>
          <p:nvPr/>
        </p:nvSpPr>
        <p:spPr>
          <a:xfrm>
            <a:off x="3839040" y="522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2"/>
          <p:cNvSpPr/>
          <p:nvPr/>
        </p:nvSpPr>
        <p:spPr>
          <a:xfrm>
            <a:off x="3848040" y="234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"/>
          <p:cNvSpPr/>
          <p:nvPr/>
        </p:nvSpPr>
        <p:spPr>
          <a:xfrm>
            <a:off x="3991680" y="443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文本框 28675"/>
          <p:cNvSpPr/>
          <p:nvPr/>
        </p:nvSpPr>
        <p:spPr>
          <a:xfrm>
            <a:off x="900000" y="404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2"/>
          <p:cNvSpPr/>
          <p:nvPr/>
        </p:nvSpPr>
        <p:spPr>
          <a:xfrm>
            <a:off x="124740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4128120" y="5079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4"/>
          <p:cNvSpPr/>
          <p:nvPr/>
        </p:nvSpPr>
        <p:spPr>
          <a:xfrm>
            <a:off x="686412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2"/>
          <p:cNvSpPr/>
          <p:nvPr/>
        </p:nvSpPr>
        <p:spPr>
          <a:xfrm>
            <a:off x="4136040" y="907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3"/>
          <p:cNvSpPr/>
          <p:nvPr/>
        </p:nvSpPr>
        <p:spPr>
          <a:xfrm>
            <a:off x="2055240" y="354060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"/>
          <p:cNvSpPr/>
          <p:nvPr/>
        </p:nvSpPr>
        <p:spPr>
          <a:xfrm>
            <a:off x="3508200" y="3933720"/>
            <a:ext cx="729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5"/>
          <p:cNvSpPr/>
          <p:nvPr/>
        </p:nvSpPr>
        <p:spPr>
          <a:xfrm>
            <a:off x="5354280" y="3870360"/>
            <a:ext cx="729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6"/>
          <p:cNvSpPr/>
          <p:nvPr/>
        </p:nvSpPr>
        <p:spPr>
          <a:xfrm>
            <a:off x="6965640" y="3905280"/>
            <a:ext cx="7290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48E3-FCD9-47CF-83F2-92BD572AD0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2"/>
          <p:cNvSpPr/>
          <p:nvPr/>
        </p:nvSpPr>
        <p:spPr>
          <a:xfrm>
            <a:off x="1923840" y="4791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"/>
          <p:cNvSpPr/>
          <p:nvPr/>
        </p:nvSpPr>
        <p:spPr>
          <a:xfrm>
            <a:off x="628848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4084920" y="558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"/>
          <p:cNvSpPr/>
          <p:nvPr/>
        </p:nvSpPr>
        <p:spPr>
          <a:xfrm>
            <a:off x="59904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6"/>
          <p:cNvSpPr/>
          <p:nvPr/>
        </p:nvSpPr>
        <p:spPr>
          <a:xfrm>
            <a:off x="304776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7"/>
          <p:cNvSpPr/>
          <p:nvPr/>
        </p:nvSpPr>
        <p:spPr>
          <a:xfrm>
            <a:off x="535176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8"/>
          <p:cNvSpPr/>
          <p:nvPr/>
        </p:nvSpPr>
        <p:spPr>
          <a:xfrm>
            <a:off x="7655400" y="162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9"/>
          <p:cNvSpPr/>
          <p:nvPr/>
        </p:nvSpPr>
        <p:spPr>
          <a:xfrm>
            <a:off x="23410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0"/>
          <p:cNvSpPr/>
          <p:nvPr/>
        </p:nvSpPr>
        <p:spPr>
          <a:xfrm>
            <a:off x="450180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1"/>
          <p:cNvSpPr/>
          <p:nvPr/>
        </p:nvSpPr>
        <p:spPr>
          <a:xfrm>
            <a:off x="67114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1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