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B5B-5384-44BC-AB90-2631B9FE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1D6-EA30-493F-9266-D3B48D97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E21EE-C493-4AB5-AE17-FBD9AADF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69E6C-CF4B-4A95-B341-6F936C4E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308B4-4A9D-4D06-A4D4-88CAAD5D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26709-855D-4740-9343-48147C44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58F58-9FDA-445A-95E3-D14263C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8D84-CDE3-48C0-AC4E-6366C33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05997-2F27-42FE-9EE2-7BC24025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D89E4-0039-4880-865B-052A9D72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F1344-24BB-49BD-A95C-B8217A73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8D8D2-62D0-41BD-A1BD-B552B09A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291-2760-48A1-9D8A-A2F3F9F2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46320-6D79-4A80-A2EB-EDED2B5E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0CEB7-8D7A-4F4E-AFE8-F247877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125AD-DBBD-4CA3-9E04-35C1E794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D899D-37C4-41DC-A38D-2934B6A0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C4AF7-0718-4254-8436-4177AF46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0213A-56DD-4344-8552-D9BF0E7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D78D-D4DD-4D60-9A52-B2A43F9B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65E74-5283-4F58-B98B-FDA1720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8A992-9D9F-4BD0-87F0-03A9D4F7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1B31C-8A74-4CFE-A302-EEDCE811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D62-57D1-4718-A952-2DDDF964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3959C-42FA-4BBA-AEE6-66676989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8B7FF-53C0-429D-AE4B-CA469638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A7E8A-9591-4BE0-AEBE-E6C9829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FE574-D72F-4F11-B5BF-AEEE35C5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4295D-3106-406A-9C95-AC8F9666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DF85-B14D-4742-AA36-6A386E18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3F2FA-37CF-4C95-B6CC-C8E43B0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85CBD-8D66-4132-B625-A0D41A3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E6EB8-9BD6-4504-9945-DA4E966F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B3DD1-59BF-443C-A2C0-E19B3F0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6081-1BC5-400F-BFB5-9753D83F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2A47-49C0-4B13-AB9C-E03523AD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3B302-8D53-4636-B10A-01E1BD50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65FFE-D1EF-403D-9023-9E4ED7C3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B4B53-D64B-493B-97D8-E255FE1F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2E415-DA15-4D6F-B4A7-D0B736F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B3154-DBC2-485A-9C01-7E332173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CDE8-AF83-4ABF-8BAF-739BD05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1370B-8C2C-409D-A15E-9BC29FED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194C5-3389-4486-81C8-716DDB0D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01A36-38FD-449E-8797-A734954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ED8E-F1A7-4676-81FD-3B3B8E57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E5B02-3D8B-404E-8B43-E8BAFCC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11A03-DADC-4898-9F24-7CC631C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6DCFF-7E1C-4CE7-8A57-B8DA181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B31D2-AC50-4171-B731-0EBB5F63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31CE-9873-4191-A8E3-90C77F30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320E0-446E-48CD-A2BD-6CB04ED7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531EB-25DC-426B-9BC6-7A71A1AE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C7A45-74E9-4C7F-A7D5-8CF6442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897EB-EDA1-453D-8631-7DF26BE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17AEA-4C56-4255-86E7-DCB416F1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AEDC-CE90-4DA8-9BA6-381A1BF3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E9186-E31E-4D2C-86A1-CF3BCE66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D64A0-F5EF-457B-A20B-8911DB7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F9DD1-0705-439B-98B1-2FB3F61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22486-3793-44D9-9938-60C7248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6A545-3EDE-4513-99B9-F40A34A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6AA28-09EA-4BE1-AB1F-7DF3BDC2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A3105-5291-47FF-A284-7B19743F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FC1A-5DA4-4797-9807-763B2F6A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11C-151E-4712-B962-EAC5E24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4BFF-2E89-413B-8082-D3C71E4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BED3-F015-495D-ABC4-0EC9000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8B5-DD36-4F80-9500-F82FB16C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FADA-60E9-4550-9F2E-3788D2A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A238-F1FC-48EB-AA8B-D76983D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FC1-4C0E-4FA5-A6F2-7B28EC5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A1D7-D2EA-41F8-9C33-9582E8F7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795F-365A-42B8-A3CE-17ADD0A7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18BE-54A0-4E12-8065-0FBF18B7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C9FF-1FCD-4D17-A41A-4D0A35AA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DC49-89D1-4A9B-A643-0351D00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7E53-134E-4F3B-85F3-17D4806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8320-2575-4598-9B1A-A0E6A095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AB3-45D4-463E-8022-9C69B487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B7FB-AF55-47B0-B23E-0D22447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F1C5-5F61-4D8F-B8D0-405FC30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0316-391C-4087-8262-26854E41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5F4E-D202-4900-8472-7ED0390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0AB3-4EB5-4C77-A8E8-2BD78BC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1F0C-C01A-4208-99E4-7A39A957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58D0-2A08-41A1-9CF4-69E5C765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3F34-19D0-4ED0-9CBA-1C2C5E06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0C3A-4923-40C7-8391-8ACE835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B47F-AE65-4870-8099-BB2DAE60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6E9-3868-4AF8-871C-86089DAE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02C8-C704-40A7-B62B-2C49112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651A-74A2-47FE-9703-295D1B62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BC2D-D30E-4686-B675-5D61231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E2F6-8CC5-4A4F-AC0B-DA4EEF6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3AA1-2B5B-4EAA-ABE5-39C926C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D1BA-18BE-4509-B41E-118E25D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A446-A2AF-40A0-97AC-452BD94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6471-9FC7-4233-9CC7-01C92B65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AC2B-F98F-47DF-8865-DF6157A3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F033-869D-494B-937B-9A832D4B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1D3-7A20-4803-8528-EF062B00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8D8B-C8E8-4755-8FF5-18FDC7A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FB241-F46B-4103-B433-ED147262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57C6-BE0A-4BCA-9F44-0C94E35B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6235-B721-4D00-BC6A-32FF143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2FC03-685C-462C-87B0-B87327E8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205F-8F57-4A3F-8BC6-7791732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137F-44D5-4096-BC81-D3A0C6E2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5AE3A-21A8-48F4-9DDF-D8EEE086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4598-6F75-487E-9CE3-6ACAAD1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07DD-0C00-40B1-B439-8C8948A0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D31-160A-46C5-9EE4-267D3CBD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7E72-15E8-4387-84B1-80D675D4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0249-05DE-4350-9BAE-F29868A1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CAFB-CE52-4F9E-A20F-51148725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B905-8D9E-4347-8C4D-ACDCF122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FCCA-1930-424B-846B-13B0B45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BA85-C013-4D11-BA7B-EE9F2A9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4D44-5219-4816-8886-6D4AE166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DE075-9C57-4553-AB66-57ECE329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F5E8-83FF-4529-9331-DBED9FD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58E6-9707-49C3-9245-C010442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B0D-0100-4D73-8E75-D883ADD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D1EF-9768-4C18-925D-EFB4591C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6478-4C73-475B-8F39-38998992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5C9C-3101-4834-B5D7-65496924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F41B-69FF-439C-A640-A70E5930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60A3-E5F9-4E9A-8C35-1CEE092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9E36-F222-4A9A-8040-3A771C8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D32B-640E-41B3-8835-0F6203EF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F1030-3418-4DAC-BBE8-0907F3C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AD34-25C4-4D76-B74A-2B7F6BA3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997A-DE45-46B2-B8D2-00CA6BE3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38E-9D1D-4557-8477-65713AB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AD17-804A-4CA1-AA8A-398ABF2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D9390-C611-4387-BB31-B279661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E996A-BEC3-4F89-A2C0-82783C3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420E-BEC8-4E7A-BFE6-6A7569D8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9671-1536-4B37-B1FB-02127567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B7F2-085B-45E9-AEBC-80A3E7EC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B9571-F316-44C8-BB19-8B9FBE1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9DC6F-9FC6-4C2E-AF9F-6B42C07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F6A08-B9EB-4D1E-B3D4-E55E314E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305E8-0935-4D8F-B410-E0D764A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080-86D8-4B1F-B9E0-4F3A588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46ED-1875-45DA-BAB6-8107E70C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0314-575F-421A-ACFB-9F056F7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90E81-5C73-45D0-98EE-69B5CBB3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4EC6E-ADD6-4FA4-B822-D2A2429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1A46A-95E6-4758-91A2-398AF16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531E6-346D-4752-8557-9462A209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F590-B877-406F-A41D-0258B5EE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4688-70CE-481B-BDF7-2378C717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D434B-364D-4F4B-BD0D-CDAEC3E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7E7D2-6125-4FFC-A826-6C1CF12B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645A6F1-4F1C-4FAF-B3C3-023240ADA3D5}" type="datetime">
              <a:rPr b="0" lang="zh-CN" sz="7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03F05B6B-3932-42BC-AD9D-B0CB48B740A6}" type="slidenum">
              <a:rPr b="0" lang="zh-CN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A45D8B1-C804-48BD-A485-FB53391E7A57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03E3F031-C515-4BDA-9501-987A45F0713D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E53F0E5-832F-46D7-BBF4-5E08574C0003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2C15158-175A-4EA8-B5E3-70E843F6098B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BBC79A2-C8F5-4842-A9AB-D3E99212C22B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191BF76-0535-4AA1-8463-EFB805D0F7C8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B3F1825-170B-43E7-971D-683C68571D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26DFAEB-F786-491A-9A52-86D4B8BE76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A4B1167A-C5E6-4CDB-99B8-02E0EFF48724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791408C4-0EE6-4502-95F3-994BFF8739FB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83E4D9E-21B7-424B-B2AD-5271E7321F73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DFC21E9-0226-4B6C-8738-4BE0844BC020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AC0909DC-B8A7-4C4A-9419-B027E7CCEF8C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A9337F0-2CD3-44D6-9717-79743B8CFC71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4543B37-1C10-44D0-BCA4-80918BEE556B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FD28942-7637-4A5E-A32A-A90372648640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3840680-1948-4CDB-A8E0-2DF082B64A84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64277C7-2EEA-450D-886B-2AB20D7F62A5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6F632BC-168C-40E5-8F1A-ED504D1F7CBF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BB4FE4D-00A2-4705-9BF6-C4FC155BD644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CDA3BEC-E132-4410-9081-776C67F182B9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2988ADB-2920-4CA1-8365-AC1CF8EE699D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61A31ED9-959F-49D6-A98A-D3D0E90229DB}" type="datetime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A0962A5-AD21-410A-BF95-CB849EFDFEDC}" type="slidenum">
              <a:rPr b="0" lang="zh-CN" sz="7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7A472421-6FA7-4284-A643-C6623687BE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545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46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48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4353"/>
          <p:cNvSpPr/>
          <p:nvPr/>
        </p:nvSpPr>
        <p:spPr>
          <a:xfrm>
            <a:off x="73080" y="3565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4354"/>
          <p:cNvSpPr/>
          <p:nvPr/>
        </p:nvSpPr>
        <p:spPr>
          <a:xfrm>
            <a:off x="807120" y="108000"/>
            <a:ext cx="33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秋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画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23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