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</p:sldIdLst>
  <p:sldSz cx="9144000" cy="61198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9C0DE-C5A2-4CFE-B5EF-711B369B5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539160"/>
            <a:ext cx="82296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3ED97-CD57-42F6-94A9-867B5BEE5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40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40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4173B7-24D1-4C8E-A5F2-7A6328763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1DDD0E-34DF-41E8-9325-F63B5BEAD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56F142-C479-471F-8507-AB35ACCB9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40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539160"/>
            <a:ext cx="40158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D509F5-F47B-4D2C-97D4-9D68CEA82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40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539160"/>
            <a:ext cx="40158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75755F-706D-4B08-8F44-F1E01FD6F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539160"/>
            <a:ext cx="82296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19C84E-FE57-48EE-A02E-D0F016051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539160"/>
            <a:ext cx="82296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27D551-EAF4-4EFD-A601-3851D79D7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539160"/>
            <a:ext cx="40158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539160"/>
            <a:ext cx="40158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BE9742-932A-4800-BCBC-89E96643F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26496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428840"/>
            <a:ext cx="26496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428840"/>
            <a:ext cx="26496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539160"/>
            <a:ext cx="26496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539160"/>
            <a:ext cx="26496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539160"/>
            <a:ext cx="26496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6CD27D-49CB-48DC-81F9-6B4149B7A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9D10FD-3624-40AC-A2F9-6A597EF70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539160"/>
            <a:ext cx="40158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539160"/>
            <a:ext cx="40158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A11A8-5CC2-45DA-8515-8DF378B0D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428840"/>
            <a:ext cx="8229600" cy="40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3DE2A4-F64C-46B8-8604-C5A67F6B4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40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E0D4C2-72A2-405A-99E8-374990E39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40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40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6C33A3-1B41-4BA8-A19B-7FFC4445D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AEBE2C-F26E-4CF5-8C6B-68C6A670C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D3E4AB-BD13-45DC-9DD1-95E34010C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40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539160"/>
            <a:ext cx="40158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23955F-C469-4A7D-A6FA-E8F451E80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40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539160"/>
            <a:ext cx="40158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4E934F-5F7E-495E-850F-2748FD827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539160"/>
            <a:ext cx="82296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459EEE-DDFC-4EA6-936C-1A5394F33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539160"/>
            <a:ext cx="82296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29F56B-A183-4E12-8E85-8E82A7214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539160"/>
            <a:ext cx="40158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539160"/>
            <a:ext cx="40158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672578-3CA3-4D58-8B7D-888EE3BA8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26496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28840"/>
            <a:ext cx="26496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28840"/>
            <a:ext cx="26496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539160"/>
            <a:ext cx="26496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539160"/>
            <a:ext cx="26496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539160"/>
            <a:ext cx="26496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B507E-FCF4-4201-8827-7E00DA1E0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26496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428840"/>
            <a:ext cx="26496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428840"/>
            <a:ext cx="26496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539160"/>
            <a:ext cx="26496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539160"/>
            <a:ext cx="26496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539160"/>
            <a:ext cx="26496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D9231F-52B4-46FD-B305-751F53F7D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D050D3-857F-4524-BE71-B99C10236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428840"/>
            <a:ext cx="8229600" cy="40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FAC2B4-1D11-45C4-BEAD-7080DF4D4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40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74020E-4C55-4E78-9377-7A0B5B6AA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40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40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370F8C-32E2-4507-A4C9-672C97C3A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43034B-8E41-4A5E-8E3A-5AD4592D5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0F46C9-08B5-4A7B-B863-FEB451D9B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40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539160"/>
            <a:ext cx="40158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46E5DA-10D2-4412-854B-FA78555A0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40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539160"/>
            <a:ext cx="40158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F4CC60-37C0-40F6-88F8-803E4288C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539160"/>
            <a:ext cx="82296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C2AAB2-57AA-4365-B638-648895E2B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DDAFF-C86F-41F5-B38D-160D81D95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539160"/>
            <a:ext cx="82296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504108-3ADF-49A9-9AE1-C5B8200DE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539160"/>
            <a:ext cx="40158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539160"/>
            <a:ext cx="40158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920F02-26EE-4432-BB2D-7B05FE0F1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26496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428840"/>
            <a:ext cx="26496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428840"/>
            <a:ext cx="26496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539160"/>
            <a:ext cx="26496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539160"/>
            <a:ext cx="26496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539160"/>
            <a:ext cx="26496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821FEF-F68D-43B5-8127-14FC41C7C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4F7F40-1875-4A56-9C4C-3A5E99382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428840"/>
            <a:ext cx="8229600" cy="40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626E07-0802-4FF9-8983-32190076F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40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3AB132-DDB2-4A8F-8EB8-08A0FCC8D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40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40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B87C90-72E9-4092-A3D6-D6A9C9E47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DE0AF7-694E-4AD9-91B6-2C326F13B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944A6C-E373-4F74-A1C6-FD8DCED80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40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539160"/>
            <a:ext cx="40158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53DFA6-1557-4E46-9CDC-59913DB49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428840"/>
            <a:ext cx="8229600" cy="40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FA26A-44FA-481C-8546-5220CC2B1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40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539160"/>
            <a:ext cx="40158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50EAFC-1822-41A9-B1D5-E799254DC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539160"/>
            <a:ext cx="82296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2EAB8F-56BD-4B0E-92CE-AFCCEE7B0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539160"/>
            <a:ext cx="82296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8DAB3E-D66E-41A1-9914-DEBB34726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539160"/>
            <a:ext cx="40158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539160"/>
            <a:ext cx="40158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623DA4-E059-4908-B60E-594935B00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26496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428840"/>
            <a:ext cx="26496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428840"/>
            <a:ext cx="26496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539160"/>
            <a:ext cx="26496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539160"/>
            <a:ext cx="26496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539160"/>
            <a:ext cx="26496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3183FE-639B-4958-82D7-A3C7B3B6B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DEAD5A2-5271-4041-8767-75047FE62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428840"/>
            <a:ext cx="8229600" cy="40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D879EE6-2169-40F9-B620-73305CA7A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40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EAEDE29-E00C-49E3-9FA7-EA9088364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40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40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3AC6312-4A40-44A3-8385-F2B86B700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5B5CCCF-B955-4C2F-A837-A519DE471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40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A8017-5640-42C7-BBB1-CADC6B733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A363BF6-496A-4554-9AAD-39E8C0104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40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539160"/>
            <a:ext cx="40158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6A6121D-42A7-41FB-A394-EA22437A2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40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539160"/>
            <a:ext cx="40158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8790D59-56DE-4140-933D-2BCED77CE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539160"/>
            <a:ext cx="82296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515309C-DBDC-4824-9943-94597F0EC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539160"/>
            <a:ext cx="82296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4BCB3D1-F3BF-4794-8A99-867813892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539160"/>
            <a:ext cx="40158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539160"/>
            <a:ext cx="40158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19A1A8F-B82A-4B40-97B8-B7C89F79E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26496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428840"/>
            <a:ext cx="26496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428840"/>
            <a:ext cx="26496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539160"/>
            <a:ext cx="26496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539160"/>
            <a:ext cx="26496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539160"/>
            <a:ext cx="26496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F9ACB63-7ADA-438F-9211-FC582F503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40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40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86256-EB45-4E4D-B118-6AAD3CAF5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F5CF4-8FB9-4252-B34A-994A6F95C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4E6EF-B2A1-4321-893E-CCB3BD819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40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539160"/>
            <a:ext cx="40158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10328-91BB-4642-98C7-0D0CAB796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28840"/>
            <a:ext cx="8229600" cy="40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1851F-AE60-4E25-97A4-A2C33D43C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40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539160"/>
            <a:ext cx="40158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55A58-D6B5-4B71-989C-1CEE7BE48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539160"/>
            <a:ext cx="82296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F1413-D457-4D66-8205-C8A5FFF52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539160"/>
            <a:ext cx="82296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805E7-4566-43B4-B35C-2299A8DAD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539160"/>
            <a:ext cx="40158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539160"/>
            <a:ext cx="40158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C4031-5531-4681-8A8F-BDAB7E95D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26496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428840"/>
            <a:ext cx="26496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428840"/>
            <a:ext cx="26496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539160"/>
            <a:ext cx="26496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539160"/>
            <a:ext cx="26496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539160"/>
            <a:ext cx="26496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36CD9-5FD2-43D8-B036-FF8CEFC9F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B6F502-D167-461D-8E59-B3B599AAE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428840"/>
            <a:ext cx="8229600" cy="40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76C208-039D-4651-8548-3A4CC0D29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40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30DEC0-7131-4048-9063-7FEF1A4E4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40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40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6D4FCF-93A1-4E51-B058-AA384EDB6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CD739A-4518-4010-901D-5A37E430E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40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B22A6-4F95-491A-8EC3-0E47C0F74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BF3137-40A4-4937-8E72-D71EF9C71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40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539160"/>
            <a:ext cx="40158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AF11E3-15C0-4C29-A092-054B11A91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40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539160"/>
            <a:ext cx="40158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8D80E8-1B8C-4190-BE76-39CFFC331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539160"/>
            <a:ext cx="82296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757615-7AA6-4F81-B291-D3EF45A57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539160"/>
            <a:ext cx="82296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509CF3-E32D-4536-8144-452500D4E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539160"/>
            <a:ext cx="40158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539160"/>
            <a:ext cx="40158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764545-6F32-49F4-A551-C1F7F5D75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26496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428840"/>
            <a:ext cx="26496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428840"/>
            <a:ext cx="26496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539160"/>
            <a:ext cx="26496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539160"/>
            <a:ext cx="26496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539160"/>
            <a:ext cx="26496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1FC112-869F-426A-AB29-3BC48B68D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FEAFC7-0B79-4694-8A9A-A12CF0078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428840"/>
            <a:ext cx="8229600" cy="40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983946-22F8-44BA-9889-7ABDCDED5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40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0629C0-6ED6-47A1-9888-C971BFCB3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40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40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CADA4-6066-45A1-B00C-A8FCF67B8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40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40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9C3D80-AF92-4942-A314-60087C7D2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967D4E-6A3A-4BA5-86EB-30FA85BDE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C3FE3F-5112-45B5-9A75-98DD911B4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40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539160"/>
            <a:ext cx="40158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0693E9-4000-4D2F-BA5F-517BF05EB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40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539160"/>
            <a:ext cx="40158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21134D-B58A-4F57-9511-A080C5913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539160"/>
            <a:ext cx="82296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CEF5C9-95E3-4BEB-943D-6A2C5B363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539160"/>
            <a:ext cx="82296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878E05-FB26-4F70-BA4A-F8C33AEB4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539160"/>
            <a:ext cx="40158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539160"/>
            <a:ext cx="40158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CC120E-9FAD-4EED-A621-BDCD1A5BB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26496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428840"/>
            <a:ext cx="26496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428840"/>
            <a:ext cx="26496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539160"/>
            <a:ext cx="26496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539160"/>
            <a:ext cx="26496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539160"/>
            <a:ext cx="26496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C1ED05-20A7-4849-9A23-27709E57C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D89E93-7222-41A0-88ED-A8F5AD155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5E8AE-F653-430F-8B80-8710742E1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428840"/>
            <a:ext cx="8229600" cy="40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508973-F950-4020-83E3-134E4C771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40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A99A15-C696-47EF-A9C0-350FC10B4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40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40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B49308-7856-419F-AC1A-B66E5DDEB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61FF9F-022E-4F2A-83F9-2949BC594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EC8CC9-0A32-4A25-A6F0-06B0A4C8B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40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539160"/>
            <a:ext cx="40158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FE0AE1-736A-4079-B84A-FF25E0580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40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539160"/>
            <a:ext cx="40158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AA3EA7-D85E-4960-A504-D865C4AD3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539160"/>
            <a:ext cx="82296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6EE993-AFD5-4E4E-B372-8AE67AE51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539160"/>
            <a:ext cx="82296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0611D4-09E3-40EF-833A-EBA11FCFA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539160"/>
            <a:ext cx="40158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539160"/>
            <a:ext cx="40158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EA3105-B0A7-42F3-9954-AA9E1692A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CB97A-48C7-4454-A28A-A53A91CD0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26496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428840"/>
            <a:ext cx="26496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428840"/>
            <a:ext cx="26496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539160"/>
            <a:ext cx="26496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539160"/>
            <a:ext cx="26496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539160"/>
            <a:ext cx="26496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BE783E-B2D7-42DA-8459-1549FCBAB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BBF64C-7F9D-45A1-9589-ECA36BA4A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428840"/>
            <a:ext cx="8229600" cy="40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4EE9C8-1DEB-41C7-9345-68B735F58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40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867495-CE35-4485-9990-53B497B8F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40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40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D9966F-9E6E-4BD8-B17B-CB350773E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6D517C-3AD7-4C97-9E50-752FFA08D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B32DC7-B39F-4A51-B8E4-C5857DE03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40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539160"/>
            <a:ext cx="40158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8B73DE-F476-4826-9395-474E8A9E5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40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539160"/>
            <a:ext cx="40158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D0B50F-7575-4435-A292-9B80407A0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539160"/>
            <a:ext cx="82296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81C66A-5407-4CD1-BE3F-A0A128FB3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40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539160"/>
            <a:ext cx="40158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CDC85-97FE-4461-B6E5-94F252078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539160"/>
            <a:ext cx="82296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A5B256-C299-48AA-860B-6BC8EF328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539160"/>
            <a:ext cx="40158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539160"/>
            <a:ext cx="40158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340FAA-2084-47F3-AF82-DF3A85643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26496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428840"/>
            <a:ext cx="26496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428840"/>
            <a:ext cx="26496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539160"/>
            <a:ext cx="26496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539160"/>
            <a:ext cx="26496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539160"/>
            <a:ext cx="26496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53B1E9-2F0D-4E21-9F2D-6375A9850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7F0B9D-6396-4B4A-94C0-C5484AB82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428840"/>
            <a:ext cx="8229600" cy="40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EC156C-31C4-4FA2-B3B3-BDE863E58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40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661055-EE09-4E71-AC19-EFCE3CA4D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40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40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2B6E04-BFD6-4957-8C54-3E76DC236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CC434B-4C0E-410C-A623-BD36FA25F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8B3E11-ECC3-4C14-9C41-81618C293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40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539160"/>
            <a:ext cx="40158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566DA7-F41F-40DD-9AA7-7E7F76A16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40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539160"/>
            <a:ext cx="40158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78FFD-7451-4DE8-AEBF-215C5D181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40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539160"/>
            <a:ext cx="40158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691277-8C06-4614-B535-88E498F81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539160"/>
            <a:ext cx="82296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7C8A46-617D-4311-9638-4ECB8CBC3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539160"/>
            <a:ext cx="82296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3BCD1C-7257-4C07-AD6D-755741A79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539160"/>
            <a:ext cx="40158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539160"/>
            <a:ext cx="40158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AD2FDA-5CD0-4D38-92C6-4273E7A42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26496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428840"/>
            <a:ext cx="26496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428840"/>
            <a:ext cx="26496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539160"/>
            <a:ext cx="26496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539160"/>
            <a:ext cx="26496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539160"/>
            <a:ext cx="26496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0D77CC-1AA5-4EC3-A065-A57A88E38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29922D-25E6-4731-9B5C-D34E0FC2F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428840"/>
            <a:ext cx="8229600" cy="40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328100-9081-4CC2-A461-330E793D3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40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4BEA70-3BA5-4D5A-A38A-0A9564336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40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40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99B482-29C7-49E3-BCDC-47030502C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006377-7097-4278-87BD-ED542C1C7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539160"/>
            <a:ext cx="82296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21233-0C00-47BF-8640-54280CC9F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229600" cy="473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5753E1-1938-434E-AC07-0BDFB1BEE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40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539160"/>
            <a:ext cx="40158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9C3154-7C93-4859-BDB8-70895815D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40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539160"/>
            <a:ext cx="40158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D6BAB8-C267-46AE-867F-B07125552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539160"/>
            <a:ext cx="82296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7F8027-1D56-4A93-AFF8-087A95EAA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539160"/>
            <a:ext cx="82296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8AD97F-2073-487C-8F4C-8F7C0663F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158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428840"/>
            <a:ext cx="40158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539160"/>
            <a:ext cx="40158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539160"/>
            <a:ext cx="40158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C31325-7FD1-4601-924F-AD7D74145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26496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428840"/>
            <a:ext cx="26496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428840"/>
            <a:ext cx="26496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539160"/>
            <a:ext cx="26496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539160"/>
            <a:ext cx="26496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539160"/>
            <a:ext cx="2649600" cy="19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C36C23-9379-4F31-8719-426E67EE0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DEEF7D-B9A8-45F1-9123-33003FA33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428840"/>
            <a:ext cx="8229600" cy="40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7A9FE5-D5AB-42E8-9D9C-5B95EC91B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8229600" cy="40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C98801-6173-4837-897E-62E36777F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428840"/>
            <a:ext cx="8229600" cy="40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5673600"/>
            <a:ext cx="2133720" cy="3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A1521-9873-4E2C-B495-CC2D1DE15C11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673600"/>
            <a:ext cx="2895840" cy="3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5673600"/>
            <a:ext cx="2133720" cy="3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EC95F-5E39-45D4-ACBB-0B75F092D66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428840"/>
            <a:ext cx="8229600" cy="40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5673600"/>
            <a:ext cx="2133720" cy="3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90EA1-EAFF-4D3F-9436-F9D78100A68C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5673600"/>
            <a:ext cx="2895840" cy="3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5673600"/>
            <a:ext cx="2133720" cy="3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DD062-117A-4772-8DB4-311F527DE534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428840"/>
            <a:ext cx="8229600" cy="40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5673600"/>
            <a:ext cx="2133720" cy="3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6804A-23C8-499D-91B4-E17CEFB24890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5673600"/>
            <a:ext cx="2895840" cy="3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5673600"/>
            <a:ext cx="2133720" cy="3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CB8E6-FADB-43FC-9C76-338128BEDFF9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428840"/>
            <a:ext cx="8229600" cy="40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5673600"/>
            <a:ext cx="2133720" cy="3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4E478-6FCD-44F2-85FF-2A0BF245E741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5673600"/>
            <a:ext cx="2895840" cy="3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5673600"/>
            <a:ext cx="2133720" cy="3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7E934-B700-4FAC-9A10-E4338BA605C2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EBDF6-D388-4365-8826-043C0DAC200D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5FFBE-6BF5-4C38-BA4E-E561020FB448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428840"/>
            <a:ext cx="8229600" cy="40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5673600"/>
            <a:ext cx="2133720" cy="3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FC7E1-1805-4527-B2B7-A84FD24EAFBF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5673600"/>
            <a:ext cx="2895840" cy="3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5673600"/>
            <a:ext cx="2133720" cy="3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5B2C0-2C58-48B1-85C3-F481111BF147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428840"/>
            <a:ext cx="8229600" cy="40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5673600"/>
            <a:ext cx="2133720" cy="3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D9C5D-795F-4413-B85A-7D65D2C615DD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5673600"/>
            <a:ext cx="2895840" cy="3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5673600"/>
            <a:ext cx="2133720" cy="3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E64FC-1C1E-4F78-BE89-69BE23EC9127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428840"/>
            <a:ext cx="8229600" cy="40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5673600"/>
            <a:ext cx="2133720" cy="3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CB051-AC67-442E-A9E1-027C0426C4D7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5673600"/>
            <a:ext cx="2895840" cy="3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5673600"/>
            <a:ext cx="2133720" cy="3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CC31C-EB7B-46BE-9B5A-97582175E802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428840"/>
            <a:ext cx="8229600" cy="40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5673600"/>
            <a:ext cx="2133720" cy="3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2E20E-738D-4AF3-B7B0-577B4EB22560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5673600"/>
            <a:ext cx="2895840" cy="3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5673600"/>
            <a:ext cx="2133720" cy="3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93B85-024B-4F62-8622-1F74A8A8441F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428840"/>
            <a:ext cx="8229600" cy="40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5673600"/>
            <a:ext cx="2133720" cy="3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4AB1E-7AE7-4B44-B095-D63FED47C6DC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5673600"/>
            <a:ext cx="2895840" cy="3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5673600"/>
            <a:ext cx="2133720" cy="3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5AD1F-F060-4685-B0BD-3460ADF2D14D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428840"/>
            <a:ext cx="8229600" cy="40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5673600"/>
            <a:ext cx="2133720" cy="3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1B556-BC27-460E-BE55-58454E8FC2BC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5673600"/>
            <a:ext cx="2895840" cy="3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5673600"/>
            <a:ext cx="2133720" cy="3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62BAF-0E43-4013-8AFA-4B0A66B0AD97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428840"/>
            <a:ext cx="8229600" cy="40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5673600"/>
            <a:ext cx="2133720" cy="3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8C3B6-C04B-45D7-8E08-D5AD21C9BEFA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5673600"/>
            <a:ext cx="2895840" cy="3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5673600"/>
            <a:ext cx="2133720" cy="3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6FD3A-8F1D-4CD2-B459-BCADAC4B3EB6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22960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428840"/>
            <a:ext cx="8229600" cy="40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5673600"/>
            <a:ext cx="2133720" cy="3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19E84-76E0-43FA-903E-28C0C4071BAB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5673600"/>
            <a:ext cx="2895840" cy="3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5673600"/>
            <a:ext cx="2133720" cy="3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1CC6C-6462-4944-A4A5-7525DEF3D5AD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4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86C86-7567-41B9-8086-D129C1FB8D79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矩形 21"/>
          <p:cNvSpPr/>
          <p:nvPr/>
        </p:nvSpPr>
        <p:spPr>
          <a:xfrm>
            <a:off x="1928880" y="348768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矩形 16"/>
          <p:cNvSpPr/>
          <p:nvPr/>
        </p:nvSpPr>
        <p:spPr>
          <a:xfrm>
            <a:off x="4871880" y="522144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9" name="图片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113520"/>
          </a:xfrm>
          <a:prstGeom prst="rect">
            <a:avLst/>
          </a:prstGeom>
          <a:ln w="0">
            <a:noFill/>
          </a:ln>
        </p:spPr>
      </p:pic>
      <p:sp>
        <p:nvSpPr>
          <p:cNvPr id="540" name="Text Box 154"/>
          <p:cNvSpPr/>
          <p:nvPr/>
        </p:nvSpPr>
        <p:spPr>
          <a:xfrm>
            <a:off x="4870440" y="9477360"/>
            <a:ext cx="21589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</a:rPr>
              <a:t>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 baseline="-25000">
                <a:solidFill>
                  <a:srgbClr val="000000"/>
                </a:solidFill>
                <a:latin typeface="Calibri"/>
              </a:rPr>
              <a:t>●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-25000">
                <a:solidFill>
                  <a:srgbClr val="000000"/>
                </a:solidFill>
                <a:latin typeface="Calibri"/>
              </a:rPr>
              <a:t>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 baseline="-25000">
                <a:solidFill>
                  <a:srgbClr val="000000"/>
                </a:solidFill>
                <a:latin typeface="Calibri"/>
              </a:rPr>
              <a:t>●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baseline="-25000">
                <a:solidFill>
                  <a:srgbClr val="000000"/>
                </a:solidFill>
                <a:latin typeface="Calibri"/>
              </a:rPr>
              <a:t>●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 baseline="-25000">
                <a:solidFill>
                  <a:srgbClr val="000000"/>
                </a:solidFill>
                <a:latin typeface="Calibri"/>
              </a:rPr>
              <a:t>●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baseline="-25000">
                <a:solidFill>
                  <a:srgbClr val="000000"/>
                </a:solidFill>
                <a:latin typeface="Calibri"/>
              </a:rPr>
              <a:t>●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●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baseline="-25000">
                <a:solidFill>
                  <a:srgbClr val="000000"/>
                </a:solidFill>
                <a:latin typeface="Calibri"/>
              </a:rPr>
              <a:t>●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 baseline="-25000">
                <a:solidFill>
                  <a:srgbClr val="000000"/>
                </a:solidFill>
                <a:latin typeface="Calibri"/>
              </a:rPr>
              <a:t>●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baseline="-25000">
                <a:solidFill>
                  <a:srgbClr val="000000"/>
                </a:solidFill>
                <a:latin typeface="Calibri"/>
              </a:rPr>
              <a:t>●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 baseline="-25000">
                <a:solidFill>
                  <a:srgbClr val="000000"/>
                </a:solidFill>
                <a:latin typeface="Calibri"/>
              </a:rPr>
              <a:t>●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 baseline="-25000">
                <a:solidFill>
                  <a:srgbClr val="000000"/>
                </a:solidFill>
                <a:latin typeface="Calibri"/>
              </a:rPr>
              <a:t>●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-25000">
                <a:solidFill>
                  <a:srgbClr val="000000"/>
                </a:solidFill>
                <a:latin typeface="Calibri"/>
              </a:rPr>
              <a:t>● 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 baseline="-25000">
                <a:solidFill>
                  <a:srgbClr val="000000"/>
                </a:solidFill>
                <a:latin typeface="Calibri"/>
              </a:rPr>
              <a:t>●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 baseline="-25000">
                <a:solidFill>
                  <a:srgbClr val="000000"/>
                </a:solidFill>
                <a:latin typeface="Calibri"/>
              </a:rPr>
              <a:t>●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baseline="-25000">
                <a:solidFill>
                  <a:srgbClr val="000000"/>
                </a:solidFill>
                <a:latin typeface="Calibri"/>
              </a:rPr>
              <a:t>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baseline="-25000">
                <a:solidFill>
                  <a:srgbClr val="000000"/>
                </a:solidFill>
                <a:latin typeface="Calibri"/>
              </a:rPr>
              <a:t>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baseline="-25000">
                <a:solidFill>
                  <a:srgbClr val="000000"/>
                </a:solidFill>
                <a:latin typeface="Calibri"/>
              </a:rPr>
              <a:t>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baseline="-25000">
                <a:solidFill>
                  <a:srgbClr val="000000"/>
                </a:solidFill>
                <a:latin typeface="Calibri"/>
              </a:rPr>
              <a:t>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baseline="-25000">
                <a:solidFill>
                  <a:srgbClr val="000000"/>
                </a:solidFill>
                <a:latin typeface="Calibri"/>
              </a:rPr>
              <a:t>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baseline="-25000">
                <a:solidFill>
                  <a:srgbClr val="000000"/>
                </a:solidFill>
                <a:latin typeface="Calibri"/>
              </a:rPr>
              <a:t>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baseline="-25000">
                <a:solidFill>
                  <a:srgbClr val="000000"/>
                </a:solidFill>
                <a:latin typeface="Calibri"/>
              </a:rPr>
              <a:t>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baseline="-25000">
                <a:solidFill>
                  <a:srgbClr val="000000"/>
                </a:solidFill>
                <a:latin typeface="Calibri"/>
              </a:rPr>
              <a:t>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 baseline="-25000">
                <a:solidFill>
                  <a:srgbClr val="000000"/>
                </a:solidFill>
                <a:latin typeface="Calibri"/>
              </a:rPr>
              <a:t>●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 baseline="-25000">
                <a:solidFill>
                  <a:srgbClr val="000000"/>
                </a:solidFill>
                <a:latin typeface="Calibri"/>
              </a:rPr>
              <a:t>●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 baseline="-25000">
                <a:solidFill>
                  <a:srgbClr val="000000"/>
                </a:solidFill>
                <a:latin typeface="Calibri"/>
              </a:rPr>
              <a:t>●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 baseline="-25000">
                <a:solidFill>
                  <a:srgbClr val="000000"/>
                </a:solidFill>
                <a:latin typeface="Calibri"/>
              </a:rPr>
              <a:t>●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baseline="-25000">
                <a:solidFill>
                  <a:srgbClr val="000000"/>
                </a:solidFill>
                <a:latin typeface="Calibri"/>
              </a:rPr>
              <a:t>●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 baseline="-25000">
                <a:solidFill>
                  <a:srgbClr val="000000"/>
                </a:solidFill>
                <a:latin typeface="Calibri"/>
              </a:rPr>
              <a:t>●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baseline="-25000">
                <a:solidFill>
                  <a:srgbClr val="000000"/>
                </a:solidFill>
                <a:latin typeface="Calibri"/>
              </a:rPr>
              <a:t>●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baseline="-25000">
                <a:solidFill>
                  <a:srgbClr val="000000"/>
                </a:solidFill>
                <a:latin typeface="Calibri"/>
              </a:rPr>
              <a:t>●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baseline="-25000">
                <a:solidFill>
                  <a:srgbClr val="000000"/>
                </a:solidFill>
                <a:latin typeface="Calibri"/>
              </a:rPr>
              <a:t>●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 baseline="-25000">
                <a:solidFill>
                  <a:srgbClr val="000000"/>
                </a:solidFill>
                <a:latin typeface="Calibri"/>
              </a:rPr>
              <a:t>●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baseline="-25000">
                <a:solidFill>
                  <a:srgbClr val="000000"/>
                </a:solidFill>
                <a:latin typeface="Calibri"/>
              </a:rPr>
              <a:t>●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-25000">
                <a:solidFill>
                  <a:srgbClr val="000000"/>
                </a:solidFill>
                <a:latin typeface="Calibri"/>
              </a:rPr>
              <a:t>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 baseline="-25000">
                <a:solidFill>
                  <a:srgbClr val="000000"/>
                </a:solidFill>
                <a:latin typeface="Calibri"/>
              </a:rPr>
              <a:t>●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-25000">
                <a:solidFill>
                  <a:srgbClr val="000000"/>
                </a:solidFill>
                <a:latin typeface="Calibri"/>
              </a:rPr>
              <a:t>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 baseline="-25000">
                <a:solidFill>
                  <a:srgbClr val="000000"/>
                </a:solidFill>
                <a:latin typeface="Calibri"/>
              </a:rPr>
              <a:t>●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</a:rPr>
              <a:t>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 baseline="-25000">
                <a:solidFill>
                  <a:srgbClr val="000000"/>
                </a:solidFill>
                <a:latin typeface="Calibri"/>
              </a:rPr>
              <a:t>●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baseline="-25000">
                <a:solidFill>
                  <a:srgbClr val="000000"/>
                </a:solidFill>
                <a:latin typeface="Calibri"/>
              </a:rPr>
              <a:t>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baseline="-25000">
                <a:solidFill>
                  <a:srgbClr val="000000"/>
                </a:solidFill>
                <a:latin typeface="Calibri"/>
              </a:rPr>
              <a:t>●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baseline="-25000">
                <a:solidFill>
                  <a:srgbClr val="000000"/>
                </a:solidFill>
                <a:latin typeface="Calibri"/>
              </a:rPr>
              <a:t>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 baseline="-25000">
                <a:solidFill>
                  <a:srgbClr val="000000"/>
                </a:solidFill>
                <a:latin typeface="Calibri"/>
              </a:rPr>
              <a:t>●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baseline="-25000">
                <a:solidFill>
                  <a:srgbClr val="000000"/>
                </a:solidFill>
                <a:latin typeface="Calibri"/>
              </a:rPr>
              <a:t>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 baseline="-25000">
                <a:solidFill>
                  <a:srgbClr val="000000"/>
                </a:solidFill>
                <a:latin typeface="Calibri"/>
              </a:rPr>
              <a:t>●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baseline="-25000">
                <a:solidFill>
                  <a:srgbClr val="000000"/>
                </a:solidFill>
                <a:latin typeface="Calibri"/>
              </a:rPr>
              <a:t>●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baseline="-25000">
                <a:solidFill>
                  <a:srgbClr val="000000"/>
                </a:solidFill>
                <a:latin typeface="Calibri"/>
              </a:rPr>
              <a:t>●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baseline="-25000">
                <a:solidFill>
                  <a:srgbClr val="000000"/>
                </a:solidFill>
                <a:latin typeface="Calibri"/>
              </a:rPr>
              <a:t>●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baseline="-25000">
                <a:solidFill>
                  <a:srgbClr val="000000"/>
                </a:solidFill>
                <a:latin typeface="Calibri"/>
              </a:rPr>
              <a:t>●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baseline="-25000">
                <a:solidFill>
                  <a:srgbClr val="000000"/>
                </a:solidFill>
                <a:latin typeface="Calibri"/>
              </a:rPr>
              <a:t>●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baseline="-25000">
                <a:solidFill>
                  <a:srgbClr val="000000"/>
                </a:solidFill>
                <a:latin typeface="Calibri"/>
              </a:rPr>
              <a:t>●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baseline="-25000">
                <a:solidFill>
                  <a:srgbClr val="000000"/>
                </a:solidFill>
                <a:latin typeface="Calibri"/>
              </a:rPr>
              <a:t>●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baseline="-25000">
                <a:solidFill>
                  <a:srgbClr val="000000"/>
                </a:solidFill>
                <a:latin typeface="Calibri"/>
              </a:rPr>
              <a:t>●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baseline="-25000">
                <a:solidFill>
                  <a:srgbClr val="000000"/>
                </a:solidFill>
                <a:latin typeface="Calibri"/>
              </a:rPr>
              <a:t>●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baseline="-25000">
                <a:solidFill>
                  <a:srgbClr val="000000"/>
                </a:solidFill>
                <a:latin typeface="Calibri"/>
              </a:rPr>
              <a:t>●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baseline="-25000">
                <a:solidFill>
                  <a:srgbClr val="000000"/>
                </a:solidFill>
                <a:latin typeface="Calibri"/>
              </a:rPr>
              <a:t>●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baseline="-25000">
                <a:solidFill>
                  <a:srgbClr val="000000"/>
                </a:solidFill>
                <a:latin typeface="Calibri"/>
              </a:rPr>
              <a:t>●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baseline="-25000">
                <a:solidFill>
                  <a:srgbClr val="000000"/>
                </a:solidFill>
                <a:latin typeface="Calibri"/>
              </a:rPr>
              <a:t>●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baseline="-25000">
                <a:solidFill>
                  <a:srgbClr val="000000"/>
                </a:solidFill>
                <a:latin typeface="Calibri"/>
              </a:rPr>
              <a:t>●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1" name="图片 4" descr=""/>
          <p:cNvPicPr/>
          <p:nvPr/>
        </p:nvPicPr>
        <p:blipFill>
          <a:blip r:embed="rId2"/>
          <a:srcRect l="20556" t="0" r="0" b="8203"/>
          <a:stretch/>
        </p:blipFill>
        <p:spPr>
          <a:xfrm>
            <a:off x="0" y="4124160"/>
            <a:ext cx="4583160" cy="2008440"/>
          </a:xfrm>
          <a:prstGeom prst="rect">
            <a:avLst/>
          </a:prstGeom>
          <a:ln w="0">
            <a:noFill/>
          </a:ln>
        </p:spPr>
      </p:pic>
      <p:pic>
        <p:nvPicPr>
          <p:cNvPr id="542" name="图片 7" descr=""/>
          <p:cNvPicPr/>
          <p:nvPr/>
        </p:nvPicPr>
        <p:blipFill>
          <a:blip r:embed="rId3"/>
          <a:stretch/>
        </p:blipFill>
        <p:spPr>
          <a:xfrm>
            <a:off x="1476360" y="973080"/>
            <a:ext cx="6437160" cy="4803840"/>
          </a:xfrm>
          <a:prstGeom prst="rect">
            <a:avLst/>
          </a:prstGeom>
          <a:ln w="0">
            <a:noFill/>
          </a:ln>
        </p:spPr>
      </p:pic>
      <p:pic>
        <p:nvPicPr>
          <p:cNvPr id="543" name="图片 8" descr=""/>
          <p:cNvPicPr/>
          <p:nvPr/>
        </p:nvPicPr>
        <p:blipFill>
          <a:blip r:embed="rId4"/>
          <a:stretch/>
        </p:blipFill>
        <p:spPr>
          <a:xfrm>
            <a:off x="4495680" y="1203480"/>
            <a:ext cx="2362320" cy="1444320"/>
          </a:xfrm>
          <a:prstGeom prst="rect">
            <a:avLst/>
          </a:prstGeom>
          <a:ln w="0">
            <a:noFill/>
          </a:ln>
        </p:spPr>
      </p:pic>
      <p:pic>
        <p:nvPicPr>
          <p:cNvPr id="544" name="图片 9" descr=""/>
          <p:cNvPicPr/>
          <p:nvPr/>
        </p:nvPicPr>
        <p:blipFill>
          <a:blip r:embed="rId5"/>
          <a:stretch/>
        </p:blipFill>
        <p:spPr>
          <a:xfrm>
            <a:off x="6299280" y="181080"/>
            <a:ext cx="1882800" cy="3490920"/>
          </a:xfrm>
          <a:prstGeom prst="rect">
            <a:avLst/>
          </a:prstGeom>
          <a:ln w="0">
            <a:noFill/>
          </a:ln>
        </p:spPr>
      </p:pic>
      <p:pic>
        <p:nvPicPr>
          <p:cNvPr id="545" name="图片 10" descr=""/>
          <p:cNvPicPr/>
          <p:nvPr/>
        </p:nvPicPr>
        <p:blipFill>
          <a:blip r:embed="rId6"/>
          <a:stretch/>
        </p:blipFill>
        <p:spPr>
          <a:xfrm>
            <a:off x="7481880" y="1052640"/>
            <a:ext cx="1627200" cy="1685880"/>
          </a:xfrm>
          <a:prstGeom prst="rect">
            <a:avLst/>
          </a:prstGeom>
          <a:ln w="0">
            <a:noFill/>
          </a:ln>
        </p:spPr>
      </p:pic>
      <p:pic>
        <p:nvPicPr>
          <p:cNvPr id="546" name="图片 13" descr=""/>
          <p:cNvPicPr/>
          <p:nvPr/>
        </p:nvPicPr>
        <p:blipFill>
          <a:blip r:embed="rId7"/>
          <a:srcRect l="0" t="0" r="72738" b="8204"/>
          <a:stretch/>
        </p:blipFill>
        <p:spPr>
          <a:xfrm>
            <a:off x="7570800" y="4130640"/>
            <a:ext cx="1573200" cy="2008080"/>
          </a:xfrm>
          <a:prstGeom prst="rect">
            <a:avLst/>
          </a:prstGeom>
          <a:ln w="0">
            <a:noFill/>
          </a:ln>
        </p:spPr>
      </p:pic>
      <p:pic>
        <p:nvPicPr>
          <p:cNvPr id="547" name="图片 14" descr=""/>
          <p:cNvPicPr/>
          <p:nvPr/>
        </p:nvPicPr>
        <p:blipFill>
          <a:blip r:embed="rId8"/>
          <a:stretch/>
        </p:blipFill>
        <p:spPr>
          <a:xfrm>
            <a:off x="-109440" y="1231920"/>
            <a:ext cx="1541520" cy="779400"/>
          </a:xfrm>
          <a:prstGeom prst="rect">
            <a:avLst/>
          </a:prstGeom>
          <a:ln w="0">
            <a:noFill/>
          </a:ln>
        </p:spPr>
      </p:pic>
      <p:sp>
        <p:nvSpPr>
          <p:cNvPr id="548" name="TextBox 17"/>
          <p:cNvSpPr/>
          <p:nvPr/>
        </p:nvSpPr>
        <p:spPr>
          <a:xfrm>
            <a:off x="3847680" y="2590920"/>
            <a:ext cx="3100680" cy="20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404040"/>
                </a:solidFill>
                <a:latin typeface="隶书"/>
                <a:ea typeface="隶书"/>
              </a:rPr>
              <a:t>中秋八月中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404040"/>
                </a:solidFill>
                <a:latin typeface="隶书"/>
                <a:ea typeface="隶书"/>
              </a:rPr>
              <a:t>美景伴人行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404040"/>
                </a:solidFill>
                <a:latin typeface="隶书"/>
                <a:ea typeface="隶书"/>
              </a:rPr>
              <a:t>愿皎月添你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404040"/>
                </a:solidFill>
                <a:latin typeface="隶书"/>
                <a:ea typeface="隶书"/>
              </a:rPr>
              <a:t>桂香增你喜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404040"/>
                </a:solidFill>
                <a:latin typeface="隶书"/>
                <a:ea typeface="隶书"/>
              </a:rPr>
              <a:t>玉兔伴你乐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404040"/>
                </a:solidFill>
                <a:latin typeface="隶书"/>
                <a:ea typeface="隶书"/>
              </a:rPr>
              <a:t>嫦娥共你舞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404040"/>
                </a:solidFill>
                <a:latin typeface="隶书"/>
                <a:ea typeface="隶书"/>
              </a:rPr>
              <a:t>祝愿佳节快乐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404040"/>
                </a:solidFill>
                <a:latin typeface="隶书"/>
                <a:ea typeface="隶书"/>
              </a:rPr>
              <a:t>花好月圆合家欢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9" name="图片 11" descr=""/>
          <p:cNvPicPr/>
          <p:nvPr/>
        </p:nvPicPr>
        <p:blipFill>
          <a:blip r:embed="rId9"/>
          <a:stretch/>
        </p:blipFill>
        <p:spPr>
          <a:xfrm>
            <a:off x="1187280" y="396720"/>
            <a:ext cx="2468880" cy="2436840"/>
          </a:xfrm>
          <a:prstGeom prst="rect">
            <a:avLst/>
          </a:prstGeom>
          <a:ln w="0">
            <a:noFill/>
          </a:ln>
        </p:spPr>
      </p:pic>
      <p:grpSp>
        <p:nvGrpSpPr>
          <p:cNvPr id="550" name="组合 2"/>
          <p:cNvGrpSpPr/>
          <p:nvPr/>
        </p:nvGrpSpPr>
        <p:grpSpPr>
          <a:xfrm>
            <a:off x="1630440" y="2206800"/>
            <a:ext cx="2160360" cy="1433160"/>
            <a:chOff x="1630440" y="2206800"/>
            <a:chExt cx="2160360" cy="1433160"/>
          </a:xfrm>
        </p:grpSpPr>
        <p:pic>
          <p:nvPicPr>
            <p:cNvPr id="551" name="图片 12" descr=""/>
            <p:cNvPicPr/>
            <p:nvPr/>
          </p:nvPicPr>
          <p:blipFill>
            <a:blip r:embed="rId10"/>
            <a:stretch/>
          </p:blipFill>
          <p:spPr>
            <a:xfrm>
              <a:off x="1630440" y="2206800"/>
              <a:ext cx="2160360" cy="93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2" name="矩形 1"/>
            <p:cNvSpPr/>
            <p:nvPr/>
          </p:nvSpPr>
          <p:spPr>
            <a:xfrm>
              <a:off x="1880640" y="2845080"/>
              <a:ext cx="1443600" cy="79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53" name="文本框 14353"/>
          <p:cNvSpPr/>
          <p:nvPr/>
        </p:nvSpPr>
        <p:spPr>
          <a:xfrm>
            <a:off x="108000" y="5724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宋体"/>
              </a:rPr>
              <a:t>幻灯片之家 </a:t>
            </a:r>
            <a:r>
              <a:rPr b="1" lang="en-US" sz="1600" spc="-1" strike="noStrike">
                <a:solidFill>
                  <a:srgbClr val="ffffff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文本框 14354"/>
          <p:cNvSpPr/>
          <p:nvPr/>
        </p:nvSpPr>
        <p:spPr>
          <a:xfrm>
            <a:off x="2184480" y="252360"/>
            <a:ext cx="4547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中秋节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动画模板免费下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8625 0.97508 L -4.16667E-006 -6.33437E-007 E">
                                      <p:cBhvr>
                                        <p:cTn id="8" dur="4000" fill="hold"/>
                                        <p:tgtEl>
                                          <p:spTgt spid="5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8625 0.97508 L -3.61111E-006 9.13811E-007 E">
                                      <p:cBhvr>
                                        <p:cTn id="10" dur="4000" fill="hold"/>
                                        <p:tgtEl>
                                          <p:spTgt spid="5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" dur="indefinite" autoRev="1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" dur="1000" fill="hold"/>
                                        <p:tgtEl>
                                          <p:spTgt spid="550"/>
                                        </p:tgtEl>
                                      </p:cBhvr>
                                      <p:to x="100000" y="80000"/>
                                    </p:animScale>
                                  </p:childTnLst>
                                </p:cTn>
                              </p:par>
                              <p:par>
                                <p:cTn id="13" dur="indefinite" autoRev="1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" dur="1000" fill="hold"/>
                                        <p:tgtEl>
                                          <p:spTgt spid="550"/>
                                        </p:tgtEl>
                                      </p:cBhvr>
                                      <p:to x="12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5" dur="indefinite" autoRev="1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" dur="1000" fill="hold"/>
                                        <p:tgtEl>
                                          <p:spTgt spid="547"/>
                                        </p:tgtEl>
                                      </p:cBhvr>
                                      <p:to x="100000" y="80000"/>
                                    </p:animScale>
                                  </p:childTnLst>
                                </p:cTn>
                              </p:par>
                              <p:par>
                                <p:cTn id="17" dur="indefinite" autoRev="1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" dur="1000" fill="hold"/>
                                        <p:tgtEl>
                                          <p:spTgt spid="547"/>
                                        </p:tgtEl>
                                      </p:cBhvr>
                                      <p:to x="12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9" dur="indefinite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dur="indefinite" nodeType="withEffect" fill="hold" presetClass="path" presetID="0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-0.20209 -0.00026 L 2.77778E-006 -2.25337E-006 E">
                                      <p:cBhvr>
                                        <p:cTn id="22" dur="2000" fill="hold"/>
                                        <p:tgtEl>
                                          <p:spTgt spid="5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" dur="indefinite" nodeType="with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dur="indefinite" nodeType="with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dur="indefinite" nodeType="with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dur="indefinite" nodeType="withEffect" fill="hold" presetClass="entr" presetID="22" presetSubtype="8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dur="indefinite" nodeType="with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dur="indefinite" nodeType="withEffect" fill="hold" presetClass="entr" presetID="1">
                                  <p:stCondLst>
                                    <p:cond delay="32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dur="indefinite" nodeType="withEffect" fill="hold" presetClass="path" presetID="0">
                                  <p:stCondLst>
                                    <p:cond delay="3000"/>
                                  </p:stCondLst>
                                  <p:childTnLst>
                                    <p:animMotion origin="layout" path="M -0.00157 -0.59721 L 1.94444E-006 -6.80664E-006 E">
                                      <p:cBhvr>
                                        <p:cTn id="44" dur="200" fill="hold"/>
                                        <p:tgtEl>
                                          <p:spTgt spid="5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5" dur="indefinite" nodeType="withEffect" fill="hold" presetClass="path" presetID="0">
                                  <p:stCondLst>
                                    <p:cond delay="3200"/>
                                  </p:stCondLst>
                                  <p:childTnLst>
                                    <p:animMotion origin="layout" path="M -0.00157 -0.59721 L 1.94444E-006 -6.80664E-006 E">
                                      <p:cBhvr>
                                        <p:cTn id="46" dur="200" fill="hold"/>
                                        <p:tgtEl>
                                          <p:spTgt spid="5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" dur="indefinite" nodeType="withEffect" fill="hold" presetClass="emph" presetID="32">
                                  <p:stCondLst>
                                    <p:cond delay="3200"/>
                                  </p:stCondLst>
                                  <p:childTnLst>
                                    <p:animRot by="120000">
                                      <p:cBhvr>
                                        <p:cTn id="48" dur="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49" dur="60" fill="hold">
                                          <p:stCondLst>
                                            <p:cond delay="6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0" dur="60" fill="hold">
                                          <p:stCondLst>
                                            <p:cond delay="12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51" dur="60" fill="hold">
                                          <p:stCondLst>
                                            <p:cond delay="18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2" dur="60" fill="hold">
                                          <p:stCondLst>
                                            <p:cond delay="24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3" dur="indefinite" nodeType="withEffect" fill="hold" presetClass="emph" presetID="32">
                                  <p:stCondLst>
                                    <p:cond delay="3400"/>
                                  </p:stCondLst>
                                  <p:childTnLst>
                                    <p:animRot by="120000">
                                      <p:cBhvr>
                                        <p:cTn id="54" dur="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55" dur="60" fill="hold">
                                          <p:stCondLst>
                                            <p:cond delay="6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6" dur="60" fill="hold">
                                          <p:stCondLst>
                                            <p:cond delay="12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940">
                                      <p:cBhvr>
                                        <p:cTn id="57" dur="60" fill="hold">
                                          <p:stCondLst>
                                            <p:cond delay="18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8" dur="60" fill="hold">
                                          <p:stCondLst>
                                            <p:cond delay="24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9" dur="indefinite" nodeType="withEffect" fill="hold" presetClass="emph" presetID="9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0" dur="indefinite"/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200000002980232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dur="indefinite" nodeType="withEffect" fill="hold" presetClass="path" presetID="0">
                                  <p:stCondLst>
                                    <p:cond delay="3500"/>
                                  </p:stCondLst>
                                  <p:iterate type="wd">
                                    <p:tmAbs val="4.99999988824129"/>
                                  </p:iterate>
                                  <p:childTnLst>
                                    <p:animMotion origin="layout" path="M -0.16336 -0.71796 C -0.14461 -0.73378 -0.10937 -0.81162 -0.05069 -0.81059 C 0.00799 -0.80955 0.1632 -0.70394 0.18907 -0.71121 C 0.21494 -0.71796 0.14775 -0.85054 0.10487 -0.8534 C 0.06198 -0.85625 -0.00746 -0.73975 -0.06822 -0.72781 C -0.12899 -0.71536 -0.23732 -0.75376 -0.26024 -0.77971 C -0.28316 -0.80566 -0.23958 -0.86741 -0.20625 -0.88402 C -0.17291 -0.90062 -0.121 -0.88454 -0.06024 -0.87935 C 0.000530000000000003 -0.87416 0.11598 -0.8905 0.15886 -0.8534 C 0.20174 -0.81629 0.26806 -0.64608 0.19688 -0.65672 C 0.1257 -0.6671 -0.17986 -0.89777 -0.26822 -0.91723 C -0.35659 -0.93669 -0.33263 -0.81136 -0.33316 -0.7727 C -0.33368 -0.7343 -0.30416 -0.69875 -0.27135 -0.68474 C -0.23854 -0.67177 -0.17847 -0.69071 -0.13645 -0.69227 C -0.09444 -0.69486 -0.10503 -0.71536 -0.01875 -0.69642 C 0.06754 -0.67774 0.34046 -0.55838 0.38108 -0.57862 C 0.42171 -0.5986 0.25886 -0.78282 0.22553 -0.81759 C 0.19219 -0.85236 0.19028 -0.80799 0.18108 -0.78697 C 0.17188 -0.76596 0.19931 -0.71925 0.16997 -0.69201 C 0.14063 -0.66476 0.05365 -0.61002 0.00487 -0.62351 C -0.04392 -0.637 -0.08142 -0.76544 -0.12326 -0.77322 C -0.1651 -0.78101 -0.23611 -0.64816 -0.246 -0.67099 C -0.2559 -0.69382 -0.20816 -0.96627 -0.18211 -0.91074 C -0.15607 -0.85522 -0.1085 -0.45693 -0.08941 -0.33757 E">
                                      <p:cBhvr>
                                        <p:cTn id="62" dur="25000" fill="hold"/>
                                        <p:tgtEl>
                                          <p:spTgt spid="5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" dur="indefinite" autoRev="1" nodeType="withEffect" fill="hold" presetClass="emph" presetID="6" repeatCount="indefinite">
                                  <p:stCondLst>
                                    <p:cond delay="350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animScale>
                                      <p:cBhvr>
                                        <p:cTn id="64" dur="1000" fill="hold"/>
                                        <p:tgtEl>
                                          <p:spTgt spid="540"/>
                                        </p:tgtEl>
                                      </p:cBhvr>
                                      <p:to x="9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5" dur="indefinite" nodeType="withEffect" fill="hold" presetClass="entr" presetID="41">
                                  <p:stCondLst>
                                    <p:cond delay="400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2T06:35:34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1-24T03:29:19Z</dcterms:modified>
  <cp:revision>17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58</vt:lpwstr>
  </property>
</Properties>
</file>