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C5A-EFDC-4EEA-B86D-16F5B852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F0D-312C-4640-A033-FEEAB2D1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33685-4C8C-453E-9A80-5B8F3350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6CAFB-DEF2-4EA3-B846-C8AD6876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19605-7E22-4F37-8405-D024CF64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5CCF7-B76D-45C5-8987-A2BD97BA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32CAB-FC35-463F-8472-5166EFCB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32F76-8EF6-4B0B-A24B-B4EBE9FE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5D02A-4EBD-4838-884C-3E5CDA14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27E60-C6AD-4BAC-B4B2-CF30D3B2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8DFA2-08DA-436C-8B01-7888E9A6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EBC13-C71C-4BD1-A03E-A1C7716B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E5E-C741-4540-B31F-CD4B0628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A987B-158E-4025-907A-1203BC59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41BD5-0FED-4335-8249-B64D655A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BE154-3E48-4606-B684-A058C0FE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66CB1-B924-4C91-828B-89E23A8B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407EF-1274-4D7D-8DEB-F6E1D2AC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127BC-A99B-4B48-8DE5-87B9B6FD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A8AAE-6856-42E4-87BB-65E0DCE0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A45FC-441C-4580-85F1-8364C5BF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4EBCF-B5E2-4360-96EE-58AED829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C03C7-60C0-4DFA-83FB-C4E3DBA8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B19-3456-4A9D-8064-E9633AF9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CFCAE-A1BC-495D-8175-A39E4B75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16343-AC3E-46B6-9B52-311EDAA3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1D6BD-A9BA-4ADA-90A0-49E0174A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FDA95-F603-413B-8E92-38D995F6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1D338-AFF9-4C0B-8561-2694D117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5E226-7A8A-4B74-9E38-2DEFBE49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D3684-17AC-4C15-81E5-7EA9DD54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D0285-EF72-4207-90F2-19B46B0C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05562-99AD-40F0-A3C2-BBEBD1C5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DE489-8144-4D54-8932-75BD06DC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6843-29F9-4758-AC5D-ECF2914A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56633-EAF8-4CFD-B550-EAB21E5E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509D7-6479-4753-A72C-850C148D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4A9B6-A5D8-47E7-B076-A445FB7C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7AA2C-773D-4536-A565-EADBFF29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F60C8-2417-4D97-9497-B8DB25DE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451E5-D7AE-4511-89FB-085B872B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F401B-4222-4757-918B-FFA667D4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72234-A1F5-4448-80E7-D464E6A5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5980E-771D-40EE-B8BC-572E7B53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0C91C-ABFB-4088-95F2-AFF5E983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6775-808A-4570-A0B6-BDB6164F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BC805-447A-410F-A018-4780C0FA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55E1F-8134-42C7-8497-3C739453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5C2F9-651D-400B-AE05-3D6D8535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8D2C2-5132-4A77-990A-544C353B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D973C-AFCB-4BF1-ACAC-EB16DFB2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04384-F60F-41BB-B1E9-66DCC472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C82C6-DE1D-4620-BF3F-1887A2F2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DD855-AE83-4011-935A-80DF896D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96CEB-E59D-4F05-9C16-151DF779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D38CC-E695-4524-ADBA-B8C83479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907D-20BF-4728-A038-1B3A19F4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D6237-E090-435F-8D65-DA740F93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09EAA-F6F3-4695-8DC9-D762E7C1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579B9-4A6B-45BB-AF1D-8A92D019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09C72-76CF-4436-AA56-BDDF0D56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DECAE-EBFD-4CE1-A68D-12CCABF7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B85BB-9033-4765-BF33-3D5D4CDD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8FC85-B491-41B0-B9E7-601B2FBE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8B545-6750-4491-9DF6-AC1A3806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1E417-51BC-4927-94FA-24A5E923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5E003-F018-4556-9FB5-EF4FFC96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75FD-3A29-40AC-A368-32BE5660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4357D-53DE-49EA-98AF-D29A99BE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5D8A3-4EEE-4611-90E7-F9C6F60B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3EA40-B2ED-472C-8182-96F2E8FA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3355B-A898-4E92-9B25-114FE4BF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16EE1-E167-4526-9375-2B86A8B3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AAE25-1398-4092-96A1-7B46464D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0B62F-E750-4671-B5E6-C2778801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6EFD3-3979-4E00-B937-4ADEE13A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3C115-8375-47DF-A260-B6FBC1FD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D678-28E5-43F9-A47D-D4FF3EC9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D730-533A-436D-915C-66D113CA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BFBD-A4AD-466C-A632-0D75034C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54D-5FD4-4DC1-86A3-D4B85E8F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CEBD-B78C-47F1-BD5E-50B0A53F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2F11-8D50-4A24-8873-3967BC54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AA43-D882-4673-8CF7-B030D23A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0490-D1FD-4BE1-B6D2-AE435F43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E8B9-B4F9-45C6-8680-7A5257FE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BD0F-8280-4A62-9368-FCF81AA0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0557B-34B4-4262-87C6-06281B36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AA1D6-6EDB-4CD3-817A-126B8CD2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D068-EA05-4997-9A6B-F54738C7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E0F4-503A-4DB4-8759-B63976C5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9F5-403B-4386-A2AB-FF27F8BA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5C671-5ABA-42E9-A8F3-C2ACF8A1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AF954-8C52-4AB3-B816-A1CFF5CE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1FCC1-28CB-4021-BDFF-AC2DC9B8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DA66E-86BA-410D-ACF3-D42B7D76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73BC-E075-4C9E-BCCB-C151A255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257D-FF56-4BB2-9112-527533E0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0530-D00A-4A4E-83C6-8E19C20D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89AC-6299-424D-AA3F-A25F28ED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EE525-05F7-47F5-9CFA-E2BB7B9A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7842-DD4F-4F3B-AACD-4C580EC6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B89-BAB0-4D89-8046-27269A0E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1F5E-E108-4F99-B638-19BFAF46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C3930-9833-460A-B673-19179332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EE40-BE1D-4064-B9BF-F12F1C14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20153-DA2D-4D41-B231-4B693716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D8D95-5794-40DA-8C6B-428D1E8E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7C18-8BD8-4932-880A-B63E2936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72A51-F8F2-4B98-9C4D-78675550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278CB-8825-4279-9766-034D6970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48F0D-F36D-422E-B2EF-6F6CDB1B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3C50B-ABDE-4511-AC45-F1B4BE0B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70C-C037-4ECB-BC2A-7D8433FF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8C62C-363F-4A74-8580-C392F2DA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846FE-B15E-4BF5-8F0C-344F2F3E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F7B02-D26E-4643-92EF-7C989473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05F02-906C-47CB-8BBF-FF4EC460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386A-1BA7-4B46-911B-20443FE0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794A8-54F5-438A-812D-BA3948D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71BE0-E00D-4E6D-939F-E36CC054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EA4D-3522-4811-AC88-60B5016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D7064-D62A-4A7B-87AA-20E5F6FF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46470-5D41-45B0-BBD4-48BD675D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A09-E6E4-4A5B-A892-0F517BB6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31C8A-196D-4253-8E9A-F129CAF4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525EA-3189-4B23-AAFD-F16F6E54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30519-7F62-4BE8-8F9B-A6124FBF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E3F32-00A5-41AF-80A9-B68777E7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05283-3171-49C0-9D53-61789159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100AF-3922-4DC8-9DDF-6286D89F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D9681-03F7-4889-8108-EF2DD5C9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08C0E-ADA0-4324-89AD-8A2B2781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AA90D-3BF8-4FD1-AB67-A092CB7C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AAC6-0F0B-4EC6-819B-FA5A0616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53E-0DAF-400A-AED5-8289391C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EAB2F-ABB6-43F6-85B8-047EBF6A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044BE-4323-467A-BCBF-6179929A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4C0EB-1E70-421B-B3F0-16E951CC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6C417-7E77-4976-B712-237996E8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D005C-4BF6-4262-ADB5-FC2F15A1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72FBA-E167-470E-A32F-2A622F8A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C556C-3926-4CB1-A89B-919120C9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19083-3FE0-4482-99E2-C4421121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EE858-98DA-486E-B01E-A6083141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D29B8-FA1F-480B-9C69-B0CE377F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700-68EE-443A-AB3D-CCCA21F1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B4A8F-E96A-4755-AFAD-C1F11B26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7C381-B15C-49B7-81CC-9944D9FD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A8FA2-8F66-46FB-AD87-D663FD7A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CADB6-4D66-4630-BC4A-1562F490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E1C4F-0370-413C-A5EC-CB0D44AB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B2654-305E-4AC7-91ED-675EDDA5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D89A2-C34D-4759-A769-5475D1AF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A9AB8-240C-4562-97AA-A1045243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06C11-A376-4933-B966-52812B56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A4C78-28AA-4310-87CF-736A7BFA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6B1-3861-4FCB-AA43-F9B54007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D1683-685C-434B-BB8E-EB88C980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956FE-8F01-4469-BD36-283BD32E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A32DD-9EFD-40F5-9D26-FB9D068F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4F088-EC27-4F78-BA2B-FF0DB6B1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05EAE-2C40-43D0-BE67-94738E5B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14E43-422B-4407-AB54-1B33CBD3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E8780-833A-4D98-BB17-D1120ADE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7164A-2523-44ED-93C0-03A28BE2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2BF4D-F0B0-41CC-9CFF-590B3AF1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E3554-ADFE-499B-97CA-61144FCA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AF59-3307-46A1-BBA7-4460F5B8528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3BFA-C95D-4164-9221-68433D58AF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224D-FA24-40AB-90AB-F8316EF339E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5975-4352-45F4-90DD-74A7A6FC2AE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E5AD-B87A-4C88-A35C-6EE4C781A14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7A6D-066B-46EE-A663-DB454F5B52C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92F7-B308-4D58-9793-8049E8C5C7D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B340-E0A6-4EC1-B7DF-26A500DFEAB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26E3-04E4-4DEC-8DA7-4657B93D864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C931-5D3F-420F-BCCC-5E0EE458C52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A7DA-B1D8-4639-BB1F-7D35664F1B6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02EE-426B-4B0B-B0A1-3485756E1C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CF57-FF42-4820-B681-2B4A60EB5F59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226A-027D-4799-A6CC-271AD0C01938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EE73-ADE9-445B-8C00-67B748D5C78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BB22-7BA9-4BEA-A4D4-F3CFE1F6011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F23C-C0DC-4C28-BB8C-15BBFBB9C90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6673-4CBA-4426-96BD-AEFCD4F00F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6BA5-DA74-482B-AFDC-D75205D6120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C420-1A13-44AE-B8A7-DA9FE102F41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6C48-B853-459C-B634-5A9EFC6AAEE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8FE8-C65C-4458-A686-F936031F018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6E7F-8904-4779-8212-391C139FE70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9A3D-3035-4145-A1E5-823149DF776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31CF-D874-4B47-9ED7-518F0D5B76D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8B18-2BC7-42E1-913A-CA8D337EEF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77A0-F407-4753-8BEB-320002955F2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606A-915E-4DAA-9A37-35E6B7AA547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4.pn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image" Target="../media/image26.png"/><Relationship Id="rId35" Type="http://schemas.openxmlformats.org/officeDocument/2006/relationships/image" Target="../media/image21.png"/><Relationship Id="rId36" Type="http://schemas.openxmlformats.org/officeDocument/2006/relationships/image" Target="../media/image21.png"/><Relationship Id="rId37" Type="http://schemas.openxmlformats.org/officeDocument/2006/relationships/image" Target="../media/image22.png"/><Relationship Id="rId38" Type="http://schemas.openxmlformats.org/officeDocument/2006/relationships/image" Target="../media/image21.png"/><Relationship Id="rId39" Type="http://schemas.openxmlformats.org/officeDocument/2006/relationships/image" Target="../media/image27.png"/><Relationship Id="rId40" Type="http://schemas.openxmlformats.org/officeDocument/2006/relationships/image" Target="../media/image25.png"/><Relationship Id="rId41" Type="http://schemas.openxmlformats.org/officeDocument/2006/relationships/image" Target="../media/image21.png"/><Relationship Id="rId42" Type="http://schemas.openxmlformats.org/officeDocument/2006/relationships/image" Target="../media/image21.png"/><Relationship Id="rId43" Type="http://schemas.openxmlformats.org/officeDocument/2006/relationships/image" Target="../media/image21.png"/><Relationship Id="rId44" Type="http://schemas.openxmlformats.org/officeDocument/2006/relationships/image" Target="../media/image25.png"/><Relationship Id="rId45" Type="http://schemas.openxmlformats.org/officeDocument/2006/relationships/image" Target="../media/image25.png"/><Relationship Id="rId46" Type="http://schemas.openxmlformats.org/officeDocument/2006/relationships/image" Target="../media/image21.png"/><Relationship Id="rId47" Type="http://schemas.openxmlformats.org/officeDocument/2006/relationships/image" Target="../media/image21.png"/><Relationship Id="rId48" Type="http://schemas.openxmlformats.org/officeDocument/2006/relationships/image" Target="../media/image21.png"/><Relationship Id="rId49" Type="http://schemas.openxmlformats.org/officeDocument/2006/relationships/image" Target="../media/image22.png"/><Relationship Id="rId50" Type="http://schemas.openxmlformats.org/officeDocument/2006/relationships/image" Target="../media/image21.png"/><Relationship Id="rId51" Type="http://schemas.openxmlformats.org/officeDocument/2006/relationships/image" Target="../media/image23.png"/><Relationship Id="rId52" Type="http://schemas.openxmlformats.org/officeDocument/2006/relationships/image" Target="../media/image24.png"/><Relationship Id="rId53" Type="http://schemas.openxmlformats.org/officeDocument/2006/relationships/image" Target="../media/image21.png"/><Relationship Id="rId54" Type="http://schemas.openxmlformats.org/officeDocument/2006/relationships/image" Target="../media/image21.png"/><Relationship Id="rId55" Type="http://schemas.openxmlformats.org/officeDocument/2006/relationships/image" Target="../media/image21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11.png"/><Relationship Id="rId59" Type="http://schemas.openxmlformats.org/officeDocument/2006/relationships/image" Target="../media/image12.png"/><Relationship Id="rId60" Type="http://schemas.openxmlformats.org/officeDocument/2006/relationships/image" Target="../media/image21.png"/><Relationship Id="rId61" Type="http://schemas.openxmlformats.org/officeDocument/2006/relationships/image" Target="../media/image21.png"/><Relationship Id="rId62" Type="http://schemas.openxmlformats.org/officeDocument/2006/relationships/image" Target="../media/image23.png"/><Relationship Id="rId63" Type="http://schemas.openxmlformats.org/officeDocument/2006/relationships/image" Target="../media/image23.png"/><Relationship Id="rId64" Type="http://schemas.openxmlformats.org/officeDocument/2006/relationships/image" Target="../media/image21.png"/><Relationship Id="rId65" Type="http://schemas.openxmlformats.org/officeDocument/2006/relationships/image" Target="../media/image21.png"/><Relationship Id="rId66" Type="http://schemas.openxmlformats.org/officeDocument/2006/relationships/image" Target="../media/image21.png"/><Relationship Id="rId67" Type="http://schemas.openxmlformats.org/officeDocument/2006/relationships/image" Target="../media/image21.png"/><Relationship Id="rId68" Type="http://schemas.openxmlformats.org/officeDocument/2006/relationships/image" Target="../media/image23.png"/><Relationship Id="rId69" Type="http://schemas.openxmlformats.org/officeDocument/2006/relationships/image" Target="../media/image21.png"/><Relationship Id="rId70" Type="http://schemas.openxmlformats.org/officeDocument/2006/relationships/image" Target="../media/image21.png"/><Relationship Id="rId71" Type="http://schemas.openxmlformats.org/officeDocument/2006/relationships/image" Target="../media/image21.png"/><Relationship Id="rId72" Type="http://schemas.openxmlformats.org/officeDocument/2006/relationships/image" Target="../media/image21.png"/><Relationship Id="rId73" Type="http://schemas.openxmlformats.org/officeDocument/2006/relationships/image" Target="../media/image28.png"/><Relationship Id="rId74" Type="http://schemas.openxmlformats.org/officeDocument/2006/relationships/image" Target="../media/image28.png"/><Relationship Id="rId75" Type="http://schemas.openxmlformats.org/officeDocument/2006/relationships/image" Target="../media/image28.png"/><Relationship Id="rId76" Type="http://schemas.openxmlformats.org/officeDocument/2006/relationships/image" Target="../media/image28.png"/><Relationship Id="rId77" Type="http://schemas.openxmlformats.org/officeDocument/2006/relationships/image" Target="../media/image28.png"/><Relationship Id="rId78" Type="http://schemas.openxmlformats.org/officeDocument/2006/relationships/image" Target="../media/image28.png"/><Relationship Id="rId79" Type="http://schemas.openxmlformats.org/officeDocument/2006/relationships/image" Target="../media/image28.png"/><Relationship Id="rId80" Type="http://schemas.openxmlformats.org/officeDocument/2006/relationships/image" Target="../media/image28.png"/><Relationship Id="rId81" Type="http://schemas.openxmlformats.org/officeDocument/2006/relationships/image" Target="../media/image28.png"/><Relationship Id="rId82" Type="http://schemas.openxmlformats.org/officeDocument/2006/relationships/image" Target="../media/image28.png"/><Relationship Id="rId83" Type="http://schemas.openxmlformats.org/officeDocument/2006/relationships/image" Target="../media/image28.png"/><Relationship Id="rId84" Type="http://schemas.openxmlformats.org/officeDocument/2006/relationships/image" Target="../media/image28.png"/><Relationship Id="rId85" Type="http://schemas.openxmlformats.org/officeDocument/2006/relationships/image" Target="../media/image28.png"/><Relationship Id="rId86" Type="http://schemas.openxmlformats.org/officeDocument/2006/relationships/image" Target="../media/image28.png"/><Relationship Id="rId87" Type="http://schemas.openxmlformats.org/officeDocument/2006/relationships/image" Target="../media/image28.png"/><Relationship Id="rId88" Type="http://schemas.openxmlformats.org/officeDocument/2006/relationships/image" Target="../media/image28.png"/><Relationship Id="rId89" Type="http://schemas.openxmlformats.org/officeDocument/2006/relationships/image" Target="../media/image29.png"/><Relationship Id="rId9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7B5A-E29A-4664-94C9-1DCCDF7B73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228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2"/>
          <p:cNvGrpSpPr/>
          <p:nvPr/>
        </p:nvGrpSpPr>
        <p:grpSpPr>
          <a:xfrm>
            <a:off x="6918480" y="96840"/>
            <a:ext cx="1145880" cy="1152360"/>
            <a:chOff x="6918480" y="96840"/>
            <a:chExt cx="1145880" cy="1152360"/>
          </a:xfrm>
        </p:grpSpPr>
        <p:pic>
          <p:nvPicPr>
            <p:cNvPr id="580" name="椭圆 41" descr=""/>
            <p:cNvPicPr/>
            <p:nvPr/>
          </p:nvPicPr>
          <p:blipFill>
            <a:blip r:embed="rId1"/>
            <a:stretch/>
          </p:blipFill>
          <p:spPr>
            <a:xfrm>
              <a:off x="6918480" y="96840"/>
              <a:ext cx="11458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4"/>
            <p:cNvSpPr/>
            <p:nvPr/>
          </p:nvSpPr>
          <p:spPr>
            <a:xfrm>
              <a:off x="7086240" y="268200"/>
              <a:ext cx="8125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图片 3" descr=""/>
          <p:cNvPicPr/>
          <p:nvPr/>
        </p:nvPicPr>
        <p:blipFill>
          <a:blip r:embed="rId2"/>
          <a:srcRect l="6248" t="5472" r="0" b="464"/>
          <a:stretch/>
        </p:blipFill>
        <p:spPr>
          <a:xfrm>
            <a:off x="3240" y="-25560"/>
            <a:ext cx="9144000" cy="688356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7" descr=""/>
          <p:cNvPicPr/>
          <p:nvPr/>
        </p:nvPicPr>
        <p:blipFill>
          <a:blip r:embed="rId3"/>
          <a:stretch/>
        </p:blipFill>
        <p:spPr>
          <a:xfrm rot="1231200">
            <a:off x="4223880" y="-339480"/>
            <a:ext cx="2316240" cy="163692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9" descr=""/>
          <p:cNvPicPr/>
          <p:nvPr/>
        </p:nvPicPr>
        <p:blipFill>
          <a:blip r:embed="rId4"/>
          <a:stretch/>
        </p:blipFill>
        <p:spPr>
          <a:xfrm>
            <a:off x="6446880" y="-25560"/>
            <a:ext cx="931680" cy="65736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10" descr=""/>
          <p:cNvPicPr/>
          <p:nvPr/>
        </p:nvPicPr>
        <p:blipFill>
          <a:blip r:embed="rId5"/>
          <a:stretch/>
        </p:blipFill>
        <p:spPr>
          <a:xfrm>
            <a:off x="3325680" y="3728880"/>
            <a:ext cx="316080" cy="1368720"/>
          </a:xfrm>
          <a:prstGeom prst="rect">
            <a:avLst/>
          </a:prstGeom>
          <a:ln w="0">
            <a:noFill/>
          </a:ln>
        </p:spPr>
      </p:pic>
      <p:pic>
        <p:nvPicPr>
          <p:cNvPr id="586" name="TextBox 11" descr=""/>
          <p:cNvPicPr/>
          <p:nvPr/>
        </p:nvPicPr>
        <p:blipFill>
          <a:blip r:embed="rId6"/>
          <a:stretch/>
        </p:blipFill>
        <p:spPr>
          <a:xfrm>
            <a:off x="566640" y="1407960"/>
            <a:ext cx="2090880" cy="523728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2" descr=""/>
          <p:cNvPicPr/>
          <p:nvPr/>
        </p:nvPicPr>
        <p:blipFill>
          <a:blip r:embed="rId7"/>
          <a:stretch/>
        </p:blipFill>
        <p:spPr>
          <a:xfrm rot="21274800">
            <a:off x="7535520" y="-101520"/>
            <a:ext cx="1674720" cy="118404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1" descr=""/>
          <p:cNvPicPr/>
          <p:nvPr/>
        </p:nvPicPr>
        <p:blipFill>
          <a:blip r:embed="rId8"/>
          <a:srcRect l="0" t="0" r="0" b="7358"/>
          <a:stretch/>
        </p:blipFill>
        <p:spPr>
          <a:xfrm>
            <a:off x="4332240" y="2543040"/>
            <a:ext cx="4637160" cy="434196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30" descr=""/>
          <p:cNvPicPr/>
          <p:nvPr/>
        </p:nvPicPr>
        <p:blipFill>
          <a:blip r:embed="rId9"/>
          <a:stretch/>
        </p:blipFill>
        <p:spPr>
          <a:xfrm>
            <a:off x="2881440" y="765000"/>
            <a:ext cx="753840" cy="91944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1" descr=""/>
          <p:cNvPicPr/>
          <p:nvPr/>
        </p:nvPicPr>
        <p:blipFill>
          <a:blip r:embed="rId10"/>
          <a:stretch/>
        </p:blipFill>
        <p:spPr>
          <a:xfrm>
            <a:off x="3470400" y="1557360"/>
            <a:ext cx="703080" cy="71928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32" descr=""/>
          <p:cNvPicPr/>
          <p:nvPr/>
        </p:nvPicPr>
        <p:blipFill>
          <a:blip r:embed="rId11"/>
          <a:stretch/>
        </p:blipFill>
        <p:spPr>
          <a:xfrm>
            <a:off x="2494080" y="1981080"/>
            <a:ext cx="1141200" cy="251784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33" descr=""/>
          <p:cNvPicPr/>
          <p:nvPr/>
        </p:nvPicPr>
        <p:blipFill>
          <a:blip r:embed="rId12"/>
          <a:stretch/>
        </p:blipFill>
        <p:spPr>
          <a:xfrm>
            <a:off x="3390840" y="2776680"/>
            <a:ext cx="849240" cy="87156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6" descr=""/>
          <p:cNvPicPr/>
          <p:nvPr/>
        </p:nvPicPr>
        <p:blipFill>
          <a:blip r:embed="rId13"/>
          <a:stretch/>
        </p:blipFill>
        <p:spPr>
          <a:xfrm rot="21126000">
            <a:off x="6508440" y="5187960"/>
            <a:ext cx="855720" cy="178596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34" descr=""/>
          <p:cNvPicPr/>
          <p:nvPr/>
        </p:nvPicPr>
        <p:blipFill>
          <a:blip r:embed="rId14"/>
          <a:stretch/>
        </p:blipFill>
        <p:spPr>
          <a:xfrm>
            <a:off x="6929280" y="5873760"/>
            <a:ext cx="331920" cy="100008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35" descr=""/>
          <p:cNvPicPr/>
          <p:nvPr/>
        </p:nvPicPr>
        <p:blipFill>
          <a:blip r:embed="rId15"/>
          <a:stretch/>
        </p:blipFill>
        <p:spPr>
          <a:xfrm>
            <a:off x="6292800" y="5467320"/>
            <a:ext cx="1114560" cy="99396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36" descr=""/>
          <p:cNvPicPr/>
          <p:nvPr/>
        </p:nvPicPr>
        <p:blipFill>
          <a:blip r:embed="rId16"/>
          <a:stretch/>
        </p:blipFill>
        <p:spPr>
          <a:xfrm>
            <a:off x="4694400" y="2617920"/>
            <a:ext cx="793440" cy="88236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37" descr=""/>
          <p:cNvPicPr/>
          <p:nvPr/>
        </p:nvPicPr>
        <p:blipFill>
          <a:blip r:embed="rId17"/>
          <a:stretch/>
        </p:blipFill>
        <p:spPr>
          <a:xfrm>
            <a:off x="5159520" y="3232080"/>
            <a:ext cx="2555640" cy="228456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4" descr=""/>
          <p:cNvPicPr/>
          <p:nvPr/>
        </p:nvPicPr>
        <p:blipFill>
          <a:blip r:embed="rId18"/>
          <a:stretch/>
        </p:blipFill>
        <p:spPr>
          <a:xfrm>
            <a:off x="5835600" y="4654440"/>
            <a:ext cx="871560" cy="96372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38" descr=""/>
          <p:cNvPicPr/>
          <p:nvPr/>
        </p:nvPicPr>
        <p:blipFill>
          <a:blip r:embed="rId19"/>
          <a:stretch/>
        </p:blipFill>
        <p:spPr>
          <a:xfrm>
            <a:off x="7896240" y="4894200"/>
            <a:ext cx="353880" cy="201312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39" descr=""/>
          <p:cNvPicPr/>
          <p:nvPr/>
        </p:nvPicPr>
        <p:blipFill>
          <a:blip r:embed="rId20"/>
          <a:stretch/>
        </p:blipFill>
        <p:spPr>
          <a:xfrm>
            <a:off x="7426440" y="4465800"/>
            <a:ext cx="871560" cy="96192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8" descr=""/>
          <p:cNvPicPr/>
          <p:nvPr/>
        </p:nvPicPr>
        <p:blipFill>
          <a:blip r:embed="rId21"/>
          <a:stretch/>
        </p:blipFill>
        <p:spPr>
          <a:xfrm>
            <a:off x="6138720" y="488880"/>
            <a:ext cx="1328760" cy="941400"/>
          </a:xfrm>
          <a:prstGeom prst="rect">
            <a:avLst/>
          </a:prstGeom>
          <a:ln w="0">
            <a:noFill/>
          </a:ln>
        </p:spPr>
      </p:pic>
      <p:grpSp>
        <p:nvGrpSpPr>
          <p:cNvPr id="602" name="Group 25"/>
          <p:cNvGrpSpPr/>
          <p:nvPr/>
        </p:nvGrpSpPr>
        <p:grpSpPr>
          <a:xfrm>
            <a:off x="7418520" y="1030320"/>
            <a:ext cx="68040" cy="73080"/>
            <a:chOff x="7418520" y="1030320"/>
            <a:chExt cx="68040" cy="73080"/>
          </a:xfrm>
        </p:grpSpPr>
        <p:pic>
          <p:nvPicPr>
            <p:cNvPr id="603" name="椭圆 43" descr=""/>
            <p:cNvPicPr/>
            <p:nvPr/>
          </p:nvPicPr>
          <p:blipFill>
            <a:blip r:embed="rId22"/>
            <a:stretch/>
          </p:blipFill>
          <p:spPr>
            <a:xfrm>
              <a:off x="7418520" y="1030320"/>
              <a:ext cx="6804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7"/>
            <p:cNvSpPr/>
            <p:nvPr/>
          </p:nvSpPr>
          <p:spPr>
            <a:xfrm>
              <a:off x="743076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8"/>
          <p:cNvGrpSpPr/>
          <p:nvPr/>
        </p:nvGrpSpPr>
        <p:grpSpPr>
          <a:xfrm>
            <a:off x="7497720" y="957240"/>
            <a:ext cx="66600" cy="73080"/>
            <a:chOff x="7497720" y="957240"/>
            <a:chExt cx="66600" cy="73080"/>
          </a:xfrm>
        </p:grpSpPr>
        <p:pic>
          <p:nvPicPr>
            <p:cNvPr id="606" name="椭圆 44" descr=""/>
            <p:cNvPicPr/>
            <p:nvPr/>
          </p:nvPicPr>
          <p:blipFill>
            <a:blip r:embed="rId23"/>
            <a:stretch/>
          </p:blipFill>
          <p:spPr>
            <a:xfrm>
              <a:off x="7497720" y="95724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30"/>
            <p:cNvSpPr/>
            <p:nvPr/>
          </p:nvSpPr>
          <p:spPr>
            <a:xfrm>
              <a:off x="7505640" y="969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31"/>
          <p:cNvGrpSpPr/>
          <p:nvPr/>
        </p:nvGrpSpPr>
        <p:grpSpPr>
          <a:xfrm>
            <a:off x="7467480" y="981000"/>
            <a:ext cx="66600" cy="73080"/>
            <a:chOff x="7467480" y="981000"/>
            <a:chExt cx="66600" cy="73080"/>
          </a:xfrm>
        </p:grpSpPr>
        <p:pic>
          <p:nvPicPr>
            <p:cNvPr id="609" name="椭圆 45" descr=""/>
            <p:cNvPicPr/>
            <p:nvPr/>
          </p:nvPicPr>
          <p:blipFill>
            <a:blip r:embed="rId24"/>
            <a:stretch/>
          </p:blipFill>
          <p:spPr>
            <a:xfrm>
              <a:off x="7467480" y="98100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33"/>
            <p:cNvSpPr/>
            <p:nvPr/>
          </p:nvSpPr>
          <p:spPr>
            <a:xfrm>
              <a:off x="7476840" y="99036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34"/>
          <p:cNvGrpSpPr/>
          <p:nvPr/>
        </p:nvGrpSpPr>
        <p:grpSpPr>
          <a:xfrm>
            <a:off x="7400880" y="1030320"/>
            <a:ext cx="66600" cy="73080"/>
            <a:chOff x="7400880" y="1030320"/>
            <a:chExt cx="66600" cy="73080"/>
          </a:xfrm>
        </p:grpSpPr>
        <p:pic>
          <p:nvPicPr>
            <p:cNvPr id="612" name="椭圆 46" descr=""/>
            <p:cNvPicPr/>
            <p:nvPr/>
          </p:nvPicPr>
          <p:blipFill>
            <a:blip r:embed="rId25"/>
            <a:stretch/>
          </p:blipFill>
          <p:spPr>
            <a:xfrm>
              <a:off x="7400880" y="1030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36"/>
            <p:cNvSpPr/>
            <p:nvPr/>
          </p:nvSpPr>
          <p:spPr>
            <a:xfrm>
              <a:off x="7410240" y="104292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37"/>
          <p:cNvGrpSpPr/>
          <p:nvPr/>
        </p:nvGrpSpPr>
        <p:grpSpPr>
          <a:xfrm>
            <a:off x="7467480" y="1054080"/>
            <a:ext cx="66600" cy="73080"/>
            <a:chOff x="7467480" y="1054080"/>
            <a:chExt cx="66600" cy="73080"/>
          </a:xfrm>
        </p:grpSpPr>
        <p:pic>
          <p:nvPicPr>
            <p:cNvPr id="615" name="椭圆 47" descr=""/>
            <p:cNvPicPr/>
            <p:nvPr/>
          </p:nvPicPr>
          <p:blipFill>
            <a:blip r:embed="rId26"/>
            <a:stretch/>
          </p:blipFill>
          <p:spPr>
            <a:xfrm>
              <a:off x="7467480" y="10540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39"/>
            <p:cNvSpPr/>
            <p:nvPr/>
          </p:nvSpPr>
          <p:spPr>
            <a:xfrm>
              <a:off x="7476840" y="106344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40"/>
          <p:cNvGrpSpPr/>
          <p:nvPr/>
        </p:nvGrpSpPr>
        <p:grpSpPr>
          <a:xfrm>
            <a:off x="7418520" y="1042920"/>
            <a:ext cx="68040" cy="66600"/>
            <a:chOff x="7418520" y="1042920"/>
            <a:chExt cx="68040" cy="66600"/>
          </a:xfrm>
        </p:grpSpPr>
        <p:pic>
          <p:nvPicPr>
            <p:cNvPr id="618" name="椭圆 48" descr=""/>
            <p:cNvPicPr/>
            <p:nvPr/>
          </p:nvPicPr>
          <p:blipFill>
            <a:blip r:embed="rId27"/>
            <a:stretch/>
          </p:blipFill>
          <p:spPr>
            <a:xfrm>
              <a:off x="7418520" y="1042920"/>
              <a:ext cx="680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42"/>
            <p:cNvSpPr/>
            <p:nvPr/>
          </p:nvSpPr>
          <p:spPr>
            <a:xfrm>
              <a:off x="7430760" y="1050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43"/>
          <p:cNvGrpSpPr/>
          <p:nvPr/>
        </p:nvGrpSpPr>
        <p:grpSpPr>
          <a:xfrm>
            <a:off x="7418520" y="1054080"/>
            <a:ext cx="55440" cy="55440"/>
            <a:chOff x="7418520" y="1054080"/>
            <a:chExt cx="55440" cy="55440"/>
          </a:xfrm>
        </p:grpSpPr>
        <p:pic>
          <p:nvPicPr>
            <p:cNvPr id="621" name="椭圆 49" descr=""/>
            <p:cNvPicPr/>
            <p:nvPr/>
          </p:nvPicPr>
          <p:blipFill>
            <a:blip r:embed="rId28"/>
            <a:stretch/>
          </p:blipFill>
          <p:spPr>
            <a:xfrm>
              <a:off x="7418520" y="1054080"/>
              <a:ext cx="5544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45"/>
            <p:cNvSpPr/>
            <p:nvPr/>
          </p:nvSpPr>
          <p:spPr>
            <a:xfrm>
              <a:off x="7429680" y="1060560"/>
              <a:ext cx="3492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46"/>
          <p:cNvGrpSpPr/>
          <p:nvPr/>
        </p:nvGrpSpPr>
        <p:grpSpPr>
          <a:xfrm>
            <a:off x="7467480" y="1030320"/>
            <a:ext cx="66600" cy="73080"/>
            <a:chOff x="7467480" y="1030320"/>
            <a:chExt cx="66600" cy="73080"/>
          </a:xfrm>
        </p:grpSpPr>
        <p:pic>
          <p:nvPicPr>
            <p:cNvPr id="624" name="椭圆 50" descr=""/>
            <p:cNvPicPr/>
            <p:nvPr/>
          </p:nvPicPr>
          <p:blipFill>
            <a:blip r:embed="rId29"/>
            <a:stretch/>
          </p:blipFill>
          <p:spPr>
            <a:xfrm>
              <a:off x="7467480" y="1030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 Box 48"/>
            <p:cNvSpPr/>
            <p:nvPr/>
          </p:nvSpPr>
          <p:spPr>
            <a:xfrm>
              <a:off x="7476840" y="104292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49"/>
          <p:cNvGrpSpPr/>
          <p:nvPr/>
        </p:nvGrpSpPr>
        <p:grpSpPr>
          <a:xfrm>
            <a:off x="7486560" y="1017720"/>
            <a:ext cx="66600" cy="72720"/>
            <a:chOff x="7486560" y="1017720"/>
            <a:chExt cx="66600" cy="72720"/>
          </a:xfrm>
        </p:grpSpPr>
        <p:pic>
          <p:nvPicPr>
            <p:cNvPr id="627" name="椭圆 51" descr=""/>
            <p:cNvPicPr/>
            <p:nvPr/>
          </p:nvPicPr>
          <p:blipFill>
            <a:blip r:embed="rId30"/>
            <a:stretch/>
          </p:blipFill>
          <p:spPr>
            <a:xfrm>
              <a:off x="7486560" y="1017720"/>
              <a:ext cx="66600" cy="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51"/>
            <p:cNvSpPr/>
            <p:nvPr/>
          </p:nvSpPr>
          <p:spPr>
            <a:xfrm>
              <a:off x="7497720" y="1029960"/>
              <a:ext cx="4752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52"/>
          <p:cNvGrpSpPr/>
          <p:nvPr/>
        </p:nvGrpSpPr>
        <p:grpSpPr>
          <a:xfrm>
            <a:off x="7467480" y="1054080"/>
            <a:ext cx="66600" cy="73080"/>
            <a:chOff x="7467480" y="1054080"/>
            <a:chExt cx="66600" cy="73080"/>
          </a:xfrm>
        </p:grpSpPr>
        <p:pic>
          <p:nvPicPr>
            <p:cNvPr id="630" name="椭圆 52" descr=""/>
            <p:cNvPicPr/>
            <p:nvPr/>
          </p:nvPicPr>
          <p:blipFill>
            <a:blip r:embed="rId31"/>
            <a:stretch/>
          </p:blipFill>
          <p:spPr>
            <a:xfrm>
              <a:off x="7467480" y="10540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 Box 54"/>
            <p:cNvSpPr/>
            <p:nvPr/>
          </p:nvSpPr>
          <p:spPr>
            <a:xfrm>
              <a:off x="7476840" y="106344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55"/>
          <p:cNvGrpSpPr/>
          <p:nvPr/>
        </p:nvGrpSpPr>
        <p:grpSpPr>
          <a:xfrm>
            <a:off x="7467480" y="1030320"/>
            <a:ext cx="49320" cy="55440"/>
            <a:chOff x="7467480" y="1030320"/>
            <a:chExt cx="49320" cy="55440"/>
          </a:xfrm>
        </p:grpSpPr>
        <p:pic>
          <p:nvPicPr>
            <p:cNvPr id="633" name="椭圆 53" descr=""/>
            <p:cNvPicPr/>
            <p:nvPr/>
          </p:nvPicPr>
          <p:blipFill>
            <a:blip r:embed="rId32"/>
            <a:stretch/>
          </p:blipFill>
          <p:spPr>
            <a:xfrm>
              <a:off x="7467480" y="1030320"/>
              <a:ext cx="4932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 Box 57"/>
            <p:cNvSpPr/>
            <p:nvPr/>
          </p:nvSpPr>
          <p:spPr>
            <a:xfrm>
              <a:off x="7475400" y="1039680"/>
              <a:ext cx="3492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58"/>
          <p:cNvGrpSpPr/>
          <p:nvPr/>
        </p:nvGrpSpPr>
        <p:grpSpPr>
          <a:xfrm>
            <a:off x="7467480" y="944640"/>
            <a:ext cx="49320" cy="55440"/>
            <a:chOff x="7467480" y="944640"/>
            <a:chExt cx="49320" cy="55440"/>
          </a:xfrm>
        </p:grpSpPr>
        <p:pic>
          <p:nvPicPr>
            <p:cNvPr id="636" name="椭圆 54" descr=""/>
            <p:cNvPicPr/>
            <p:nvPr/>
          </p:nvPicPr>
          <p:blipFill>
            <a:blip r:embed="rId33"/>
            <a:stretch/>
          </p:blipFill>
          <p:spPr>
            <a:xfrm>
              <a:off x="7467480" y="944640"/>
              <a:ext cx="4932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60"/>
            <p:cNvSpPr/>
            <p:nvPr/>
          </p:nvSpPr>
          <p:spPr>
            <a:xfrm>
              <a:off x="7475400" y="955800"/>
              <a:ext cx="3492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61"/>
          <p:cNvGrpSpPr/>
          <p:nvPr/>
        </p:nvGrpSpPr>
        <p:grpSpPr>
          <a:xfrm>
            <a:off x="7564320" y="1030320"/>
            <a:ext cx="61920" cy="73080"/>
            <a:chOff x="7564320" y="1030320"/>
            <a:chExt cx="61920" cy="73080"/>
          </a:xfrm>
        </p:grpSpPr>
        <p:pic>
          <p:nvPicPr>
            <p:cNvPr id="639" name="椭圆 55" descr=""/>
            <p:cNvPicPr/>
            <p:nvPr/>
          </p:nvPicPr>
          <p:blipFill>
            <a:blip r:embed="rId34"/>
            <a:stretch/>
          </p:blipFill>
          <p:spPr>
            <a:xfrm>
              <a:off x="7564320" y="1030320"/>
              <a:ext cx="6192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 Box 63"/>
            <p:cNvSpPr/>
            <p:nvPr/>
          </p:nvSpPr>
          <p:spPr>
            <a:xfrm>
              <a:off x="7572240" y="1042920"/>
              <a:ext cx="46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64"/>
          <p:cNvGrpSpPr/>
          <p:nvPr/>
        </p:nvGrpSpPr>
        <p:grpSpPr>
          <a:xfrm>
            <a:off x="7639200" y="957240"/>
            <a:ext cx="66600" cy="73080"/>
            <a:chOff x="7639200" y="957240"/>
            <a:chExt cx="66600" cy="73080"/>
          </a:xfrm>
        </p:grpSpPr>
        <p:pic>
          <p:nvPicPr>
            <p:cNvPr id="642" name="椭圆 56" descr=""/>
            <p:cNvPicPr/>
            <p:nvPr/>
          </p:nvPicPr>
          <p:blipFill>
            <a:blip r:embed="rId35"/>
            <a:stretch/>
          </p:blipFill>
          <p:spPr>
            <a:xfrm>
              <a:off x="7639200" y="95724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 Box 66"/>
            <p:cNvSpPr/>
            <p:nvPr/>
          </p:nvSpPr>
          <p:spPr>
            <a:xfrm>
              <a:off x="7647120" y="969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67"/>
          <p:cNvGrpSpPr/>
          <p:nvPr/>
        </p:nvGrpSpPr>
        <p:grpSpPr>
          <a:xfrm>
            <a:off x="7607160" y="981000"/>
            <a:ext cx="68400" cy="73080"/>
            <a:chOff x="7607160" y="981000"/>
            <a:chExt cx="68400" cy="73080"/>
          </a:xfrm>
        </p:grpSpPr>
        <p:pic>
          <p:nvPicPr>
            <p:cNvPr id="645" name="椭圆 57" descr=""/>
            <p:cNvPicPr/>
            <p:nvPr/>
          </p:nvPicPr>
          <p:blipFill>
            <a:blip r:embed="rId36"/>
            <a:stretch/>
          </p:blipFill>
          <p:spPr>
            <a:xfrm>
              <a:off x="7607160" y="981000"/>
              <a:ext cx="684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69"/>
            <p:cNvSpPr/>
            <p:nvPr/>
          </p:nvSpPr>
          <p:spPr>
            <a:xfrm>
              <a:off x="7618320" y="990360"/>
              <a:ext cx="4752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70"/>
          <p:cNvGrpSpPr/>
          <p:nvPr/>
        </p:nvGrpSpPr>
        <p:grpSpPr>
          <a:xfrm>
            <a:off x="7540560" y="1030320"/>
            <a:ext cx="66600" cy="73080"/>
            <a:chOff x="7540560" y="1030320"/>
            <a:chExt cx="66600" cy="73080"/>
          </a:xfrm>
        </p:grpSpPr>
        <p:pic>
          <p:nvPicPr>
            <p:cNvPr id="648" name="椭圆 58" descr=""/>
            <p:cNvPicPr/>
            <p:nvPr/>
          </p:nvPicPr>
          <p:blipFill>
            <a:blip r:embed="rId37"/>
            <a:stretch/>
          </p:blipFill>
          <p:spPr>
            <a:xfrm>
              <a:off x="7540560" y="1030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72"/>
            <p:cNvSpPr/>
            <p:nvPr/>
          </p:nvSpPr>
          <p:spPr>
            <a:xfrm>
              <a:off x="755172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73"/>
          <p:cNvGrpSpPr/>
          <p:nvPr/>
        </p:nvGrpSpPr>
        <p:grpSpPr>
          <a:xfrm>
            <a:off x="7607160" y="1054080"/>
            <a:ext cx="68400" cy="73080"/>
            <a:chOff x="7607160" y="1054080"/>
            <a:chExt cx="68400" cy="73080"/>
          </a:xfrm>
        </p:grpSpPr>
        <p:pic>
          <p:nvPicPr>
            <p:cNvPr id="651" name="椭圆 59" descr=""/>
            <p:cNvPicPr/>
            <p:nvPr/>
          </p:nvPicPr>
          <p:blipFill>
            <a:blip r:embed="rId38"/>
            <a:stretch/>
          </p:blipFill>
          <p:spPr>
            <a:xfrm>
              <a:off x="7607160" y="1054080"/>
              <a:ext cx="684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75"/>
            <p:cNvSpPr/>
            <p:nvPr/>
          </p:nvSpPr>
          <p:spPr>
            <a:xfrm>
              <a:off x="7618320" y="1063440"/>
              <a:ext cx="4752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76"/>
          <p:cNvGrpSpPr/>
          <p:nvPr/>
        </p:nvGrpSpPr>
        <p:grpSpPr>
          <a:xfrm>
            <a:off x="7564320" y="1042920"/>
            <a:ext cx="61920" cy="66600"/>
            <a:chOff x="7564320" y="1042920"/>
            <a:chExt cx="61920" cy="66600"/>
          </a:xfrm>
        </p:grpSpPr>
        <p:pic>
          <p:nvPicPr>
            <p:cNvPr id="654" name="椭圆 60" descr=""/>
            <p:cNvPicPr/>
            <p:nvPr/>
          </p:nvPicPr>
          <p:blipFill>
            <a:blip r:embed="rId39"/>
            <a:stretch/>
          </p:blipFill>
          <p:spPr>
            <a:xfrm>
              <a:off x="7564320" y="1042920"/>
              <a:ext cx="6192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78"/>
            <p:cNvSpPr/>
            <p:nvPr/>
          </p:nvSpPr>
          <p:spPr>
            <a:xfrm>
              <a:off x="7572240" y="1050840"/>
              <a:ext cx="46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79"/>
          <p:cNvGrpSpPr/>
          <p:nvPr/>
        </p:nvGrpSpPr>
        <p:grpSpPr>
          <a:xfrm>
            <a:off x="7564320" y="1054080"/>
            <a:ext cx="49320" cy="55440"/>
            <a:chOff x="7564320" y="1054080"/>
            <a:chExt cx="49320" cy="55440"/>
          </a:xfrm>
        </p:grpSpPr>
        <p:pic>
          <p:nvPicPr>
            <p:cNvPr id="657" name="椭圆 61" descr=""/>
            <p:cNvPicPr/>
            <p:nvPr/>
          </p:nvPicPr>
          <p:blipFill>
            <a:blip r:embed="rId40"/>
            <a:stretch/>
          </p:blipFill>
          <p:spPr>
            <a:xfrm>
              <a:off x="7564320" y="1054080"/>
              <a:ext cx="4932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81"/>
            <p:cNvSpPr/>
            <p:nvPr/>
          </p:nvSpPr>
          <p:spPr>
            <a:xfrm>
              <a:off x="7569000" y="1060560"/>
              <a:ext cx="3492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82"/>
          <p:cNvGrpSpPr/>
          <p:nvPr/>
        </p:nvGrpSpPr>
        <p:grpSpPr>
          <a:xfrm>
            <a:off x="7607160" y="1030320"/>
            <a:ext cx="68400" cy="73080"/>
            <a:chOff x="7607160" y="1030320"/>
            <a:chExt cx="68400" cy="73080"/>
          </a:xfrm>
        </p:grpSpPr>
        <p:pic>
          <p:nvPicPr>
            <p:cNvPr id="660" name="椭圆 62" descr=""/>
            <p:cNvPicPr/>
            <p:nvPr/>
          </p:nvPicPr>
          <p:blipFill>
            <a:blip r:embed="rId41"/>
            <a:stretch/>
          </p:blipFill>
          <p:spPr>
            <a:xfrm>
              <a:off x="7607160" y="1030320"/>
              <a:ext cx="684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84"/>
            <p:cNvSpPr/>
            <p:nvPr/>
          </p:nvSpPr>
          <p:spPr>
            <a:xfrm>
              <a:off x="761832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85"/>
          <p:cNvGrpSpPr/>
          <p:nvPr/>
        </p:nvGrpSpPr>
        <p:grpSpPr>
          <a:xfrm>
            <a:off x="7626240" y="1017720"/>
            <a:ext cx="66600" cy="72720"/>
            <a:chOff x="7626240" y="1017720"/>
            <a:chExt cx="66600" cy="72720"/>
          </a:xfrm>
        </p:grpSpPr>
        <p:pic>
          <p:nvPicPr>
            <p:cNvPr id="663" name="椭圆 63" descr=""/>
            <p:cNvPicPr/>
            <p:nvPr/>
          </p:nvPicPr>
          <p:blipFill>
            <a:blip r:embed="rId42"/>
            <a:stretch/>
          </p:blipFill>
          <p:spPr>
            <a:xfrm>
              <a:off x="7626240" y="1017720"/>
              <a:ext cx="66600" cy="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87"/>
            <p:cNvSpPr/>
            <p:nvPr/>
          </p:nvSpPr>
          <p:spPr>
            <a:xfrm>
              <a:off x="7638840" y="1029960"/>
              <a:ext cx="4608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88"/>
          <p:cNvGrpSpPr/>
          <p:nvPr/>
        </p:nvGrpSpPr>
        <p:grpSpPr>
          <a:xfrm>
            <a:off x="7607160" y="1054080"/>
            <a:ext cx="68400" cy="73080"/>
            <a:chOff x="7607160" y="1054080"/>
            <a:chExt cx="68400" cy="73080"/>
          </a:xfrm>
        </p:grpSpPr>
        <p:pic>
          <p:nvPicPr>
            <p:cNvPr id="666" name="椭圆 64" descr=""/>
            <p:cNvPicPr/>
            <p:nvPr/>
          </p:nvPicPr>
          <p:blipFill>
            <a:blip r:embed="rId43"/>
            <a:stretch/>
          </p:blipFill>
          <p:spPr>
            <a:xfrm>
              <a:off x="7607160" y="1054080"/>
              <a:ext cx="684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90"/>
            <p:cNvSpPr/>
            <p:nvPr/>
          </p:nvSpPr>
          <p:spPr>
            <a:xfrm>
              <a:off x="7618320" y="1063440"/>
              <a:ext cx="4752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91"/>
          <p:cNvGrpSpPr/>
          <p:nvPr/>
        </p:nvGrpSpPr>
        <p:grpSpPr>
          <a:xfrm>
            <a:off x="7607160" y="1030320"/>
            <a:ext cx="49320" cy="55440"/>
            <a:chOff x="7607160" y="1030320"/>
            <a:chExt cx="49320" cy="55440"/>
          </a:xfrm>
        </p:grpSpPr>
        <p:pic>
          <p:nvPicPr>
            <p:cNvPr id="669" name="椭圆 65" descr=""/>
            <p:cNvPicPr/>
            <p:nvPr/>
          </p:nvPicPr>
          <p:blipFill>
            <a:blip r:embed="rId44"/>
            <a:stretch/>
          </p:blipFill>
          <p:spPr>
            <a:xfrm>
              <a:off x="7607160" y="1030320"/>
              <a:ext cx="4932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 Box 93"/>
            <p:cNvSpPr/>
            <p:nvPr/>
          </p:nvSpPr>
          <p:spPr>
            <a:xfrm>
              <a:off x="7615080" y="1039680"/>
              <a:ext cx="363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94"/>
          <p:cNvGrpSpPr/>
          <p:nvPr/>
        </p:nvGrpSpPr>
        <p:grpSpPr>
          <a:xfrm>
            <a:off x="7607160" y="944640"/>
            <a:ext cx="49320" cy="55440"/>
            <a:chOff x="7607160" y="944640"/>
            <a:chExt cx="49320" cy="55440"/>
          </a:xfrm>
        </p:grpSpPr>
        <p:pic>
          <p:nvPicPr>
            <p:cNvPr id="672" name="椭圆 66" descr=""/>
            <p:cNvPicPr/>
            <p:nvPr/>
          </p:nvPicPr>
          <p:blipFill>
            <a:blip r:embed="rId45"/>
            <a:stretch/>
          </p:blipFill>
          <p:spPr>
            <a:xfrm>
              <a:off x="7607160" y="944640"/>
              <a:ext cx="4932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Text Box 96"/>
            <p:cNvSpPr/>
            <p:nvPr/>
          </p:nvSpPr>
          <p:spPr>
            <a:xfrm>
              <a:off x="7615080" y="955800"/>
              <a:ext cx="363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97"/>
          <p:cNvGrpSpPr/>
          <p:nvPr/>
        </p:nvGrpSpPr>
        <p:grpSpPr>
          <a:xfrm>
            <a:off x="7486560" y="1030320"/>
            <a:ext cx="66600" cy="73080"/>
            <a:chOff x="7486560" y="1030320"/>
            <a:chExt cx="66600" cy="73080"/>
          </a:xfrm>
        </p:grpSpPr>
        <p:pic>
          <p:nvPicPr>
            <p:cNvPr id="675" name="椭圆 67" descr=""/>
            <p:cNvPicPr/>
            <p:nvPr/>
          </p:nvPicPr>
          <p:blipFill>
            <a:blip r:embed="rId46"/>
            <a:stretch/>
          </p:blipFill>
          <p:spPr>
            <a:xfrm>
              <a:off x="7486560" y="1030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99"/>
            <p:cNvSpPr/>
            <p:nvPr/>
          </p:nvSpPr>
          <p:spPr>
            <a:xfrm>
              <a:off x="7497720" y="104292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100"/>
          <p:cNvGrpSpPr/>
          <p:nvPr/>
        </p:nvGrpSpPr>
        <p:grpSpPr>
          <a:xfrm>
            <a:off x="7564320" y="957240"/>
            <a:ext cx="68400" cy="73080"/>
            <a:chOff x="7564320" y="957240"/>
            <a:chExt cx="68400" cy="73080"/>
          </a:xfrm>
        </p:grpSpPr>
        <p:pic>
          <p:nvPicPr>
            <p:cNvPr id="678" name="椭圆 68" descr=""/>
            <p:cNvPicPr/>
            <p:nvPr/>
          </p:nvPicPr>
          <p:blipFill>
            <a:blip r:embed="rId47"/>
            <a:stretch/>
          </p:blipFill>
          <p:spPr>
            <a:xfrm>
              <a:off x="7564320" y="957240"/>
              <a:ext cx="684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 Box 102"/>
            <p:cNvSpPr/>
            <p:nvPr/>
          </p:nvSpPr>
          <p:spPr>
            <a:xfrm>
              <a:off x="7572240" y="969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103"/>
          <p:cNvGrpSpPr/>
          <p:nvPr/>
        </p:nvGrpSpPr>
        <p:grpSpPr>
          <a:xfrm>
            <a:off x="7534440" y="981000"/>
            <a:ext cx="66600" cy="73080"/>
            <a:chOff x="7534440" y="981000"/>
            <a:chExt cx="66600" cy="73080"/>
          </a:xfrm>
        </p:grpSpPr>
        <p:pic>
          <p:nvPicPr>
            <p:cNvPr id="681" name="椭圆 69" descr=""/>
            <p:cNvPicPr/>
            <p:nvPr/>
          </p:nvPicPr>
          <p:blipFill>
            <a:blip r:embed="rId48"/>
            <a:stretch/>
          </p:blipFill>
          <p:spPr>
            <a:xfrm>
              <a:off x="7534440" y="98100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105"/>
            <p:cNvSpPr/>
            <p:nvPr/>
          </p:nvSpPr>
          <p:spPr>
            <a:xfrm>
              <a:off x="7543800" y="99036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106"/>
          <p:cNvGrpSpPr/>
          <p:nvPr/>
        </p:nvGrpSpPr>
        <p:grpSpPr>
          <a:xfrm>
            <a:off x="7467480" y="1030320"/>
            <a:ext cx="66600" cy="73080"/>
            <a:chOff x="7467480" y="1030320"/>
            <a:chExt cx="66600" cy="73080"/>
          </a:xfrm>
        </p:grpSpPr>
        <p:pic>
          <p:nvPicPr>
            <p:cNvPr id="684" name="椭圆 70" descr=""/>
            <p:cNvPicPr/>
            <p:nvPr/>
          </p:nvPicPr>
          <p:blipFill>
            <a:blip r:embed="rId49"/>
            <a:stretch/>
          </p:blipFill>
          <p:spPr>
            <a:xfrm>
              <a:off x="7467480" y="1030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108"/>
            <p:cNvSpPr/>
            <p:nvPr/>
          </p:nvSpPr>
          <p:spPr>
            <a:xfrm>
              <a:off x="7476840" y="104292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109"/>
          <p:cNvGrpSpPr/>
          <p:nvPr/>
        </p:nvGrpSpPr>
        <p:grpSpPr>
          <a:xfrm>
            <a:off x="7534440" y="1054080"/>
            <a:ext cx="66600" cy="73080"/>
            <a:chOff x="7534440" y="1054080"/>
            <a:chExt cx="66600" cy="73080"/>
          </a:xfrm>
        </p:grpSpPr>
        <p:pic>
          <p:nvPicPr>
            <p:cNvPr id="687" name="椭圆 71" descr=""/>
            <p:cNvPicPr/>
            <p:nvPr/>
          </p:nvPicPr>
          <p:blipFill>
            <a:blip r:embed="rId50"/>
            <a:stretch/>
          </p:blipFill>
          <p:spPr>
            <a:xfrm>
              <a:off x="7534440" y="10540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111"/>
            <p:cNvSpPr/>
            <p:nvPr/>
          </p:nvSpPr>
          <p:spPr>
            <a:xfrm>
              <a:off x="7543800" y="106344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112"/>
          <p:cNvGrpSpPr/>
          <p:nvPr/>
        </p:nvGrpSpPr>
        <p:grpSpPr>
          <a:xfrm>
            <a:off x="7486560" y="1042920"/>
            <a:ext cx="66600" cy="66600"/>
            <a:chOff x="7486560" y="1042920"/>
            <a:chExt cx="66600" cy="66600"/>
          </a:xfrm>
        </p:grpSpPr>
        <p:pic>
          <p:nvPicPr>
            <p:cNvPr id="690" name="椭圆 72" descr=""/>
            <p:cNvPicPr/>
            <p:nvPr/>
          </p:nvPicPr>
          <p:blipFill>
            <a:blip r:embed="rId51"/>
            <a:stretch/>
          </p:blipFill>
          <p:spPr>
            <a:xfrm>
              <a:off x="7486560" y="1042920"/>
              <a:ext cx="666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114"/>
            <p:cNvSpPr/>
            <p:nvPr/>
          </p:nvSpPr>
          <p:spPr>
            <a:xfrm>
              <a:off x="7497720" y="10508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115"/>
          <p:cNvGrpSpPr/>
          <p:nvPr/>
        </p:nvGrpSpPr>
        <p:grpSpPr>
          <a:xfrm>
            <a:off x="7486560" y="1054080"/>
            <a:ext cx="54000" cy="55440"/>
            <a:chOff x="7486560" y="1054080"/>
            <a:chExt cx="54000" cy="55440"/>
          </a:xfrm>
        </p:grpSpPr>
        <p:pic>
          <p:nvPicPr>
            <p:cNvPr id="693" name="椭圆 73" descr=""/>
            <p:cNvPicPr/>
            <p:nvPr/>
          </p:nvPicPr>
          <p:blipFill>
            <a:blip r:embed="rId52"/>
            <a:stretch/>
          </p:blipFill>
          <p:spPr>
            <a:xfrm>
              <a:off x="7486560" y="1054080"/>
              <a:ext cx="5400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117"/>
            <p:cNvSpPr/>
            <p:nvPr/>
          </p:nvSpPr>
          <p:spPr>
            <a:xfrm>
              <a:off x="7494480" y="1060560"/>
              <a:ext cx="3636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8"/>
          <p:cNvGrpSpPr/>
          <p:nvPr/>
        </p:nvGrpSpPr>
        <p:grpSpPr>
          <a:xfrm>
            <a:off x="7534440" y="1030320"/>
            <a:ext cx="66600" cy="73080"/>
            <a:chOff x="7534440" y="1030320"/>
            <a:chExt cx="66600" cy="73080"/>
          </a:xfrm>
        </p:grpSpPr>
        <p:pic>
          <p:nvPicPr>
            <p:cNvPr id="696" name="椭圆 74" descr=""/>
            <p:cNvPicPr/>
            <p:nvPr/>
          </p:nvPicPr>
          <p:blipFill>
            <a:blip r:embed="rId53"/>
            <a:stretch/>
          </p:blipFill>
          <p:spPr>
            <a:xfrm>
              <a:off x="7534440" y="1030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 Box 120"/>
            <p:cNvSpPr/>
            <p:nvPr/>
          </p:nvSpPr>
          <p:spPr>
            <a:xfrm>
              <a:off x="7543800" y="104292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21"/>
          <p:cNvGrpSpPr/>
          <p:nvPr/>
        </p:nvGrpSpPr>
        <p:grpSpPr>
          <a:xfrm>
            <a:off x="7553160" y="1017720"/>
            <a:ext cx="66600" cy="72720"/>
            <a:chOff x="7553160" y="1017720"/>
            <a:chExt cx="66600" cy="72720"/>
          </a:xfrm>
        </p:grpSpPr>
        <p:pic>
          <p:nvPicPr>
            <p:cNvPr id="699" name="椭圆 75" descr=""/>
            <p:cNvPicPr/>
            <p:nvPr/>
          </p:nvPicPr>
          <p:blipFill>
            <a:blip r:embed="rId54"/>
            <a:stretch/>
          </p:blipFill>
          <p:spPr>
            <a:xfrm>
              <a:off x="7553160" y="1017720"/>
              <a:ext cx="66600" cy="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 Box 123"/>
            <p:cNvSpPr/>
            <p:nvPr/>
          </p:nvSpPr>
          <p:spPr>
            <a:xfrm>
              <a:off x="7564320" y="1029960"/>
              <a:ext cx="4608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124"/>
          <p:cNvGrpSpPr/>
          <p:nvPr/>
        </p:nvGrpSpPr>
        <p:grpSpPr>
          <a:xfrm>
            <a:off x="7534440" y="1054080"/>
            <a:ext cx="66600" cy="73080"/>
            <a:chOff x="7534440" y="1054080"/>
            <a:chExt cx="66600" cy="73080"/>
          </a:xfrm>
        </p:grpSpPr>
        <p:pic>
          <p:nvPicPr>
            <p:cNvPr id="702" name="椭圆 76" descr=""/>
            <p:cNvPicPr/>
            <p:nvPr/>
          </p:nvPicPr>
          <p:blipFill>
            <a:blip r:embed="rId55"/>
            <a:stretch/>
          </p:blipFill>
          <p:spPr>
            <a:xfrm>
              <a:off x="7534440" y="10540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126"/>
            <p:cNvSpPr/>
            <p:nvPr/>
          </p:nvSpPr>
          <p:spPr>
            <a:xfrm>
              <a:off x="7543800" y="1063440"/>
              <a:ext cx="478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127"/>
          <p:cNvGrpSpPr/>
          <p:nvPr/>
        </p:nvGrpSpPr>
        <p:grpSpPr>
          <a:xfrm>
            <a:off x="7534440" y="1030320"/>
            <a:ext cx="48960" cy="55440"/>
            <a:chOff x="7534440" y="1030320"/>
            <a:chExt cx="48960" cy="55440"/>
          </a:xfrm>
        </p:grpSpPr>
        <p:pic>
          <p:nvPicPr>
            <p:cNvPr id="705" name="椭圆 77" descr=""/>
            <p:cNvPicPr/>
            <p:nvPr/>
          </p:nvPicPr>
          <p:blipFill>
            <a:blip r:embed="rId56"/>
            <a:stretch/>
          </p:blipFill>
          <p:spPr>
            <a:xfrm>
              <a:off x="7534440" y="1030320"/>
              <a:ext cx="4896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Text Box 129"/>
            <p:cNvSpPr/>
            <p:nvPr/>
          </p:nvSpPr>
          <p:spPr>
            <a:xfrm>
              <a:off x="7542000" y="1039680"/>
              <a:ext cx="345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30"/>
          <p:cNvGrpSpPr/>
          <p:nvPr/>
        </p:nvGrpSpPr>
        <p:grpSpPr>
          <a:xfrm>
            <a:off x="7534440" y="944640"/>
            <a:ext cx="48960" cy="55440"/>
            <a:chOff x="7534440" y="944640"/>
            <a:chExt cx="48960" cy="55440"/>
          </a:xfrm>
        </p:grpSpPr>
        <p:pic>
          <p:nvPicPr>
            <p:cNvPr id="708" name="椭圆 78" descr=""/>
            <p:cNvPicPr/>
            <p:nvPr/>
          </p:nvPicPr>
          <p:blipFill>
            <a:blip r:embed="rId57"/>
            <a:stretch/>
          </p:blipFill>
          <p:spPr>
            <a:xfrm>
              <a:off x="7534440" y="944640"/>
              <a:ext cx="4896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 Box 132"/>
            <p:cNvSpPr/>
            <p:nvPr/>
          </p:nvSpPr>
          <p:spPr>
            <a:xfrm>
              <a:off x="7542000" y="955800"/>
              <a:ext cx="345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0" name="图片 79" descr=""/>
          <p:cNvPicPr/>
          <p:nvPr/>
        </p:nvPicPr>
        <p:blipFill>
          <a:blip r:embed="rId58"/>
          <a:stretch/>
        </p:blipFill>
        <p:spPr>
          <a:xfrm>
            <a:off x="2489040" y="1987560"/>
            <a:ext cx="1141560" cy="251604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80" descr=""/>
          <p:cNvPicPr/>
          <p:nvPr/>
        </p:nvPicPr>
        <p:blipFill>
          <a:blip r:embed="rId59"/>
          <a:stretch/>
        </p:blipFill>
        <p:spPr>
          <a:xfrm>
            <a:off x="3386160" y="2784600"/>
            <a:ext cx="849240" cy="871560"/>
          </a:xfrm>
          <a:prstGeom prst="rect">
            <a:avLst/>
          </a:prstGeom>
          <a:ln w="0">
            <a:noFill/>
          </a:ln>
        </p:spPr>
      </p:pic>
      <p:grpSp>
        <p:nvGrpSpPr>
          <p:cNvPr id="712" name="Group 135"/>
          <p:cNvGrpSpPr/>
          <p:nvPr/>
        </p:nvGrpSpPr>
        <p:grpSpPr>
          <a:xfrm>
            <a:off x="4694400" y="5516640"/>
            <a:ext cx="66600" cy="73080"/>
            <a:chOff x="4694400" y="5516640"/>
            <a:chExt cx="66600" cy="73080"/>
          </a:xfrm>
        </p:grpSpPr>
        <p:pic>
          <p:nvPicPr>
            <p:cNvPr id="713" name="椭圆 81" descr=""/>
            <p:cNvPicPr/>
            <p:nvPr/>
          </p:nvPicPr>
          <p:blipFill>
            <a:blip r:embed="rId60"/>
            <a:stretch/>
          </p:blipFill>
          <p:spPr>
            <a:xfrm>
              <a:off x="4694400" y="551664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137"/>
            <p:cNvSpPr/>
            <p:nvPr/>
          </p:nvSpPr>
          <p:spPr>
            <a:xfrm>
              <a:off x="4700880" y="552780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38"/>
          <p:cNvGrpSpPr/>
          <p:nvPr/>
        </p:nvGrpSpPr>
        <p:grpSpPr>
          <a:xfrm>
            <a:off x="6168960" y="6669000"/>
            <a:ext cx="66600" cy="73080"/>
            <a:chOff x="6168960" y="6669000"/>
            <a:chExt cx="66600" cy="73080"/>
          </a:xfrm>
        </p:grpSpPr>
        <p:pic>
          <p:nvPicPr>
            <p:cNvPr id="716" name="椭圆 82" descr=""/>
            <p:cNvPicPr/>
            <p:nvPr/>
          </p:nvPicPr>
          <p:blipFill>
            <a:blip r:embed="rId61"/>
            <a:stretch/>
          </p:blipFill>
          <p:spPr>
            <a:xfrm>
              <a:off x="6168960" y="666900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140"/>
            <p:cNvSpPr/>
            <p:nvPr/>
          </p:nvSpPr>
          <p:spPr>
            <a:xfrm>
              <a:off x="6176880" y="668016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1"/>
          <p:cNvGrpSpPr/>
          <p:nvPr/>
        </p:nvGrpSpPr>
        <p:grpSpPr>
          <a:xfrm>
            <a:off x="5810400" y="6497640"/>
            <a:ext cx="66600" cy="68400"/>
            <a:chOff x="5810400" y="6497640"/>
            <a:chExt cx="66600" cy="68400"/>
          </a:xfrm>
        </p:grpSpPr>
        <p:pic>
          <p:nvPicPr>
            <p:cNvPr id="719" name="椭圆 83" descr=""/>
            <p:cNvPicPr/>
            <p:nvPr/>
          </p:nvPicPr>
          <p:blipFill>
            <a:blip r:embed="rId62"/>
            <a:stretch/>
          </p:blipFill>
          <p:spPr>
            <a:xfrm>
              <a:off x="5810400" y="6497640"/>
              <a:ext cx="66600" cy="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143"/>
            <p:cNvSpPr/>
            <p:nvPr/>
          </p:nvSpPr>
          <p:spPr>
            <a:xfrm>
              <a:off x="5818320" y="6507000"/>
              <a:ext cx="460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144"/>
          <p:cNvGrpSpPr/>
          <p:nvPr/>
        </p:nvGrpSpPr>
        <p:grpSpPr>
          <a:xfrm>
            <a:off x="6699240" y="6340320"/>
            <a:ext cx="66600" cy="66600"/>
            <a:chOff x="6699240" y="6340320"/>
            <a:chExt cx="66600" cy="66600"/>
          </a:xfrm>
        </p:grpSpPr>
        <p:pic>
          <p:nvPicPr>
            <p:cNvPr id="722" name="椭圆 84" descr=""/>
            <p:cNvPicPr/>
            <p:nvPr/>
          </p:nvPicPr>
          <p:blipFill>
            <a:blip r:embed="rId63"/>
            <a:stretch/>
          </p:blipFill>
          <p:spPr>
            <a:xfrm>
              <a:off x="6699240" y="6340320"/>
              <a:ext cx="666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Text Box 146"/>
            <p:cNvSpPr/>
            <p:nvPr/>
          </p:nvSpPr>
          <p:spPr>
            <a:xfrm>
              <a:off x="6708600" y="634824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147"/>
          <p:cNvGrpSpPr/>
          <p:nvPr/>
        </p:nvGrpSpPr>
        <p:grpSpPr>
          <a:xfrm>
            <a:off x="7364520" y="6162840"/>
            <a:ext cx="66600" cy="72720"/>
            <a:chOff x="7364520" y="6162840"/>
            <a:chExt cx="66600" cy="72720"/>
          </a:xfrm>
        </p:grpSpPr>
        <p:pic>
          <p:nvPicPr>
            <p:cNvPr id="725" name="椭圆 85" descr=""/>
            <p:cNvPicPr/>
            <p:nvPr/>
          </p:nvPicPr>
          <p:blipFill>
            <a:blip r:embed="rId64"/>
            <a:stretch/>
          </p:blipFill>
          <p:spPr>
            <a:xfrm>
              <a:off x="7364520" y="6162840"/>
              <a:ext cx="66600" cy="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 Box 149"/>
            <p:cNvSpPr/>
            <p:nvPr/>
          </p:nvSpPr>
          <p:spPr>
            <a:xfrm>
              <a:off x="7373880" y="6175080"/>
              <a:ext cx="4608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50"/>
          <p:cNvGrpSpPr/>
          <p:nvPr/>
        </p:nvGrpSpPr>
        <p:grpSpPr>
          <a:xfrm>
            <a:off x="7827840" y="5821200"/>
            <a:ext cx="66600" cy="73080"/>
            <a:chOff x="7827840" y="5821200"/>
            <a:chExt cx="66600" cy="73080"/>
          </a:xfrm>
        </p:grpSpPr>
        <p:pic>
          <p:nvPicPr>
            <p:cNvPr id="728" name="椭圆 86" descr=""/>
            <p:cNvPicPr/>
            <p:nvPr/>
          </p:nvPicPr>
          <p:blipFill>
            <a:blip r:embed="rId65"/>
            <a:stretch/>
          </p:blipFill>
          <p:spPr>
            <a:xfrm>
              <a:off x="7827840" y="582120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152"/>
            <p:cNvSpPr/>
            <p:nvPr/>
          </p:nvSpPr>
          <p:spPr>
            <a:xfrm>
              <a:off x="7839000" y="5830560"/>
              <a:ext cx="460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53"/>
          <p:cNvGrpSpPr/>
          <p:nvPr/>
        </p:nvGrpSpPr>
        <p:grpSpPr>
          <a:xfrm>
            <a:off x="8759880" y="6583320"/>
            <a:ext cx="66600" cy="73080"/>
            <a:chOff x="8759880" y="6583320"/>
            <a:chExt cx="66600" cy="73080"/>
          </a:xfrm>
        </p:grpSpPr>
        <p:pic>
          <p:nvPicPr>
            <p:cNvPr id="731" name="椭圆 87" descr=""/>
            <p:cNvPicPr/>
            <p:nvPr/>
          </p:nvPicPr>
          <p:blipFill>
            <a:blip r:embed="rId66"/>
            <a:stretch/>
          </p:blipFill>
          <p:spPr>
            <a:xfrm>
              <a:off x="8759880" y="658332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Text Box 155"/>
            <p:cNvSpPr/>
            <p:nvPr/>
          </p:nvSpPr>
          <p:spPr>
            <a:xfrm>
              <a:off x="8769240" y="6594480"/>
              <a:ext cx="478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156"/>
          <p:cNvGrpSpPr/>
          <p:nvPr/>
        </p:nvGrpSpPr>
        <p:grpSpPr>
          <a:xfrm>
            <a:off x="8534520" y="5114880"/>
            <a:ext cx="66600" cy="73080"/>
            <a:chOff x="8534520" y="5114880"/>
            <a:chExt cx="66600" cy="73080"/>
          </a:xfrm>
        </p:grpSpPr>
        <p:pic>
          <p:nvPicPr>
            <p:cNvPr id="734" name="椭圆 88" descr=""/>
            <p:cNvPicPr/>
            <p:nvPr/>
          </p:nvPicPr>
          <p:blipFill>
            <a:blip r:embed="rId67"/>
            <a:stretch/>
          </p:blipFill>
          <p:spPr>
            <a:xfrm>
              <a:off x="8534520" y="51148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 Box 158"/>
            <p:cNvSpPr/>
            <p:nvPr/>
          </p:nvSpPr>
          <p:spPr>
            <a:xfrm>
              <a:off x="8543880" y="5124240"/>
              <a:ext cx="460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159"/>
          <p:cNvGrpSpPr/>
          <p:nvPr/>
        </p:nvGrpSpPr>
        <p:grpSpPr>
          <a:xfrm>
            <a:off x="8296200" y="5505480"/>
            <a:ext cx="66600" cy="66600"/>
            <a:chOff x="8296200" y="5505480"/>
            <a:chExt cx="66600" cy="66600"/>
          </a:xfrm>
        </p:grpSpPr>
        <p:pic>
          <p:nvPicPr>
            <p:cNvPr id="737" name="椭圆 89" descr=""/>
            <p:cNvPicPr/>
            <p:nvPr/>
          </p:nvPicPr>
          <p:blipFill>
            <a:blip r:embed="rId68"/>
            <a:stretch/>
          </p:blipFill>
          <p:spPr>
            <a:xfrm>
              <a:off x="8296200" y="5505480"/>
              <a:ext cx="6660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 Box 161"/>
            <p:cNvSpPr/>
            <p:nvPr/>
          </p:nvSpPr>
          <p:spPr>
            <a:xfrm>
              <a:off x="8304120" y="551340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162"/>
          <p:cNvGrpSpPr/>
          <p:nvPr/>
        </p:nvGrpSpPr>
        <p:grpSpPr>
          <a:xfrm>
            <a:off x="5327640" y="4913280"/>
            <a:ext cx="66600" cy="73080"/>
            <a:chOff x="5327640" y="4913280"/>
            <a:chExt cx="66600" cy="73080"/>
          </a:xfrm>
        </p:grpSpPr>
        <p:pic>
          <p:nvPicPr>
            <p:cNvPr id="740" name="椭圆 90" descr=""/>
            <p:cNvPicPr/>
            <p:nvPr/>
          </p:nvPicPr>
          <p:blipFill>
            <a:blip r:embed="rId69"/>
            <a:stretch/>
          </p:blipFill>
          <p:spPr>
            <a:xfrm>
              <a:off x="5327640" y="49132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Text Box 164"/>
            <p:cNvSpPr/>
            <p:nvPr/>
          </p:nvSpPr>
          <p:spPr>
            <a:xfrm>
              <a:off x="5340240" y="4922640"/>
              <a:ext cx="460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165"/>
          <p:cNvGrpSpPr/>
          <p:nvPr/>
        </p:nvGrpSpPr>
        <p:grpSpPr>
          <a:xfrm>
            <a:off x="6168960" y="4438800"/>
            <a:ext cx="66600" cy="72720"/>
            <a:chOff x="6168960" y="4438800"/>
            <a:chExt cx="66600" cy="72720"/>
          </a:xfrm>
        </p:grpSpPr>
        <p:pic>
          <p:nvPicPr>
            <p:cNvPr id="743" name="椭圆 91" descr=""/>
            <p:cNvPicPr/>
            <p:nvPr/>
          </p:nvPicPr>
          <p:blipFill>
            <a:blip r:embed="rId70"/>
            <a:stretch/>
          </p:blipFill>
          <p:spPr>
            <a:xfrm>
              <a:off x="6168960" y="4438800"/>
              <a:ext cx="66600" cy="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Text Box 167"/>
            <p:cNvSpPr/>
            <p:nvPr/>
          </p:nvSpPr>
          <p:spPr>
            <a:xfrm>
              <a:off x="6176880" y="444780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168"/>
          <p:cNvGrpSpPr/>
          <p:nvPr/>
        </p:nvGrpSpPr>
        <p:grpSpPr>
          <a:xfrm>
            <a:off x="4559400" y="5273640"/>
            <a:ext cx="68040" cy="73080"/>
            <a:chOff x="4559400" y="5273640"/>
            <a:chExt cx="68040" cy="73080"/>
          </a:xfrm>
        </p:grpSpPr>
        <p:pic>
          <p:nvPicPr>
            <p:cNvPr id="746" name="椭圆 92" descr=""/>
            <p:cNvPicPr/>
            <p:nvPr/>
          </p:nvPicPr>
          <p:blipFill>
            <a:blip r:embed="rId71"/>
            <a:stretch/>
          </p:blipFill>
          <p:spPr>
            <a:xfrm>
              <a:off x="4559400" y="5273640"/>
              <a:ext cx="6804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Text Box 170"/>
            <p:cNvSpPr/>
            <p:nvPr/>
          </p:nvSpPr>
          <p:spPr>
            <a:xfrm>
              <a:off x="4568400" y="5283000"/>
              <a:ext cx="4572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171"/>
          <p:cNvGrpSpPr/>
          <p:nvPr/>
        </p:nvGrpSpPr>
        <p:grpSpPr>
          <a:xfrm>
            <a:off x="4968720" y="4925880"/>
            <a:ext cx="66600" cy="73080"/>
            <a:chOff x="4968720" y="4925880"/>
            <a:chExt cx="66600" cy="73080"/>
          </a:xfrm>
        </p:grpSpPr>
        <p:pic>
          <p:nvPicPr>
            <p:cNvPr id="749" name="椭圆 93" descr=""/>
            <p:cNvPicPr/>
            <p:nvPr/>
          </p:nvPicPr>
          <p:blipFill>
            <a:blip r:embed="rId72"/>
            <a:stretch/>
          </p:blipFill>
          <p:spPr>
            <a:xfrm>
              <a:off x="4968720" y="4925880"/>
              <a:ext cx="66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 Box 173"/>
            <p:cNvSpPr/>
            <p:nvPr/>
          </p:nvSpPr>
          <p:spPr>
            <a:xfrm>
              <a:off x="4979880" y="4937040"/>
              <a:ext cx="475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174"/>
          <p:cNvGrpSpPr/>
          <p:nvPr/>
        </p:nvGrpSpPr>
        <p:grpSpPr>
          <a:xfrm>
            <a:off x="5029200" y="2773440"/>
            <a:ext cx="73080" cy="79200"/>
            <a:chOff x="5029200" y="2773440"/>
            <a:chExt cx="73080" cy="79200"/>
          </a:xfrm>
        </p:grpSpPr>
        <p:pic>
          <p:nvPicPr>
            <p:cNvPr id="752" name="椭圆 94" descr=""/>
            <p:cNvPicPr/>
            <p:nvPr/>
          </p:nvPicPr>
          <p:blipFill>
            <a:blip r:embed="rId73"/>
            <a:stretch/>
          </p:blipFill>
          <p:spPr>
            <a:xfrm>
              <a:off x="5029200" y="277344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Text Box 176"/>
            <p:cNvSpPr/>
            <p:nvPr/>
          </p:nvSpPr>
          <p:spPr>
            <a:xfrm>
              <a:off x="5041800" y="2786040"/>
              <a:ext cx="5076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77"/>
          <p:cNvGrpSpPr/>
          <p:nvPr/>
        </p:nvGrpSpPr>
        <p:grpSpPr>
          <a:xfrm>
            <a:off x="5029200" y="2773440"/>
            <a:ext cx="73080" cy="79200"/>
            <a:chOff x="5029200" y="2773440"/>
            <a:chExt cx="73080" cy="79200"/>
          </a:xfrm>
        </p:grpSpPr>
        <p:pic>
          <p:nvPicPr>
            <p:cNvPr id="755" name="椭圆 97" descr=""/>
            <p:cNvPicPr/>
            <p:nvPr/>
          </p:nvPicPr>
          <p:blipFill>
            <a:blip r:embed="rId74"/>
            <a:stretch/>
          </p:blipFill>
          <p:spPr>
            <a:xfrm>
              <a:off x="5029200" y="277344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Text Box 179"/>
            <p:cNvSpPr/>
            <p:nvPr/>
          </p:nvSpPr>
          <p:spPr>
            <a:xfrm>
              <a:off x="5041800" y="2786040"/>
              <a:ext cx="5076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80"/>
          <p:cNvGrpSpPr/>
          <p:nvPr/>
        </p:nvGrpSpPr>
        <p:grpSpPr>
          <a:xfrm>
            <a:off x="5029200" y="2773440"/>
            <a:ext cx="73080" cy="79200"/>
            <a:chOff x="5029200" y="2773440"/>
            <a:chExt cx="73080" cy="79200"/>
          </a:xfrm>
        </p:grpSpPr>
        <p:pic>
          <p:nvPicPr>
            <p:cNvPr id="758" name="椭圆 98" descr=""/>
            <p:cNvPicPr/>
            <p:nvPr/>
          </p:nvPicPr>
          <p:blipFill>
            <a:blip r:embed="rId75"/>
            <a:stretch/>
          </p:blipFill>
          <p:spPr>
            <a:xfrm>
              <a:off x="5029200" y="277344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 Box 182"/>
            <p:cNvSpPr/>
            <p:nvPr/>
          </p:nvSpPr>
          <p:spPr>
            <a:xfrm>
              <a:off x="5041800" y="2786040"/>
              <a:ext cx="5076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183"/>
          <p:cNvGrpSpPr/>
          <p:nvPr/>
        </p:nvGrpSpPr>
        <p:grpSpPr>
          <a:xfrm>
            <a:off x="5029200" y="2773440"/>
            <a:ext cx="73080" cy="79200"/>
            <a:chOff x="5029200" y="2773440"/>
            <a:chExt cx="73080" cy="79200"/>
          </a:xfrm>
        </p:grpSpPr>
        <p:pic>
          <p:nvPicPr>
            <p:cNvPr id="761" name="椭圆 99" descr=""/>
            <p:cNvPicPr/>
            <p:nvPr/>
          </p:nvPicPr>
          <p:blipFill>
            <a:blip r:embed="rId76"/>
            <a:stretch/>
          </p:blipFill>
          <p:spPr>
            <a:xfrm>
              <a:off x="5029200" y="277344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Text Box 185"/>
            <p:cNvSpPr/>
            <p:nvPr/>
          </p:nvSpPr>
          <p:spPr>
            <a:xfrm>
              <a:off x="5041800" y="2786040"/>
              <a:ext cx="5076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186"/>
          <p:cNvGrpSpPr/>
          <p:nvPr/>
        </p:nvGrpSpPr>
        <p:grpSpPr>
          <a:xfrm>
            <a:off x="4986360" y="2730600"/>
            <a:ext cx="73080" cy="79200"/>
            <a:chOff x="4986360" y="2730600"/>
            <a:chExt cx="73080" cy="79200"/>
          </a:xfrm>
        </p:grpSpPr>
        <p:pic>
          <p:nvPicPr>
            <p:cNvPr id="764" name="椭圆 100" descr=""/>
            <p:cNvPicPr/>
            <p:nvPr/>
          </p:nvPicPr>
          <p:blipFill>
            <a:blip r:embed="rId77"/>
            <a:stretch/>
          </p:blipFill>
          <p:spPr>
            <a:xfrm>
              <a:off x="4986360" y="273060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188"/>
            <p:cNvSpPr/>
            <p:nvPr/>
          </p:nvSpPr>
          <p:spPr>
            <a:xfrm>
              <a:off x="4998960" y="2741760"/>
              <a:ext cx="525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89"/>
          <p:cNvGrpSpPr/>
          <p:nvPr/>
        </p:nvGrpSpPr>
        <p:grpSpPr>
          <a:xfrm>
            <a:off x="4986360" y="2730600"/>
            <a:ext cx="73080" cy="79200"/>
            <a:chOff x="4986360" y="2730600"/>
            <a:chExt cx="73080" cy="79200"/>
          </a:xfrm>
        </p:grpSpPr>
        <p:pic>
          <p:nvPicPr>
            <p:cNvPr id="767" name="椭圆 101" descr=""/>
            <p:cNvPicPr/>
            <p:nvPr/>
          </p:nvPicPr>
          <p:blipFill>
            <a:blip r:embed="rId78"/>
            <a:stretch/>
          </p:blipFill>
          <p:spPr>
            <a:xfrm>
              <a:off x="4986360" y="273060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191"/>
            <p:cNvSpPr/>
            <p:nvPr/>
          </p:nvSpPr>
          <p:spPr>
            <a:xfrm>
              <a:off x="4998960" y="2741760"/>
              <a:ext cx="525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192"/>
          <p:cNvGrpSpPr/>
          <p:nvPr/>
        </p:nvGrpSpPr>
        <p:grpSpPr>
          <a:xfrm>
            <a:off x="4986360" y="2730600"/>
            <a:ext cx="73080" cy="79200"/>
            <a:chOff x="4986360" y="2730600"/>
            <a:chExt cx="73080" cy="79200"/>
          </a:xfrm>
        </p:grpSpPr>
        <p:pic>
          <p:nvPicPr>
            <p:cNvPr id="770" name="椭圆 102" descr=""/>
            <p:cNvPicPr/>
            <p:nvPr/>
          </p:nvPicPr>
          <p:blipFill>
            <a:blip r:embed="rId79"/>
            <a:stretch/>
          </p:blipFill>
          <p:spPr>
            <a:xfrm>
              <a:off x="4986360" y="273060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 Box 194"/>
            <p:cNvSpPr/>
            <p:nvPr/>
          </p:nvSpPr>
          <p:spPr>
            <a:xfrm>
              <a:off x="4998960" y="2741760"/>
              <a:ext cx="525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195"/>
          <p:cNvGrpSpPr/>
          <p:nvPr/>
        </p:nvGrpSpPr>
        <p:grpSpPr>
          <a:xfrm>
            <a:off x="4986360" y="2730600"/>
            <a:ext cx="73080" cy="79200"/>
            <a:chOff x="4986360" y="2730600"/>
            <a:chExt cx="73080" cy="79200"/>
          </a:xfrm>
        </p:grpSpPr>
        <p:pic>
          <p:nvPicPr>
            <p:cNvPr id="773" name="椭圆 103" descr=""/>
            <p:cNvPicPr/>
            <p:nvPr/>
          </p:nvPicPr>
          <p:blipFill>
            <a:blip r:embed="rId80"/>
            <a:stretch/>
          </p:blipFill>
          <p:spPr>
            <a:xfrm>
              <a:off x="4986360" y="273060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197"/>
            <p:cNvSpPr/>
            <p:nvPr/>
          </p:nvSpPr>
          <p:spPr>
            <a:xfrm>
              <a:off x="4998960" y="2741760"/>
              <a:ext cx="5256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198"/>
          <p:cNvGrpSpPr/>
          <p:nvPr/>
        </p:nvGrpSpPr>
        <p:grpSpPr>
          <a:xfrm>
            <a:off x="4937040" y="2682720"/>
            <a:ext cx="73080" cy="79200"/>
            <a:chOff x="4937040" y="2682720"/>
            <a:chExt cx="73080" cy="79200"/>
          </a:xfrm>
        </p:grpSpPr>
        <p:pic>
          <p:nvPicPr>
            <p:cNvPr id="776" name="椭圆 104" descr=""/>
            <p:cNvPicPr/>
            <p:nvPr/>
          </p:nvPicPr>
          <p:blipFill>
            <a:blip r:embed="rId81"/>
            <a:stretch/>
          </p:blipFill>
          <p:spPr>
            <a:xfrm>
              <a:off x="4937040" y="268272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200"/>
            <p:cNvSpPr/>
            <p:nvPr/>
          </p:nvSpPr>
          <p:spPr>
            <a:xfrm>
              <a:off x="4948200" y="2693880"/>
              <a:ext cx="522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201"/>
          <p:cNvGrpSpPr/>
          <p:nvPr/>
        </p:nvGrpSpPr>
        <p:grpSpPr>
          <a:xfrm>
            <a:off x="4937040" y="2682720"/>
            <a:ext cx="73080" cy="79200"/>
            <a:chOff x="4937040" y="2682720"/>
            <a:chExt cx="73080" cy="79200"/>
          </a:xfrm>
        </p:grpSpPr>
        <p:pic>
          <p:nvPicPr>
            <p:cNvPr id="779" name="椭圆 105" descr=""/>
            <p:cNvPicPr/>
            <p:nvPr/>
          </p:nvPicPr>
          <p:blipFill>
            <a:blip r:embed="rId82"/>
            <a:stretch/>
          </p:blipFill>
          <p:spPr>
            <a:xfrm>
              <a:off x="4937040" y="268272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Text Box 203"/>
            <p:cNvSpPr/>
            <p:nvPr/>
          </p:nvSpPr>
          <p:spPr>
            <a:xfrm>
              <a:off x="4948200" y="2693880"/>
              <a:ext cx="522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204"/>
          <p:cNvGrpSpPr/>
          <p:nvPr/>
        </p:nvGrpSpPr>
        <p:grpSpPr>
          <a:xfrm>
            <a:off x="4937040" y="2682720"/>
            <a:ext cx="73080" cy="79200"/>
            <a:chOff x="4937040" y="2682720"/>
            <a:chExt cx="73080" cy="79200"/>
          </a:xfrm>
        </p:grpSpPr>
        <p:pic>
          <p:nvPicPr>
            <p:cNvPr id="782" name="椭圆 106" descr=""/>
            <p:cNvPicPr/>
            <p:nvPr/>
          </p:nvPicPr>
          <p:blipFill>
            <a:blip r:embed="rId83"/>
            <a:stretch/>
          </p:blipFill>
          <p:spPr>
            <a:xfrm>
              <a:off x="4937040" y="268272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 Box 206"/>
            <p:cNvSpPr/>
            <p:nvPr/>
          </p:nvSpPr>
          <p:spPr>
            <a:xfrm>
              <a:off x="4948200" y="2693880"/>
              <a:ext cx="522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207"/>
          <p:cNvGrpSpPr/>
          <p:nvPr/>
        </p:nvGrpSpPr>
        <p:grpSpPr>
          <a:xfrm>
            <a:off x="4937040" y="2682720"/>
            <a:ext cx="73080" cy="79200"/>
            <a:chOff x="4937040" y="2682720"/>
            <a:chExt cx="73080" cy="79200"/>
          </a:xfrm>
        </p:grpSpPr>
        <p:pic>
          <p:nvPicPr>
            <p:cNvPr id="785" name="椭圆 107" descr=""/>
            <p:cNvPicPr/>
            <p:nvPr/>
          </p:nvPicPr>
          <p:blipFill>
            <a:blip r:embed="rId84"/>
            <a:stretch/>
          </p:blipFill>
          <p:spPr>
            <a:xfrm>
              <a:off x="4937040" y="268272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Text Box 209"/>
            <p:cNvSpPr/>
            <p:nvPr/>
          </p:nvSpPr>
          <p:spPr>
            <a:xfrm>
              <a:off x="4948200" y="2693880"/>
              <a:ext cx="522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210"/>
          <p:cNvGrpSpPr/>
          <p:nvPr/>
        </p:nvGrpSpPr>
        <p:grpSpPr>
          <a:xfrm>
            <a:off x="4883040" y="2633760"/>
            <a:ext cx="73080" cy="79200"/>
            <a:chOff x="4883040" y="2633760"/>
            <a:chExt cx="73080" cy="79200"/>
          </a:xfrm>
        </p:grpSpPr>
        <p:pic>
          <p:nvPicPr>
            <p:cNvPr id="788" name="椭圆 108" descr=""/>
            <p:cNvPicPr/>
            <p:nvPr/>
          </p:nvPicPr>
          <p:blipFill>
            <a:blip r:embed="rId85"/>
            <a:stretch/>
          </p:blipFill>
          <p:spPr>
            <a:xfrm>
              <a:off x="4883040" y="263376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Text Box 212"/>
            <p:cNvSpPr/>
            <p:nvPr/>
          </p:nvSpPr>
          <p:spPr>
            <a:xfrm>
              <a:off x="4894200" y="2643120"/>
              <a:ext cx="5220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213"/>
          <p:cNvGrpSpPr/>
          <p:nvPr/>
        </p:nvGrpSpPr>
        <p:grpSpPr>
          <a:xfrm>
            <a:off x="4883040" y="2633760"/>
            <a:ext cx="73080" cy="79200"/>
            <a:chOff x="4883040" y="2633760"/>
            <a:chExt cx="73080" cy="79200"/>
          </a:xfrm>
        </p:grpSpPr>
        <p:pic>
          <p:nvPicPr>
            <p:cNvPr id="791" name="椭圆 109" descr=""/>
            <p:cNvPicPr/>
            <p:nvPr/>
          </p:nvPicPr>
          <p:blipFill>
            <a:blip r:embed="rId86"/>
            <a:stretch/>
          </p:blipFill>
          <p:spPr>
            <a:xfrm>
              <a:off x="4883040" y="263376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215"/>
            <p:cNvSpPr/>
            <p:nvPr/>
          </p:nvSpPr>
          <p:spPr>
            <a:xfrm>
              <a:off x="4894200" y="2643120"/>
              <a:ext cx="5220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216"/>
          <p:cNvGrpSpPr/>
          <p:nvPr/>
        </p:nvGrpSpPr>
        <p:grpSpPr>
          <a:xfrm>
            <a:off x="4883040" y="2633760"/>
            <a:ext cx="73080" cy="79200"/>
            <a:chOff x="4883040" y="2633760"/>
            <a:chExt cx="73080" cy="79200"/>
          </a:xfrm>
        </p:grpSpPr>
        <p:pic>
          <p:nvPicPr>
            <p:cNvPr id="794" name="椭圆 110" descr=""/>
            <p:cNvPicPr/>
            <p:nvPr/>
          </p:nvPicPr>
          <p:blipFill>
            <a:blip r:embed="rId87"/>
            <a:stretch/>
          </p:blipFill>
          <p:spPr>
            <a:xfrm>
              <a:off x="4883040" y="263376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Text Box 218"/>
            <p:cNvSpPr/>
            <p:nvPr/>
          </p:nvSpPr>
          <p:spPr>
            <a:xfrm>
              <a:off x="4894200" y="2643120"/>
              <a:ext cx="5220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219"/>
          <p:cNvGrpSpPr/>
          <p:nvPr/>
        </p:nvGrpSpPr>
        <p:grpSpPr>
          <a:xfrm>
            <a:off x="4883040" y="2633760"/>
            <a:ext cx="73080" cy="79200"/>
            <a:chOff x="4883040" y="2633760"/>
            <a:chExt cx="73080" cy="79200"/>
          </a:xfrm>
        </p:grpSpPr>
        <p:pic>
          <p:nvPicPr>
            <p:cNvPr id="797" name="椭圆 111" descr=""/>
            <p:cNvPicPr/>
            <p:nvPr/>
          </p:nvPicPr>
          <p:blipFill>
            <a:blip r:embed="rId88"/>
            <a:stretch/>
          </p:blipFill>
          <p:spPr>
            <a:xfrm>
              <a:off x="4883040" y="2633760"/>
              <a:ext cx="730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Text Box 221"/>
            <p:cNvSpPr/>
            <p:nvPr/>
          </p:nvSpPr>
          <p:spPr>
            <a:xfrm>
              <a:off x="4894200" y="2643120"/>
              <a:ext cx="5220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222"/>
          <p:cNvGrpSpPr/>
          <p:nvPr/>
        </p:nvGrpSpPr>
        <p:grpSpPr>
          <a:xfrm>
            <a:off x="9180000" y="1143000"/>
            <a:ext cx="916560" cy="1278000"/>
            <a:chOff x="9180000" y="1143000"/>
            <a:chExt cx="916560" cy="1278000"/>
          </a:xfrm>
        </p:grpSpPr>
        <p:pic>
          <p:nvPicPr>
            <p:cNvPr id="800" name="图片 95" descr=""/>
            <p:cNvPicPr/>
            <p:nvPr/>
          </p:nvPicPr>
          <p:blipFill>
            <a:blip r:embed="rId89"/>
            <a:stretch/>
          </p:blipFill>
          <p:spPr>
            <a:xfrm rot="19229400">
              <a:off x="9313560" y="1274400"/>
              <a:ext cx="649080" cy="65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矩形 96"/>
            <p:cNvSpPr/>
            <p:nvPr/>
          </p:nvSpPr>
          <p:spPr>
            <a:xfrm>
              <a:off x="9486360" y="1794240"/>
              <a:ext cx="33948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文本框 1558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5586"/>
          <p:cNvSpPr/>
          <p:nvPr/>
        </p:nvSpPr>
        <p:spPr>
          <a:xfrm>
            <a:off x="2112840" y="117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秋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画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"/>
                            </p:stCondLst>
                            <p:childTnLst>
                              <p:par>
                                <p:cTn id="74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1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2 0.44282 L -3.58974E-006 1.48148E-006 E">
                                      <p:cBhvr>
                                        <p:cTn id="91" dur="5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1"/>
                            </p:stCondLst>
                            <p:childTnLst>
                              <p:par>
                                <p:cTn id="93" dur="indefinite" nodeType="after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241 0.00902 C 0.00193 0.01805 0.00113 0.04166 -0.0008 0.0625 C -0.00272 0.08333 -0.00448 0.10972 -0.00913 0.13402 C -0.01378 0.15833 -0.0181 0.17847 -0.02836 0.20763 C -0.03862 0.2368 -0.06218 0.28842 -0.07099 0.30949 E">
                                      <p:cBhvr>
                                        <p:cTn id="10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7.69231E-007 4.44444E-006 C -0.00657 0.01643 -0.00545 0.03217 -0.0149 0.05463 C -0.02436 0.07685 -0.04006 0.10185 -0.05689 0.13379 C -0.07372 0.1655 -0.0726 0.16527 -0.11522 0.24606 C -0.15801 0.32662 -0.27179 0.54004 -0.31298 0.61736 E">
                                      <p:cBhvr>
                                        <p:cTn id="102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577 0.01944 C -0.00609 0.02824 -0.00737 0.05208 -0.00802 0.07292 C -0.00866 0.09375 -0.00978 0.11967 -0.00994 0.14514 C -0.0101 0.1706 -0.00882 0.16088 -0.00898 0.22569 C -0.00914 0.29051 -0.01058 0.46991 -0.0109 0.53403 E">
                                      <p:cBhvr>
                                        <p:cTn id="107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256 0.01643 C -0.00881 0.03241 -0.01073 0.04954 -0.01698 0.06921 C -0.02323 0.08889 -0.03189 0.11273 -0.04054 0.13518 C -0.0492 0.15764 -0.05304 0.16458 -0.06939 0.20463 C -0.08573 0.24467 -0.1242 0.33981 -0.13862 0.37546 E">
                                      <p:cBhvr>
                                        <p:cTn id="112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16 -0.01736 C -0.00641 -0.00139 -0.01266 0.01458 -0.01458 0.03541 C -0.0165 0.05625 -0.0125 0.08287 -0.0117 0.10787 C -0.01089 0.13287 -0.01266 0.14606 -0.00977 0.18564 C -0.00689 0.22523 0.00241 0.31203 0.00561 0.34537 E">
                                      <p:cBhvr>
                                        <p:cTn id="117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35897E-006 -4.44444E-006 C -0.00272 0.01783 -0.00416 0.04329 -0.00625 0.05926 C -0.00817 0.075 -0.00977 0.08334 -0.01185 0.09514 C -0.01394 0.10672 -0.01298 0.10301 -0.01843 0.1294 C -0.02387 0.15602 -0.025 0.15579 -0.04423 0.2544 C -0.06346 0.35278 -0.11506 0.62362 -0.13349 0.72107 E">
                                      <p:cBhvr>
                                        <p:cTn id="122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37 -0.00023 C -0.00112 0.01041 -0.01554 0.04305 -0.02388 0.06342 C -0.03221 0.08379 -0.03622 0.09861 -0.04695 0.12176 C -0.05769 0.1449 -0.04647 0.11342 -0.0883 0.20231 C -0.13013 0.2912 -0.25432 0.56065 -0.29791 0.65509 E">
                                      <p:cBhvr>
                                        <p:cTn id="127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0256E-006 4.81481E-006 C -0.00081 0.00925 -0.00321 0.03495 -0.00513 0.05578 C -0.00706 0.07662 -0.00657 0.07199 -0.01154 0.125 C -0.01651 0.178 -0.02709 0.28379 -0.03494 0.37384 C -0.04279 0.46388 -0.05401 0.60486 -0.05898 0.6655 E">
                                      <p:cBhvr>
                                        <p:cTn id="129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5641E-006 3.7037E-006 C -0.00625 0.01597 -0.00929 0.03194 -0.01442 0.05277 C -0.01955 0.07361 -0.02436 0.09976 -0.03093 0.12453 C -0.0375 0.1493 -0.03974 0.15856 -0.054 0.20092 C -0.06827 0.24328 -0.10352 0.34166 -0.1165 0.3787 E">
                                      <p:cBhvr>
                                        <p:cTn id="134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1.02564E-006 1.85185E-006 C 0.0008 0.00856 0.00321 0.03171 0.00465 0.05116 C 0.00609 0.0706 0.00561 0.09282 0.00849 0.11643 C 0.01138 0.14004 0.00657 0.13426 0.02196 0.19282 C 0.03734 0.25139 0.08446 0.41065 0.1008 0.46782 E">
                                      <p:cBhvr>
                                        <p:cTn id="136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5641E-006 4.44444E-006 C -0.00625 0.01597 -0.00737 0.0324 -0.01442 0.05277 C -0.02147 0.07314 -0.02997 0.09791 -0.04247 0.12222 C -0.05497 0.14652 -0.05513 0.12777 -0.08958 0.19861 C -0.12404 0.26944 -0.21586 0.47453 -0.2492 0.54722 E">
                                      <p:cBhvr>
                                        <p:cTn id="138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02564E-006 3.7037E-007 C -0.00625 0.01597 -0.01026 0.03218 -0.01442 0.05278 C -0.01859 0.07338 -0.02243 0.09884 -0.02516 0.12315 C -0.02788 0.14745 -0.02131 0.08796 -0.03077 0.19884 C -0.04022 0.30972 -0.07131 0.66574 -0.08189 0.78843 E">
                                      <p:cBhvr>
                                        <p:cTn id="143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24 0.00902 C -0.00385 0.025 -0.00561 0.04189 -0.01202 0.0618 C -0.01843 0.08171 -0.02516 0.10463 -0.03638 0.12916 C -0.0476 0.1537 -0.04535 0.13726 -0.07965 0.20972 C -0.11394 0.28217 -0.20833 0.49004 -0.24215 0.56388 E">
                                      <p:cBhvr>
                                        <p:cTn id="151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577 0.01944 C -0.00561 0.0287 -0.00513 0.05463 -0.00513 0.07569 C -0.00513 0.09676 -0.00689 0.11921 -0.00609 0.14653 C -0.00529 0.17384 -0.00449 0.14514 -0.00032 0.23958 C 0.00385 0.33403 0.01491 0.61458 0.01891 0.71319 E">
                                      <p:cBhvr>
                                        <p:cTn id="156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0" repeatCount="indefinite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07692E-006 -3.33333E-006 C -0.00048 0.01713 -0.00032 0.03403 -0.00096 0.05718 C -0.0016 0.08033 -0.00304 0.10973 -0.00416 0.13936 C -0.00513 0.16898 -0.00464 0.14885 -0.00737 0.23565 C -0.01009 0.32269 -0.01795 0.57246 -0.02067 0.66088 E">
                                      <p:cBhvr>
                                        <p:cTn id="161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0" repeatCount="indefinite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61538E-006 4.44444E-006 C -0.00625 0.01597 -0.0125 0.03194 -0.01443 0.05277 C -0.01635 0.07361 -0.01459 0.09652 -0.01154 0.125 C -0.0085 0.15347 -0.01138 0.13564 0.00432 0.22361 C 0.02003 0.31157 0.06666 0.56342 0.08317 0.65277 E">
                                      <p:cBhvr>
                                        <p:cTn id="16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16 -0.01736 C -0.00641 -0.00139 -0.00898 0.01319 -0.01459 0.03541 C -0.0202 0.05764 -0.02228 0.07129 -0.03382 0.1162 C -0.04536 0.16111 -0.05641 0.19143 -0.08382 0.30463 C -0.11122 0.41828 -0.17436 0.69398 -0.19824 0.79676 E">
                                      <p:cBhvr>
                                        <p:cTn id="177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02564E-006 -4.44444E-006 C -0.00064 0.00926 -0.00417 0.03357 -0.00369 0.05556 C -0.00321 0.07755 -0.00481 0.08727 0.00304 0.13195 C 0.0109 0.17662 0.02195 0.21042 0.04343 0.32362 C 0.0649 0.43681 0.11346 0.70926 0.13189 0.81112 E">
                                      <p:cBhvr>
                                        <p:cTn id="182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00336 -0.00023 C -0.00289 0.01574 -0.00465 0.03333 -0.01106 0.05254 C -0.01747 0.07176 -0.02805 0.08819 -0.03542 0.11481 C -0.04279 0.14143 -0.03622 0.09537 -0.05561 0.21203 C -0.075 0.3287 -0.13173 0.68912 -0.15177 0.81481 E">
                                      <p:cBhvr>
                                        <p:cTn id="187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 repeatCount="indefinite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82051E-006 4.44444E-006 C -0.00625 0.01597 -0.0125 0.03194 -0.01443 0.05277 C -0.01635 0.07361 -0.02116 0.07314 -0.01154 0.125 C -0.00193 0.17685 0.02756 0.29074 0.04311 0.36388 C 0.05865 0.43703 0.07355 0.52222 0.08157 0.56388 E">
                                      <p:cBhvr>
                                        <p:cTn id="192" dur="20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5.12821E-007 4.81481E-006 C 0.00032 0.00925 0.00048 0.03472 0.0016 0.05578 C 0.00272 0.07685 0.00112 0.09259 0.00641 0.12662 C 0.0117 0.16064 0.01779 0.18148 0.03333 0.25995 C 0.04888 0.33842 0.0859 0.52708 0.09968 0.59745 E">
                                      <p:cBhvr>
                                        <p:cTn id="197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 repeatCount="indefinite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2.82051E-006 3.7037E-006 C -0.00161 0.00972 -0.00786 0.02615 -0.00978 0.05787 C -0.0117 0.08958 -0.01154 0.15486 -0.0117 0.18981 C -0.01186 0.22476 -0.0125 0.23796 -0.01074 0.26759 C -0.00898 0.29722 -0.00305 0.34676 -0.00112 0.36759 E">
                                      <p:cBhvr>
                                        <p:cTn id="202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 repeatCount="indefinite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5897E-006 1.85185E-006 C -0.00625 0.01597 -0.01058 0.03171 -0.01443 0.05278 C -0.01827 0.07384 -0.02052 0.10185 -0.02324 0.12616 C -0.02597 0.15046 -0.03045 0.12083 -0.03077 0.19861 C -0.03109 0.27639 -0.02629 0.51065 -0.02516 0.59282 E">
                                      <p:cBhvr>
                                        <p:cTn id="207" dur="2000" fill="hold"/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35897E-006 3.7037E-007 C 0.00016 0.01898 0.00064 0.08056 0.0008 0.11343 C 0.00096 0.1463 0.00064 0.17361 0.0008 0.19676 C 0.00096 0.21991 -0.00065 0.21944 0.00176 0.25231 C 0.00416 0.28518 0.0125 0.36458 0.01522 0.39398 E">
                                      <p:cBhvr>
                                        <p:cTn id="209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024 0.00902 C 0.00256 0.01689 0.00256 0.04305 0.00352 0.05694 C 0.00448 0.07083 0.00609 0.07916 0.00833 0.09305 C 0.01057 0.10694 0.01234 0.11921 0.01698 0.14027 C 0.02163 0.16134 0.01698 0.15717 0.03621 0.21944 C 0.05544 0.28171 0.11234 0.45254 0.13237 0.51388 E">
                                      <p:cBhvr>
                                        <p:cTn id="214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 repeatCount="indefinite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577 0.01944 C -0.00577 0.02847 -0.00641 0.05278 -0.00577 0.0743 C -0.00513 0.09583 -0.00513 0.10625 -0.00192 0.1493 C 0.00128 0.19236 0.01699 0.23102 0.01346 0.33264 C 0.00994 0.43426 -0.01555 0.66991 -0.02308 0.7588 E">
                                      <p:cBhvr>
                                        <p:cTn id="219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 repeatCount="indefinite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256 0.01643 C -0.00881 0.03241 -0.01185 0.04815 -0.01698 0.06921 C -0.02211 0.09028 -0.02788 0.11944 -0.03333 0.14352 C -0.03878 0.16759 -0.02371 0.11528 -0.04968 0.21296 C -0.07564 0.31065 -0.16009 0.62199 -0.1891 0.72963 E">
                                      <p:cBhvr>
                                        <p:cTn id="224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 repeatCount="indefinite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2.5641E-006 4.44444E-006 C -0.00625 0.01597 -0.00833 0.02777 -0.01442 0.05277 C -0.02051 0.07777 -0.02339 0.10069 -0.0367 0.15 C -0.05 0.1993 -0.0766 0.29027 -0.09439 0.34861 C -0.11218 0.40694 -0.13317 0.46851 -0.14343 0.5 E">
                                      <p:cBhvr>
                                        <p:cTn id="229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016 -0.01736 C -0.00641 -0.00139 -0.01089 0.01412 -0.01458 0.03541 C -0.01827 0.05671 -0.02003 0.08564 -0.02275 0.11064 C -0.02548 0.13564 -0.02516 0.11041 -0.03141 0.18564 C -0.03766 0.26088 -0.05416 0.48356 -0.06025 0.56203 E">
                                      <p:cBhvr>
                                        <p:cTn id="234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0" repeatCount="indefinite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4.10256E-006 -4.44444E-006 C -0.00625 0.01598 -0.00898 0.03172 -0.01443 0.05278 C -0.01988 0.07385 -0.02404 0.09885 -0.03302 0.12639 C -0.04199 0.15394 -0.02645 0.14491 -0.06859 0.21806 C -0.11074 0.29121 -0.24071 0.49306 -0.2859 0.56528 E">
                                      <p:cBhvr>
                                        <p:cTn id="239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00337 -0.00023 C -0.00288 0.01574 -0.00464 0.03171 -0.01105 0.05254 C -0.01746 0.07338 -0.0133 0.08495 -0.03509 0.12453 C -0.05689 0.16412 -0.09423 0.21898 -0.14182 0.28981 C -0.18942 0.36065 -0.28349 0.49537 -0.32067 0.54953 E">
                                      <p:cBhvr>
                                        <p:cTn id="244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 repeatCount="indefinite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0256E-006 4.44444E-006 C -0.00064 0.00902 -0.00224 0.03425 -0.00352 0.05416 C -0.0048 0.07407 -0.00689 0.10208 -0.00737 0.11944 C -0.00785 0.1368 -0.00625 0.13773 -0.00641 0.15833 C -0.00657 0.17893 -0.00336 0.16689 -0.00833 0.24305 C -0.0133 0.31921 -0.03044 0.53773 -0.03621 0.61527 E">
                                      <p:cBhvr>
                                        <p:cTn id="249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2.30769E-006 4.81481E-006 C -0.00048 0.00902 -0.00305 0.03217 -0.00289 0.05439 C -0.00273 0.07662 -0.00337 0.08171 0.00096 0.13356 C 0.00529 0.18541 0.01298 0.2868 0.02307 0.3655 C 0.03317 0.44421 0.05352 0.55578 0.06154 0.60578 E">
                                      <p:cBhvr>
                                        <p:cTn id="254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0" repeatCount="indefinite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4.10256E-006 3.7037E-006 C -0.00625 0.01597 -0.01025 0.03217 -0.01442 0.05277 C -0.01859 0.07338 -0.01955 0.09282 -0.02468 0.12314 C -0.0298 0.15347 -0.03637 0.17476 -0.04487 0.23426 C -0.05336 0.29375 -0.06923 0.42893 -0.07564 0.48009 E">
                                      <p:cBhvr>
                                        <p:cTn id="259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 repeatCount="indefinite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82051E-006 1.85185E-006 C -0.00625 0.01597 -0.00897 0.03241 -0.01442 0.05278 C -0.01987 0.07315 -0.02644 0.09907 -0.03253 0.12199 C -0.03862 0.14491 -0.02644 0.12662 -0.0508 0.19004 C -0.07516 0.25347 -0.15208 0.4375 -0.17868 0.50254 E">
                                      <p:cBhvr>
                                        <p:cTn id="264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82051E-006 3.7037E-007 C -0.00625 0.01597 -0.01041 0.03148 -0.01442 0.05278 C -0.01843 0.07407 -0.01795 0.09815 -0.02388 0.12731 C -0.0298 0.15648 -0.03141 0.16319 -0.04984 0.22731 C -0.06827 0.29143 -0.11682 0.45278 -0.13445 0.51204 E">
                                      <p:cBhvr>
                                        <p:cTn id="269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0" repeatCount="indefinite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141 0.02037 L -1.53846E-006 -3.7037E-006 E">
                                      <p:cBhvr>
                                        <p:cTn id="291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3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323" dur="500" fill="hold"/>
                                        <p:tgtEl>
                                          <p:spTgt spid="59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325" dur="500" fill="hold"/>
                                        <p:tgtEl>
                                          <p:spTgt spid="59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0">
                                  <p:stCondLst>
                                    <p:cond delay="8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3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7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7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6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6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dur="indefinite" autoRev="1" nodeType="with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1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dur="indefinite" autoRev="1" nodeType="withEffect" fill="hold" presetClass="emph" presetID="6" repeatCount="3000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58" dur="1000" fill="hold"/>
                                        <p:tgtEl>
                                          <p:spTgt spid="601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9" dur="indefinite" autoRev="1" nodeType="withEffect" fill="hold" presetClass="emph" presetID="6" repeatCount="3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60" dur="1000" fill="hold"/>
                                        <p:tgtEl>
                                          <p:spTgt spid="583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autoRev="1" nodeType="withEffect" fill="hold" presetClass="emph" presetID="6" repeatCount="3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366" dur="1500" fill="hold"/>
                                        <p:tgtEl>
                                          <p:spTgt spid="587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0" repeatCount="indefinite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 repeatCount="indefinite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 repeatCount="indefinite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 repeatCount="indefinite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 repeatCount="indefinite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 repeatCount="indefinite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 repeatCount="indefinite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10" repeatCount="indefinite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10" repeatCount="indefinite">
                                  <p:stCondLst>
                                    <p:cond delay="385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1" dur="1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3" dur="1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5" dur="1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7" dur="10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path" presetID="0" repeatCount="indefinite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09" dur="1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1" dur="1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path" presetID="0" repeatCount="indefinite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3" dur="1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5" dur="1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7" dur="1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path" presetID="0" repeatCount="indefinite">
                                  <p:stCondLst>
                                    <p:cond delay="355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19" dur="1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path" presetID="0" repeatCount="indefinite">
                                  <p:stCondLst>
                                    <p:cond delay="3850"/>
                                  </p:stCondLst>
                                  <p:childTnLst>
                                    <p:animMotion origin="layout" path="M -0.00128 0.00416 L 0.00032 0.38705 E">
                                      <p:cBhvr>
                                        <p:cTn id="421" dur="1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 repeatCount="indefinite">
                                  <p:stCondLst>
                                    <p:cond delay="365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path" presetID="0" repeatCount="indefinite">
                                  <p:stCondLst>
                                    <p:cond delay="365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26" dur="1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0" repeatCount="indefinite">
                                  <p:stCondLst>
                                    <p:cond delay="38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path" presetID="0" repeatCount="indefinite">
                                  <p:stCondLst>
                                    <p:cond delay="3850"/>
                                  </p:stCondLst>
                                  <p:childTnLst>
                                    <p:animMotion origin="layout" path="M -2.86629E-006 1.56069E-006 L 0.00144 0.32971 E">
                                      <p:cBhvr>
                                        <p:cTn id="431" dur="1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01121E-006 -5.20231E-007 C -0.05253 0.00555 -0.19232 -0.01919 -0.3153 0.03353 C -0.43827 0.08624 -0.45317 0.14543 -0.48952 0.17503 E">
                                      <p:cBhvr>
                                        <p:cTn id="433" dur="3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35" dur="100" fill="hold"/>
                                        <p:tgtEl>
                                          <p:spTgt spid="799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0.49119 0.17662 C -0.51859 0.14815 -0.5867 -0.00254 -0.65529 0.00649 C -0.72388 0.01551 -0.82452 0.18866 -0.90273 0.23056 C -0.98093 0.27246 -1.07837 0.25255 -1.12452 0.25834 E">
                                      <p:cBhvr>
                                        <p:cTn id="437" dur="4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4.16667E-006 2.22222E-006 L 0.0507 0.00023 E">
                                      <p:cBhvr>
                                        <p:cTn id="447" dur="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3.33333E-006 L 0.02761 0.04723 E">
                                      <p:cBhvr>
                                        <p:cTn id="449" dur="5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3.33333E-006 L 0.04323 0.02616 E">
                                      <p:cBhvr>
                                        <p:cTn id="451" dur="5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path" presetID="0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1.85185E-006 L 0.01181 0.06852 E">
                                      <p:cBhvr>
                                        <p:cTn id="453" dur="5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1">
                                  <p:stCondLst>
                                    <p:cond delay="713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">
                                  <p:stCondLst>
                                    <p:cond delay="713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">
                                  <p:stCondLst>
                                    <p:cond delay="713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1">
                                  <p:stCondLst>
                                    <p:cond delay="713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path" presetID="0">
                                  <p:stCondLst>
                                    <p:cond delay="7130"/>
                                  </p:stCondLst>
                                  <p:childTnLst>
                                    <p:animMotion origin="layout" path="M -4.16667E-006 2.22222E-006 L 0.0507 0.00023 E">
                                      <p:cBhvr>
                                        <p:cTn id="475" dur="5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path" presetID="0">
                                  <p:stCondLst>
                                    <p:cond delay="7130"/>
                                  </p:stCondLst>
                                  <p:childTnLst>
                                    <p:animMotion origin="layout" path="M -3.33333E-006 -3.33333E-006 L 0.02761 0.04723 E">
                                      <p:cBhvr>
                                        <p:cTn id="477" dur="5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path" presetID="0">
                                  <p:stCondLst>
                                    <p:cond delay="7130"/>
                                  </p:stCondLst>
                                  <p:childTnLst>
                                    <p:animMotion origin="layout" path="M -3.33333E-006 -3.33333E-006 L 0.04323 0.02616 E">
                                      <p:cBhvr>
                                        <p:cTn id="479" dur="5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path" presetID="0">
                                  <p:stCondLst>
                                    <p:cond delay="7130"/>
                                  </p:stCondLst>
                                  <p:childTnLst>
                                    <p:animMotion origin="layout" path="M -3.33333E-006 -1.85185E-006 L 0.01181 0.06852 E">
                                      <p:cBhvr>
                                        <p:cTn id="481" dur="5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10">
                                  <p:stCondLst>
                                    <p:cond delay="713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10">
                                  <p:stCondLst>
                                    <p:cond delay="713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0">
                                  <p:stCondLst>
                                    <p:cond delay="713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10">
                                  <p:stCondLst>
                                    <p:cond delay="713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1">
                                  <p:stCondLst>
                                    <p:cond delay="716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1">
                                  <p:stCondLst>
                                    <p:cond delay="716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">
                                  <p:stCondLst>
                                    <p:cond delay="716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">
                                  <p:stCondLst>
                                    <p:cond delay="716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path" presetID="0">
                                  <p:stCondLst>
                                    <p:cond delay="7160"/>
                                  </p:stCondLst>
                                  <p:childTnLst>
                                    <p:animMotion origin="layout" path="M -4.16667E-006 2.22222E-006 L 0.0507 0.00023 E">
                                      <p:cBhvr>
                                        <p:cTn id="503" dur="5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path" presetID="0">
                                  <p:stCondLst>
                                    <p:cond delay="7160"/>
                                  </p:stCondLst>
                                  <p:childTnLst>
                                    <p:animMotion origin="layout" path="M -3.33333E-006 -3.33333E-006 L 0.02761 0.04723 E">
                                      <p:cBhvr>
                                        <p:cTn id="505" dur="5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path" presetID="0">
                                  <p:stCondLst>
                                    <p:cond delay="7160"/>
                                  </p:stCondLst>
                                  <p:childTnLst>
                                    <p:animMotion origin="layout" path="M -3.33333E-006 -3.33333E-006 L 0.04323 0.02616 E">
                                      <p:cBhvr>
                                        <p:cTn id="507" dur="5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path" presetID="0">
                                  <p:stCondLst>
                                    <p:cond delay="7160"/>
                                  </p:stCondLst>
                                  <p:childTnLst>
                                    <p:animMotion origin="layout" path="M -3.33333E-006 -1.85185E-006 L 0.01181 0.06852 E">
                                      <p:cBhvr>
                                        <p:cTn id="509" dur="50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xit" presetID="10">
                                  <p:stCondLst>
                                    <p:cond delay="716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0">
                                  <p:stCondLst>
                                    <p:cond delay="716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>
                                  <p:stCondLst>
                                    <p:cond delay="716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xit" presetID="10">
                                  <p:stCondLst>
                                    <p:cond delay="716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4.16667E-006 2.22222E-006 L 0.0507 0.00023 E">
                                      <p:cBhvr>
                                        <p:cTn id="531" dur="5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3.33333E-006 -3.33333E-006 L 0.02761 0.04723 E">
                                      <p:cBhvr>
                                        <p:cTn id="533" dur="5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3.33333E-006 -3.33333E-006 L 0.04323 0.02616 E">
                                      <p:cBhvr>
                                        <p:cTn id="535" dur="5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3.33333E-006 -1.85185E-006 L 0.01181 0.06852 E">
                                      <p:cBhvr>
                                        <p:cTn id="537" dur="5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6:5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21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IP等级">
    <vt:lpwstr>2</vt:lpwstr>
  </property>
  <property fmtid="{D5CDD505-2E9C-101B-9397-08002B2CF9AE}" pid="4" name="_模板ID">
    <vt:lpwstr/>
  </property>
  <property fmtid="{D5CDD505-2E9C-101B-9397-08002B2CF9AE}" pid="5" name="价格">
    <vt:lpwstr>55</vt:lpwstr>
  </property>
  <property fmtid="{D5CDD505-2E9C-101B-9397-08002B2CF9AE}" pid="6" name="使用说明">
    <vt:lpwstr>请使用PPT打开</vt:lpwstr>
  </property>
  <property fmtid="{D5CDD505-2E9C-101B-9397-08002B2CF9AE}" pid="7" name="使用软件">
    <vt:lpwstr>ppt</vt:lpwstr>
  </property>
  <property fmtid="{D5CDD505-2E9C-101B-9397-08002B2CF9AE}" pid="8" name="关键字">
    <vt:lpwstr>背景 文本框 文字 白色 橙色 蝴蝶 黄色 中秋 形状 排版 线条 排列 说明 版式 灰 并列 列表 其他关系 V2 PPT动画模板 开场动画 内容动画</vt:lpwstr>
  </property>
  <property fmtid="{D5CDD505-2E9C-101B-9397-08002B2CF9AE}" pid="9" name="操作代码">
    <vt:lpwstr>1</vt:lpwstr>
  </property>
  <property fmtid="{D5CDD505-2E9C-101B-9397-08002B2CF9AE}" pid="10" name="是否可购买">
    <vt:lpwstr>1</vt:lpwstr>
  </property>
  <property fmtid="{D5CDD505-2E9C-101B-9397-08002B2CF9AE}" pid="11" name="显示VIP等级">
    <vt:lpwstr>2</vt:lpwstr>
  </property>
  <property fmtid="{D5CDD505-2E9C-101B-9397-08002B2CF9AE}" pid="12" name="标题">
    <vt:lpwstr>中秋节动画</vt:lpwstr>
  </property>
  <property fmtid="{D5CDD505-2E9C-101B-9397-08002B2CF9AE}" pid="13" name="模板ID">
    <vt:lpwstr>A60620130813A07</vt:lpwstr>
  </property>
  <property fmtid="{D5CDD505-2E9C-101B-9397-08002B2CF9AE}" pid="14" name="模板缩略图">
    <vt:lpwstr>A60620130813A07.png</vt:lpwstr>
  </property>
  <property fmtid="{D5CDD505-2E9C-101B-9397-08002B2CF9AE}" pid="15" name="相关案例">
    <vt:lpwstr>854</vt:lpwstr>
  </property>
  <property fmtid="{D5CDD505-2E9C-101B-9397-08002B2CF9AE}" pid="16" name="缩略图标题">
    <vt:lpwstr>A60620130813A0701.mp4</vt:lpwstr>
  </property>
  <property fmtid="{D5CDD505-2E9C-101B-9397-08002B2CF9AE}" pid="17" name="适用软件">
    <vt:lpwstr>PowerPoint 2007 及以上版本</vt:lpwstr>
  </property>
  <property fmtid="{D5CDD505-2E9C-101B-9397-08002B2CF9AE}" pid="18" name="附件ID">
    <vt:lpwstr>A60620130813A0701</vt:lpwstr>
  </property>
  <property fmtid="{D5CDD505-2E9C-101B-9397-08002B2CF9AE}" pid="19" name="附件缩略图">
    <vt:lpwstr>A60620130813A0701.png</vt:lpwstr>
  </property>
  <property fmtid="{D5CDD505-2E9C-101B-9397-08002B2CF9AE}" pid="20" name="附件路径">
    <vt:lpwstr>A60620130813A0701.pptx</vt:lpwstr>
  </property>
</Properties>
</file>