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54181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204-3062-4C7B-95BA-8A00AEEC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44D-81C1-43EF-817A-95095B95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A1659-C50C-4B16-B68F-898AA31D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41985-E4BE-426E-9821-C9804740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18FD0-0764-4B6D-89B1-FC19506B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28871-AE24-430D-A725-2DBCF0CF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BAD99-86DD-457B-8FAB-14FA7974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5A099-D0DD-4EF5-83C4-58B4100C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07AE2-5BCE-4348-8A0E-FF29778F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CDFCC-F5FD-4A94-94D9-86D0D22F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86642-4D34-49EF-8EC7-61B427A9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8EC5C-3034-4840-98DC-3582C6E6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C77-7A49-4B70-A1A3-60F321C8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827DD-29D5-42B3-9D55-892B47C9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95DF0-6FA9-4B6E-80CB-4A00D0A3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96E16-AA4E-4402-9774-A8859120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C428C-7198-4B24-97A0-2E7D6B34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3C791-545C-4BE5-9EEF-4439E6D0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E6C07-AF88-49FB-A283-5F6E59A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004D3-5F9C-460A-BDCE-40E0EFE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59341-036E-44ED-ACB3-4509456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EA9E9-6D04-4C1B-8E32-046F6F14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57AB3-F514-46DB-8F4D-81328E0B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C17-E113-40E1-BA28-E9E18FA1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B4D36-23D1-4903-8C29-F9E9FDD7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9E566-0395-4771-B20C-75EA7A23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E85E0-91AC-47BA-88BF-14CB1EFE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EEDEE-713D-4AE7-931A-565F5B1C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1D7EF-6FA0-410A-8C0E-2FCB1F1D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B7FB5-355C-443B-9ABE-1E804E41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4E524-DE84-43E9-ABED-6212652C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691DC-4C58-4712-85A8-E37AC97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00A05-C879-40FB-A66A-CD7188B1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1FC8A-1E1D-4286-A1A2-9A0A036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7149-48C7-4008-8C9B-ADC11775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8C012-6CAE-462B-9495-69ED83DF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5AC28-FFC4-46EF-B219-526F25B3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2F64A-23BB-4897-8CA1-EA6E6036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EBF76-5AEE-4963-AC8A-B26BD551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A073C-EE00-443C-A428-FE98EA9F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F9738-59E1-4C23-9CFF-9D03A337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559C3-FAB1-4045-A03E-B6FCAD25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89885-1A26-4D1C-A38C-65CF3941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B92D9-7B95-4CF2-A94E-8FD17313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96712-02EA-4C16-A4E4-48967D0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FE9C-589A-4CB4-903E-A1CACBFB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7EE3C-7DB5-4F50-9487-FDA2300E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317DF-3A60-42B7-B0F8-3398F47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25DF3-0509-40A2-ABA9-3461F28C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8222E-D86E-483F-8158-F1A80A63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F450C-44D8-42B6-AF04-48ECF54F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5FB2A-4D39-4C7B-B3CA-2EE2D22B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005C3-E942-4072-90BB-E3DEE1A8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1D3C3-B620-4EC1-AB49-94AA565A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B0FC6-0CF6-4D69-BCC3-540A03E0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2CB63-A304-4B09-8AE0-2D3DA5F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F6D6-284D-4B50-83EE-1F5124A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E5846-A1FC-4D8D-AACD-463D3260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A1AAD-A989-4F83-ABE1-A71AB35B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71390-F25D-4859-B0D4-C4CBD62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2DFD4-AABC-452A-ADCC-9C5562CE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0F6B2-3A9A-4A52-9638-ABA0A145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8DB50-28DE-4B1E-8EC7-D0F26C81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5E6D7-46D0-4D75-9BFD-D13DD7F6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761F-B018-4938-A9B1-1A56318B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7E2E-1360-483F-90C8-1EFDEDCB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3686-089C-494D-9DBB-A0AEFF54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A57E-419F-4691-81B3-7724B980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018-A1B6-4CFA-A1D0-BCD1388C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ED51-44DD-4A89-A828-370EE057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CAAB-9170-43C9-9BF3-C618301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3A3A-71F9-4A6B-BA08-A1634717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DA69-BB1F-4C14-B1EC-D4133783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CF8F-3D18-4E62-A16F-237002D6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C1FA-0547-427E-A3C9-005D296C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8627-393C-45AE-B0EC-FD216B50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C74D-D24C-4A9B-AA80-3ECEA33F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2B5D-CC84-4D21-9A06-F83C5C22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BED18-94D8-4BFB-ADF0-97AE54EE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B5E-E990-4C07-975A-67738A9D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B072-C39D-4499-8212-86B443EE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1944-8A63-4B2F-9B91-F70C12F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4F5F-7455-4D7C-8EFB-B120EC94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F326-00A1-4CFA-B639-08EB01E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9296-E48E-4F38-81D2-C6D8EBE7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1999-5D27-45AD-B229-E9991A45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ABE1-7721-4B2C-B9B7-7CA0F62F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C03F-5059-4681-BE97-9985BAA3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1BCF1-1330-4DAD-9AC0-B9D6B671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B4EA-AAF0-49B9-8A9F-76537CC9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392-9503-415A-82C4-50C80E74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E5C6-7487-4388-9636-AFF12726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32DF-424E-4C40-965E-E9D9E9A7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38849-B8E7-4E55-A3F2-E225BB8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6C2F-6FA8-41A0-8266-6F1DE61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89C2-26E4-4180-A11C-220E7B6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96F94-59B7-4A42-8BDA-679C753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FFB91-9C0F-4E5F-A218-1F70FD4B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E53CA-C9A5-42C0-8E7C-A30ACAA4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6CBC-EE3F-4F41-A621-063CF4A1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A880-774B-4ED1-98D1-178095AC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2E6-C248-4DC3-979E-627A45C5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5D83E-75E4-4DA6-9CE9-1D8438F9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E5A7-AE71-4489-9F4B-F674AFBC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02BB-6F70-4055-AA2F-D557574C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F645-A6BD-4D5F-A8EE-DA730443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D6B2-F5C9-447B-B8BE-C3D05DE6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C1EC3-E1D1-4E97-AA35-715BF57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81E0-894A-464E-BB4C-4FDA03C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C696-B331-45A2-89DD-C971F97F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1E062-8067-4B47-9EFE-FD7943CE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92F55-8F47-41CF-9F17-A3F90989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1A2-8A3A-4923-BE2C-FC40FEFA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4495D-968B-4AED-A4FF-4B44A631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6BF8-7BA6-4222-AA95-52E639A5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CC85-4716-4E3C-8E6B-2490088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70E2C-23F7-4AE7-AD9A-0F7000F6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D28E8-C869-43DD-AAE8-E165A549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F2CB-B414-44C2-BED0-58DAF5CA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F4CB4-F19B-4FAA-A081-FB0CC009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459D-D9DA-4384-AEC6-74BAED7E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D336A-CB76-4F54-BFEC-CAF16BE0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915C-1623-405C-BBFC-B8BF399D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E32-EFC7-4328-83CB-13CED7B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164E2-341E-43E0-8B98-3E575A72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B40A5-3D73-4A72-8339-6CEECFC5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C77F0-F211-424B-8FCF-A46BC8AE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28BB6-55C2-4221-8FFA-047B95D2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EA7C-5762-41F7-A0DD-B99822FF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CEC62-3A60-4810-8B04-4E0B36D2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BD07B-D6EE-48B2-A996-06DFEED3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A9588-7FBA-47C4-9821-6886E6B9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BFD4-E726-42C1-ABED-DC454286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155C1-9C79-44F1-9825-206303BF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18E-D49B-41F1-BD66-1CAC3717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053B-736C-4C4A-9F99-B22FB26E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37DEE-44A5-44A7-9081-FAFB2468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C2137-4331-44DE-8F67-B68A0B95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271E0-FFFB-4B3A-A1B8-B51C5D0A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DA19-DD3B-4C72-96F1-F9915655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F2133-7F0E-4C58-82A1-E8236247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B1D47-4767-4779-B1AD-1E73C0E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760AA-D0DB-4828-90B0-3B6B9F07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1D48-6E9D-407D-BE2A-93B067E0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91B74-CECE-4B4E-8B79-62C6785C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45F-207F-4CE7-8D2B-145A7F58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EE298-F57F-4C32-A3B3-B84063B8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C6621-0EC6-4516-85EC-1EC80FFA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63087-A3CD-4A1B-80CD-05C3F99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04502-A2E6-433B-8582-0184D7B8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66539-E7C4-4EE8-A820-86615A96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01C61-CE94-4290-9E0E-0E89964B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855DE-2677-4438-B7B8-956ED2FB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70945-1367-49B9-ACDA-F1A52DE1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89AD0-3993-4D04-98D0-DB17245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44BEE-6686-4019-B0A6-FA70D961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33800"/>
            <a:ext cx="2133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33800"/>
            <a:ext cx="289584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33800"/>
            <a:ext cx="2133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8124-D53E-4C40-9CEA-1703436FE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F83E-8FC7-4FE1-8270-0BD26762FA2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B04A-70B3-40A7-AB80-5ACB1329BE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5366-7C9A-4FB9-80D2-A80BD9D66B9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D87-143C-4377-A41D-F044A7906F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0DA6-53FC-4C4E-BE57-32FA5D8D5AE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E525-896A-4163-99D7-54F9B1C0CC4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5B83-7634-4684-A6FC-E689B937180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777A-A4B3-4740-BD12-F8939D3FEC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0119-D5B7-41C1-970B-6ACDA2D5DD2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3FD3-9917-4340-A265-3C7EE46FB0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BF79-9A09-4B3E-B53C-440FD472F1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3BFE-D521-41CE-B689-18FFAC00B0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FDF5-ECCF-4DB1-90D5-4CB990E7795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BF94-2E1A-414B-B9F3-FE00C34C8C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3B7A-57F9-4803-8159-22B6BD2B1F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43A1-F297-4BB0-BF87-A1808692B64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952E-650D-4D10-92F2-8BFBA19CEC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E432-07C7-4C63-87E6-A3D82B1BF5B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B9BB-51B4-4E32-AF28-BC543D0B400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C875-127C-4D8A-99DD-C262E9114FB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FAB3-D101-4402-B58D-C58954CBE2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51DC-CAEB-49F7-BA43-8774845C0CF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E3CC-0A15-4852-9A1E-DA824583955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57FB-DD54-4689-9882-EE2CE8631C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EF86-46DA-4132-BED0-69780210D8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6826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Arial"/>
              </a:rPr>
              <a:t>中秋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070080"/>
            <a:ext cx="64008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9" name="文本框 14339"/>
          <p:cNvSpPr/>
          <p:nvPr/>
        </p:nvSpPr>
        <p:spPr>
          <a:xfrm>
            <a:off x="179280" y="501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9:09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