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E30-BCA5-47B5-802B-B7AC0DAA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B5E-CA96-4FDB-AF99-8E6720A6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1FB-18FC-4BE1-AA79-6EECE33A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7E4-D831-45FB-94BA-713C551F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A14-E15B-4E5E-B423-BC6F3223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F7AD-CD76-47AC-B82B-8632C869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98A1-0DAF-4E9C-91F2-DDC3A2C5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87C0-430F-4EC2-8195-85F6C7CF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4CB4-91CB-46BF-BE31-96EB0E21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857E-3076-4569-965E-6C22AFAC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473D-85F6-45CB-8C78-958AADA9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EEC7-E2A2-41CE-86F1-805D855F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E94E-FFA8-4954-A0C4-315B09DB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0C95-450E-48A8-968A-0C184150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07E8-D2A2-4F22-BAE9-3C740E60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A730-9886-4C1E-82DF-EC94A2B9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88F9-118E-4C70-9B4F-CEF72DFB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9FE3-68E2-4C1B-8E45-22F9714F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9B40-1EE3-4114-92F3-D24CC1C1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334-58AC-479A-AF4B-31C7B2D7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E83-628C-486E-ABD1-AFD5DD06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65A-DBC5-4FC0-8EED-E23D152B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F4A-C7BE-4457-A67E-A7899006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D9E-634E-4AC0-BE1F-AF95D6EF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5C52-0029-4E9E-8D32-499B7ADF83F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86C3-335C-4E27-9231-34FE6278ED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87B9-765C-4A04-9318-8145A5FBBE8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C0AD-06F8-469D-9D6F-EC5C2B13EA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D734-986F-4E44-89BF-EA592C99AE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10"/>
          <p:cNvPicPr/>
          <p:nvPr/>
        </p:nvPicPr>
        <p:blipFill>
          <a:blip r:embed="rId1"/>
          <a:stretch/>
        </p:blipFill>
        <p:spPr>
          <a:xfrm>
            <a:off x="0" y="0"/>
            <a:ext cx="9612360" cy="571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9"/>
          <p:cNvPicPr/>
          <p:nvPr/>
        </p:nvPicPr>
        <p:blipFill>
          <a:blip r:embed="rId2"/>
          <a:stretch/>
        </p:blipFill>
        <p:spPr>
          <a:xfrm>
            <a:off x="2411280" y="554040"/>
            <a:ext cx="4392720" cy="3568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未标题-4 拷贝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3059280" y="696960"/>
            <a:ext cx="3168360" cy="345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未标题-1拷贝"/>
          <p:cNvPicPr/>
          <p:nvPr/>
        </p:nvPicPr>
        <p:blipFill>
          <a:blip r:embed="rId4"/>
          <a:stretch/>
        </p:blipFill>
        <p:spPr>
          <a:xfrm>
            <a:off x="7885080" y="2857680"/>
            <a:ext cx="1065240" cy="1850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未标题-2 拷贝"/>
          <p:cNvPicPr/>
          <p:nvPr/>
        </p:nvPicPr>
        <p:blipFill>
          <a:blip r:embed="rId5"/>
          <a:stretch/>
        </p:blipFill>
        <p:spPr>
          <a:xfrm>
            <a:off x="7380360" y="3649680"/>
            <a:ext cx="431640" cy="720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未标题-3拷贝"/>
          <p:cNvPicPr/>
          <p:nvPr/>
        </p:nvPicPr>
        <p:blipFill>
          <a:blip r:embed="rId6"/>
          <a:stretch/>
        </p:blipFill>
        <p:spPr>
          <a:xfrm>
            <a:off x="7451640" y="4802040"/>
            <a:ext cx="216000" cy="481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11"/>
          <p:cNvPicPr/>
          <p:nvPr/>
        </p:nvPicPr>
        <p:blipFill>
          <a:blip r:embed="rId7"/>
          <a:stretch/>
        </p:blipFill>
        <p:spPr>
          <a:xfrm>
            <a:off x="5003640" y="-382680"/>
            <a:ext cx="4429440" cy="223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诗"/>
          <p:cNvPicPr/>
          <p:nvPr/>
        </p:nvPicPr>
        <p:blipFill>
          <a:blip r:embed="rId8"/>
          <a:stretch/>
        </p:blipFill>
        <p:spPr>
          <a:xfrm>
            <a:off x="4500720" y="3218040"/>
            <a:ext cx="2663640" cy="2496960"/>
          </a:xfrm>
          <a:prstGeom prst="rect">
            <a:avLst/>
          </a:prstGeom>
          <a:ln w="0">
            <a:noFill/>
          </a:ln>
        </p:spPr>
      </p:pic>
      <p:pic>
        <p:nvPicPr>
          <p:cNvPr id="171" name="smxcyzy.wma" descr=""/>
          <p:cNvPicPr/>
          <p:nvPr/>
        </p:nvPicPr>
        <p:blipFill>
          <a:blip r:embed="rId9"/>
          <a:stretch/>
        </p:blipFill>
        <p:spPr>
          <a:xfrm>
            <a:off x="4419720" y="27050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5130"/>
          <p:cNvSpPr/>
          <p:nvPr/>
        </p:nvSpPr>
        <p:spPr>
          <a:xfrm>
            <a:off x="36360" y="51624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131"/>
          <p:cNvSpPr/>
          <p:nvPr/>
        </p:nvSpPr>
        <p:spPr>
          <a:xfrm>
            <a:off x="2311200" y="2649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中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1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1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001"/>
                            </p:stCondLst>
                            <p:childTnLst>
                              <p:par>
                                <p:cTn id="20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001"/>
                            </p:stCondLst>
                            <p:childTnLst>
                              <p:par>
                                <p:cTn id="3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001"/>
                            </p:stCondLst>
                            <p:childTnLst>
                              <p:par>
                                <p:cTn id="34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02:01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11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