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4A50-2693-4521-8D0D-2C744F15A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85FF9-955D-4A14-B970-EDE54E67C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48DE0-C282-43F7-8498-4B9204B92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E380E-2A16-4F45-8B7C-755399DEB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DB09A-C9F2-45CC-8C5D-42382DD8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F30FE-9F3D-4BEF-AF69-8B761C96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7441F-4C53-4BBC-91A0-171433C2D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5FA44-54A6-4182-A256-FC8FD7FA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4D54-ADF5-47B9-B95D-1D42FDC5A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298BC-E8E5-4795-8BD6-5137AE9FB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D0FF-10AF-482A-813B-542A5379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E937-95C6-483E-B35A-DF072EF2B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369E6-4CCB-4B07-85DE-82CA1D7F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35B79-F2E0-42E2-B6FF-10DC2669F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D867-98EA-4C7D-8C90-3729D0850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D9DF7-25AB-4EAE-A366-55088A603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EEF15-8BB7-40A4-BAFD-6E36D658B2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84B35-7BEA-42CA-BEF4-266A3A836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22ADF-99A5-4AE0-BA92-210E71B21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AC10-6337-4C58-AE29-4C4AA58CB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3977-6E09-490B-B4AB-4EB786493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1EDA-D85B-4F1B-851C-229ECA09C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B92-1A4C-47FA-8DFB-EC5E9BEB7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35CB-775A-47B8-ACBD-5D1080055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85FC7-A193-4F9B-8F0D-6C9651CB8D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3DD3C-905A-46EC-BD50-7932801F95BC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7889B-6E64-4ECD-BB7B-60481A15781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440B1-8021-4494-B65A-1679C57FE22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3073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宋体"/>
              </a:rPr>
              <a:t>幻灯片之家 </a:t>
            </a:r>
            <a:r>
              <a:rPr b="1" lang="en-US" sz="1600" spc="-1" strike="noStrike">
                <a:solidFill>
                  <a:srgbClr val="ffffff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074"/>
          <p:cNvSpPr/>
          <p:nvPr/>
        </p:nvSpPr>
        <p:spPr>
          <a:xfrm>
            <a:off x="3157560" y="2637000"/>
            <a:ext cx="252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紫色花藤五一劳动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3T07:36:38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00Z</dcterms:modified>
  <cp:revision>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