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C24-2D7B-4B72-BFF0-4E8BB247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15F-BE3D-46A4-B54C-C49EC55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A01-F237-4BD0-B3D5-F938042F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A9E-A991-4A1B-A31D-4761EB49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A66-2F8A-4647-80F9-25003EFF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1CE-6F86-4175-8993-31A4EAA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8B67-FBA7-4447-B241-3C46D87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3EF-823E-4E5E-BE32-4CF97ED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478-1320-4717-8E55-1C8C80AC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60F-6D01-4ED5-AE7F-DD717D6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458B-E342-4C67-A419-89BD961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177-2CA4-4E2B-91A2-02190B0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4FCB-4164-4B9B-8620-48BDF57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379-6291-4A5F-B13F-4F63CC5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0FB-2CAD-4B91-A044-7743DE2A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B91F-59FC-4AC1-8842-85510F91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B468-6BD4-47F1-B7A9-2011864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1A5-640B-45D6-9F11-FB8D6B0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E03-1ADB-458A-95AA-2101C7F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3E1-4344-4D4A-BED0-4F2EF5F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1A4-D368-443C-B6AC-5B3D9C5E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DCF-3741-44DE-A301-0DB849A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FA4-D133-42ED-B7DC-FE5FEAC4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EE3-B9A7-45AE-A8ED-9D73E19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a1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1B8-68C8-479D-8B07-97D2E3DD956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C6E-C7CD-4C86-BFC8-8BE1E4FF48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B69-A2C0-4674-A29B-7218E0C9C0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4440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a144"/>
                </a:solidFill>
                <a:latin typeface="Calibri"/>
                <a:ea typeface="宋体"/>
              </a:rPr>
              <a:t>植树节</a:t>
            </a:r>
            <a:r>
              <a:rPr b="0" lang="en-US" sz="4000" spc="-1" strike="noStrike">
                <a:solidFill>
                  <a:srgbClr val="57a144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57a144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185480"/>
            <a:ext cx="6400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7a144"/>
              </a:solidFill>
              <a:latin typeface="Calibri"/>
              <a:ea typeface="宋体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4803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a144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a144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6147"/>
          <p:cNvSpPr/>
          <p:nvPr/>
        </p:nvSpPr>
        <p:spPr>
          <a:xfrm>
            <a:off x="2700360" y="1969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c5222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2c5222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57a144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a144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a144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D12-87A6-4944-A77A-33163D1B2A7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a144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3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