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35C7-5ACD-4E31-B225-54448C99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F31-9297-4919-927D-06D6160B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DB043-6F6D-4B3A-9717-05BDA1C9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2436B-9568-4E4B-B60E-0A04F266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41CD4-86E6-4488-A207-D1FB16FE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18922-2631-4D61-928A-D360E725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7805C-58E1-4C33-BCB1-2AE0AB4F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8FE05-F9EE-46B1-9368-AEE2D8FC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0496B-2EB6-4E86-9938-1F0F17D0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A4282-DB41-45C7-BAED-674DAC0E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D5DD9-9010-4D2E-BBDD-85B42084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9B0C4-DCCE-431D-B74E-9E5D7B44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851-FCB3-487C-AE5D-A3B74236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0CA56-A40E-4B9F-A50C-719F4C12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D4ADA-2519-4705-90FB-39565DEB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896F1-6034-4BD1-A938-910A0CD7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11145-AFD8-45AB-95FD-0BE923D9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FE20F-5B5E-4BC9-8C3F-0296A85A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53122-D4C4-4482-B6AB-B3F5BEB8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918D3-8532-4B0E-91DB-A52A6B8F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B14BB-7FDA-42FF-B89E-73F6F95B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A0047-BA9A-479E-BC5A-CDED547C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1D18E-6876-4377-8DB5-3C9EE479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D2C5-506C-473D-B7CB-8E6756F3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3D83B-21EA-4F07-8355-BF077C04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F986D-6D0C-4A70-ABA5-4AF330D1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C1138-123E-4EC3-A805-3B1F65DE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B8C1C-AE1C-4730-A0FE-A112019A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81314-8DE0-4111-9A65-2C36DE2C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EE224-0EC8-4F50-89BF-6CE7698B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0DADF-E4A0-4E6A-8616-ABF32126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20C9F-FA39-4077-A48E-9B8E4505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2F762-7654-4ADA-A9EC-D74FD4ED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09308-AF2F-4088-8B9C-27CA9082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9F58-E6A5-40A9-B35E-9C1C1007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69C67-4B34-44C9-ACC9-0D6542B4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A99C6-B65E-46C6-B62D-9DCE1057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F0105-4E75-441A-BF4E-255EBAB5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B6037-2334-4A0B-9D8B-D70C3D60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D1B67-DD51-428F-A8F9-516F6C7D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C30E0-0EBF-44FF-956C-D3585EFE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06755-852D-40E1-8195-E9859ECA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AA700-5EF5-400E-A631-FF9B287D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E7095-A8C2-4F41-A735-A3DAF5C5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FDB63-B523-43E4-A1EB-D27ED170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4EF2-8E5B-44AA-9A35-FACA1719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A0BA9-7F9C-44A7-87DE-8217FD59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29A11-1955-4F66-8B84-33FAFC73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1CC5E-A92E-4894-8F18-14BE006E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36B77-D774-41C6-B872-5891C238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D279F-EFCE-4186-BE94-27051F06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094A3-A94E-424B-9EFF-6C32E424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BEA6C-377B-4685-91AE-194C429B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835D2E-4A4C-47A5-B719-569142E2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4F0C7-EC5A-43C4-9B14-E8F2BB46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5F66C-9D7E-420E-A2AD-D823EC91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198B-096F-496B-B7BE-38349A56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FB1688-C8A4-4CEF-B2F7-5FBF1A44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A017A-3B47-4386-AE6A-956C30CC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1517FE-DFFC-4C87-B130-BDB1A441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D4CE64-BCD1-422A-842C-52B59FBB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61E395-0B46-41BC-B3EA-A1F3C7D3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B96CD-5972-43DC-A02D-B0344C78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41784-2A2B-49A2-90DB-574E2121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CF34-15A1-4D71-80A0-E5AB915E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338D-BECD-4238-8BA2-24CA6DF0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304F-94A6-4FFE-9BA5-436B2301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FDB2-681C-402A-85A3-5D2BD5DF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AE7-7F30-4B38-8972-DA87EDFD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79A4-BCEF-415A-9D5A-3553B054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E7F2-1B43-405E-88B0-9A96DF08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F991-FDB9-4802-A40F-0556D9F9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3044-5FDB-407E-8632-95F809EF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50FF-45F2-4785-8C83-5D69F5E4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DB9A0-8333-42B3-901D-3EB82561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41717-F2E6-4819-B776-E7ABAA25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8BBCB-D9BE-47BF-BD1A-5F2C990F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3D190-D9A6-4B75-B491-818121D8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A714B-3A3D-4077-8F02-CA1165CF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202-539F-41AD-8445-79C96D8C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96C85-CA93-4AA3-9B19-C11FD37C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87550-8C09-4B3E-93AC-49E4C6EB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100F5-F74D-4882-8D59-96513253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C6C39-E6E9-404A-B266-3152F754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B1E03-B713-4267-8D66-4F1A9494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75C9D-961B-45CB-A0D9-E08EB6F7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C0129-F803-440D-9393-7C465518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F51EC-F06D-4516-925C-9C5FDFB5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ACEEB-90FD-49EC-B5DE-5D627955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EA7A9-0D9B-4E9B-874D-E53AADA8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F0C-87A5-4B56-89F1-10CD0723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7A5E2-1672-4280-B854-B78F9A49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85F92-DE7D-4185-B795-38F7CB6D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88BBF-DBDA-49D9-8940-ECEA7667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D0AD5-5F1E-4A8B-82D1-EB40FBC8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E0404-1740-46FC-8832-5F389795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DF64B-5A80-4AD2-998F-973B0EAB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7F7ED-9BE5-4BBD-B943-EA43535E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DF202-6D4D-45F4-83E9-F672E6A6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04E92-2489-4669-9740-67D06917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30A2C-4B3F-4A01-93C3-214CE7F2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B32A-9911-42E7-BFE9-A227AD56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2CFAE-0D6D-4BFF-92A6-19BDC05B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863FF-9246-464D-8AD9-E91F87FA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67E36-E496-456E-B506-108AA81A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A176E-B338-42CA-B03E-DD153896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00ABD-05AC-4326-92E8-30E94D79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B4639-7648-4355-92DD-AAA83D0E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3C78D-0E20-4805-90A6-1D1A2F1B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795EE-7869-4E01-82A0-F903AC58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9FEDE-C830-462A-A299-873968BA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77BA9-E0A2-43A3-A681-46A40A83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6C8D-B734-48F6-A1DB-DE61D1CA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880AC-55C6-4BEA-8F07-7DD0E7B2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01987-E0E1-4AD6-9F39-D1F6A367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01184-FB9E-4C71-9FFF-62046FE4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3E364-86FA-46BE-B88E-6415F5F6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CBA2F-989B-486F-8036-E025E586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578F6-80C1-466E-A9B4-631B0707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F6F14-15C6-4F26-9207-C7CA67E1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08354-BABE-4A90-9C0A-2E501725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7D77C-C946-4FC1-AED9-5AA6B934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C6304-3151-4D1A-8E59-94FDEFA5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676-3944-46C6-B3C8-27906F5A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17372-CF97-4CED-AE56-ACFE7B2C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3B622-3194-48DD-82A4-122F48F5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50569-27F9-45F2-8286-1578B7F6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A4289-A7BB-4079-978A-D664F954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77971-E613-4295-8DEF-1CD0ED7C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2FC38-903C-4307-BC5A-165CF8F2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DB2B0-7EDA-4F1A-8FB1-AD0E839C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47002-AB09-4F70-ABEB-C2495321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FF98F-40D2-431B-BC75-50BE6B85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2F0D2-8564-4411-ABE0-24BF2E0D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6ED3-9ABA-4CE9-BF73-8044F7FE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FD6DA-211C-4D1A-BB50-725D3B74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F60C1-0C52-4DBA-9D15-18AC49E7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41E93-AF01-4DAB-B85E-258ED315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057E8-C766-4F62-915F-4B018DE3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07583-F0CD-4390-AA64-A30D7423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75756-FF4F-4125-A81A-C9F94445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F7F6F-C71B-4B7B-A2B0-56F35415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BA8EF-AC70-4E27-ACB8-EBAEDC85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283DF-378D-4F91-97F1-903BCA4C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40BD1-14B4-44E8-B828-2C0641AC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B9F-2755-4C1F-8045-D1C8A9A1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1D9D0-F786-4336-BF84-A9F08578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BD2B8-81B2-424B-8740-D3D5283A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E997C-6139-4789-ADFE-A6D153FC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E293E-14C4-4C4A-99E6-428F8211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8E10B-267C-4379-B8DC-78509027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80B2A-E306-487C-96B8-200235D9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9801C-00E2-4472-BAA0-A6B73587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A4345-44EB-4284-9386-F8E2AB27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649D9-EA8A-4C46-8C1C-44468B78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9AFD6-FD6B-4F01-A5DA-C49A8851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09D8-9B9C-493D-B7EF-EB4AD170807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1E56-FBD2-469E-93E4-7A60068065C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0F79-B629-4D11-AEA9-E5F81FFD47C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74BA-D4A8-474C-A4DF-F4B55F597FC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7889-D40B-4F0A-A276-D2978620FEC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A952-65EB-41B7-8FD0-C87D4CA6ABA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8988-D8AB-40DF-A2AE-4BB9565F6C9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0284-5AC1-4D7F-942A-A0D7007E792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9348-A22D-4E3D-A772-71B2C1E368F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9DBA-DBA6-4313-AFCC-725E35E8C5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E195-E103-4CAC-A23B-2D7227C2649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AA6C-C0B7-4EF5-A1BD-721F04E8A3D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0C6B-37CE-4AD2-B198-D57D24BB3D3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E5C9-7A6A-456A-B926-07C4DAABF88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8262-ACB7-427C-AE02-83FAE63571C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FAE8-EE7C-4401-A33C-ED3EB7F0D92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5063-C55D-46F3-AF69-CE01B29D628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42EA-B8B6-4B04-A770-8C53F60394F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E9ED-372F-4F46-A01A-8E6A2A94F5C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CF22-3EDA-46CE-9A47-388553FC59C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68A1-80F6-4FB6-8EE7-69E83EDEBCB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3F8E-9225-470F-9ABB-E10FD636504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DBF1-1F6E-4E5C-99FB-C801B565D50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79F2-C6B2-455C-81C9-7575B710E31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BA04-F896-4BFC-BBE5-9F0642A5075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32CA-797D-4C71-81D0-A5B896C6876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文本框 14337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4338"/>
          <p:cNvSpPr/>
          <p:nvPr/>
        </p:nvSpPr>
        <p:spPr>
          <a:xfrm>
            <a:off x="2485800" y="44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重阳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8"/>
          <p:cNvSpPr/>
          <p:nvPr/>
        </p:nvSpPr>
        <p:spPr>
          <a:xfrm>
            <a:off x="42120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5"/>
          <p:cNvSpPr/>
          <p:nvPr/>
        </p:nvSpPr>
        <p:spPr>
          <a:xfrm>
            <a:off x="42850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5"/>
          <p:cNvSpPr/>
          <p:nvPr/>
        </p:nvSpPr>
        <p:spPr>
          <a:xfrm>
            <a:off x="42120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6"/>
          <p:cNvSpPr/>
          <p:nvPr/>
        </p:nvSpPr>
        <p:spPr>
          <a:xfrm>
            <a:off x="43549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5"/>
          <p:cNvSpPr/>
          <p:nvPr/>
        </p:nvSpPr>
        <p:spPr>
          <a:xfrm>
            <a:off x="29260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5"/>
          <p:cNvSpPr/>
          <p:nvPr/>
        </p:nvSpPr>
        <p:spPr>
          <a:xfrm>
            <a:off x="32119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4"/>
          <p:cNvSpPr/>
          <p:nvPr/>
        </p:nvSpPr>
        <p:spPr>
          <a:xfrm>
            <a:off x="56408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6"/>
          <p:cNvSpPr/>
          <p:nvPr/>
        </p:nvSpPr>
        <p:spPr>
          <a:xfrm>
            <a:off x="52837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6"/>
          <p:cNvSpPr/>
          <p:nvPr/>
        </p:nvSpPr>
        <p:spPr>
          <a:xfrm>
            <a:off x="1926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8"/>
          <p:cNvSpPr/>
          <p:nvPr/>
        </p:nvSpPr>
        <p:spPr>
          <a:xfrm>
            <a:off x="67838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5"/>
          <p:cNvSpPr/>
          <p:nvPr/>
        </p:nvSpPr>
        <p:spPr>
          <a:xfrm>
            <a:off x="4356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7413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7"/>
          <p:cNvSpPr/>
          <p:nvPr/>
        </p:nvSpPr>
        <p:spPr>
          <a:xfrm>
            <a:off x="29977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5"/>
          <p:cNvSpPr/>
          <p:nvPr/>
        </p:nvSpPr>
        <p:spPr>
          <a:xfrm>
            <a:off x="29977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5"/>
          <p:cNvSpPr/>
          <p:nvPr/>
        </p:nvSpPr>
        <p:spPr>
          <a:xfrm>
            <a:off x="56408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5"/>
          <p:cNvSpPr/>
          <p:nvPr/>
        </p:nvSpPr>
        <p:spPr>
          <a:xfrm>
            <a:off x="57121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7"/>
          <p:cNvSpPr/>
          <p:nvPr/>
        </p:nvSpPr>
        <p:spPr>
          <a:xfrm>
            <a:off x="2854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6"/>
          <p:cNvSpPr/>
          <p:nvPr/>
        </p:nvSpPr>
        <p:spPr>
          <a:xfrm>
            <a:off x="5640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5"/>
          <p:cNvSpPr/>
          <p:nvPr/>
        </p:nvSpPr>
        <p:spPr>
          <a:xfrm>
            <a:off x="26406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5"/>
          <p:cNvSpPr/>
          <p:nvPr/>
        </p:nvSpPr>
        <p:spPr>
          <a:xfrm>
            <a:off x="57837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D641-BD95-4EB6-B874-CC152B5622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/>
          <p:cNvSpPr/>
          <p:nvPr/>
        </p:nvSpPr>
        <p:spPr>
          <a:xfrm>
            <a:off x="464076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9"/>
          <p:cNvSpPr/>
          <p:nvPr/>
        </p:nvSpPr>
        <p:spPr>
          <a:xfrm>
            <a:off x="17118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5"/>
          <p:cNvSpPr/>
          <p:nvPr/>
        </p:nvSpPr>
        <p:spPr>
          <a:xfrm>
            <a:off x="6926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5"/>
          <p:cNvSpPr/>
          <p:nvPr/>
        </p:nvSpPr>
        <p:spPr>
          <a:xfrm>
            <a:off x="4354920" y="92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52Z</dcterms:modified>
  <cp:revision>7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