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FDE-E669-4775-BBEE-01D4ACFF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3F33-D44B-4C56-AC02-996900F4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31D-906F-451A-B14B-C475CA4F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183-85E1-487C-92E1-4B5E142A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B940-A5BF-412B-B0CA-84B7396C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1681-D912-4CB1-9ABB-C5A7FFE4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10BA-6A30-4E8F-99C6-7129D634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7CF5-D197-489C-8EB0-96BA6A5C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81FB-22AB-4EDF-A730-1C928D26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3500-6976-487C-AFE4-9DFF4AA7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376D-BE5E-4A86-87FA-C99DD449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439-9780-41A0-BB77-DF8A7672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B1A6-9D3B-4E1B-83FF-53DAC57E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4B7C-1F3A-426B-9B66-76241532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A783-4C57-45E4-9B0E-EC75FD01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A003-BEA9-4579-ACC5-520D0F93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1A45-58D8-45B0-B329-9BAB96B0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BAEAE-DEEE-4418-8CFB-C25199F9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8314B-84BF-4195-BBD8-158AC8DE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60AF4-B219-44D8-819F-AA8C4D03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A43E-72C8-4B16-9822-C9326B64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8006B-3D03-40A2-A32B-81FBAA58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974-3D91-453C-90C3-0A141F03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D1C7C-2CB9-4747-80F9-F4A06EE2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55A79-6FA0-45F4-A3D9-4525B5E2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F61AF-AB6D-4790-944B-3BF9FAE4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FA133-69CC-4E1E-9C86-2D15B480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F1FD2-BBC8-4158-A7F0-1303D3FC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E3567-D802-4B50-BBB6-DC35D9C0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26B2A-4195-4E6C-BBD5-4E0BDE26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FD6-EBCD-4162-87FA-7C7AA868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B4B-7074-48C5-BA6B-924B319F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90E-ABB1-4404-BC8C-C88F5A96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718-7E0B-406D-99E0-36CECC81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91B-F7DE-48A2-9396-DFC1C400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5CB-7D18-4E9D-A05A-B38BAD66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457200" indent="457200">
              <a:spcBef>
                <a:spcPts val="601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3" marL="1371600" indent="-457200">
              <a:spcBef>
                <a:spcPts val="601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4" marL="1828800" indent="-9144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FF0B-6A56-4AD0-A17A-396F4B3A39A2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88D6-F797-4014-9D77-FCC52C7E87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457200" indent="457200">
              <a:spcBef>
                <a:spcPts val="601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3" marL="1371600" indent="-457200">
              <a:spcBef>
                <a:spcPts val="601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4" marL="1828800" indent="-9144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C5AB-EA80-4406-AC7A-687BAE40D24C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1449360" y="358128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澳大利亚在世界的位置"/>
          <p:cNvPicPr/>
          <p:nvPr/>
        </p:nvPicPr>
        <p:blipFill>
          <a:blip r:embed="rId1"/>
          <a:stretch/>
        </p:blipFill>
        <p:spPr>
          <a:xfrm>
            <a:off x="1614600" y="2792520"/>
            <a:ext cx="5688000" cy="33861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"/>
          <p:cNvSpPr/>
          <p:nvPr/>
        </p:nvSpPr>
        <p:spPr>
          <a:xfrm>
            <a:off x="684360" y="404640"/>
            <a:ext cx="76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八章  东半球其他的国家和地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第四节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澳大利亚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免费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1782000" y="157320"/>
            <a:ext cx="429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二、“骑在羊背上”的国家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6" descr="农牧业的分布"/>
          <p:cNvPicPr/>
          <p:nvPr/>
        </p:nvPicPr>
        <p:blipFill>
          <a:blip r:embed="rId1"/>
          <a:stretch/>
        </p:blipFill>
        <p:spPr>
          <a:xfrm>
            <a:off x="1619280" y="885960"/>
            <a:ext cx="5402160" cy="5064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826920" y="5845320"/>
            <a:ext cx="72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自主复习：预习题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—7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澳大利亚地形图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34920" y="44280"/>
            <a:ext cx="9144000" cy="71056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2120760" y="2060640"/>
            <a:ext cx="151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西部高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 rot="1516800">
            <a:off x="7327440" y="2965320"/>
            <a:ext cx="1155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大 分 水 岭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4643280" y="3141720"/>
            <a:ext cx="34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大自流盆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澳大利亚大盆地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5505480" y="1844640"/>
            <a:ext cx="151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部平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7234200" y="1709640"/>
            <a:ext cx="151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东部山地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qihouleixing"/>
          <p:cNvPicPr/>
          <p:nvPr/>
        </p:nvPicPr>
        <p:blipFill>
          <a:blip r:embed="rId1"/>
          <a:stretch/>
        </p:blipFill>
        <p:spPr>
          <a:xfrm>
            <a:off x="611280" y="765000"/>
            <a:ext cx="7991280" cy="58708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4718520" y="2006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农牧业的分布"/>
          <p:cNvPicPr/>
          <p:nvPr/>
        </p:nvPicPr>
        <p:blipFill>
          <a:blip r:embed="rId1"/>
          <a:stretch/>
        </p:blipFill>
        <p:spPr>
          <a:xfrm>
            <a:off x="0" y="3990960"/>
            <a:ext cx="3059280" cy="2867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地形图"/>
          <p:cNvPicPr/>
          <p:nvPr/>
        </p:nvPicPr>
        <p:blipFill>
          <a:blip r:embed="rId2"/>
          <a:stretch/>
        </p:blipFill>
        <p:spPr>
          <a:xfrm>
            <a:off x="3060720" y="4014720"/>
            <a:ext cx="3024000" cy="2843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气候图"/>
          <p:cNvPicPr/>
          <p:nvPr/>
        </p:nvPicPr>
        <p:blipFill>
          <a:blip r:embed="rId3"/>
          <a:stretch/>
        </p:blipFill>
        <p:spPr>
          <a:xfrm>
            <a:off x="5977080" y="3933720"/>
            <a:ext cx="3203280" cy="2890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6"/>
          <p:cNvSpPr/>
          <p:nvPr/>
        </p:nvSpPr>
        <p:spPr>
          <a:xfrm>
            <a:off x="108000" y="-27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澳大利亚农牧业分布与地形、气候的关系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79280" y="12682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粗放牧带分布在西部、中部、北部地区。这里地形以低矮高原和平原为主，牧草优良；气候以热带草原气候为主，可一年四季露天放牧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71280" y="1378080"/>
            <a:ext cx="8964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混合经营地带分布在东南和西南部沿海地区。这里多平原，温带气候为主，降水丰富，既适合发展种植业，又适合发展畜牧业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9"/>
          <p:cNvSpPr/>
          <p:nvPr/>
        </p:nvSpPr>
        <p:spPr>
          <a:xfrm>
            <a:off x="343080" y="189000"/>
            <a:ext cx="85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澳大利亚农牧业分布与地形、气候的关系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250920" y="2089080"/>
            <a:ext cx="158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分布地形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99680" y="4262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气候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47640" y="2462040"/>
            <a:ext cx="360360" cy="936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72480" y="38847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热带草原区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2464560" y="48211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温带气候区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763640" y="1927080"/>
            <a:ext cx="59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西部高原、中部平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24"/>
          <p:cNvGrpSpPr/>
          <p:nvPr/>
        </p:nvGrpSpPr>
        <p:grpSpPr>
          <a:xfrm>
            <a:off x="6877080" y="2967120"/>
            <a:ext cx="1770120" cy="825120"/>
            <a:chOff x="6877080" y="2967120"/>
            <a:chExt cx="1770120" cy="825120"/>
          </a:xfrm>
        </p:grpSpPr>
        <p:grpSp>
          <p:nvGrpSpPr>
            <p:cNvPr id="202" name=""/>
            <p:cNvGrpSpPr/>
            <p:nvPr/>
          </p:nvGrpSpPr>
          <p:grpSpPr>
            <a:xfrm>
              <a:off x="6877080" y="3346200"/>
              <a:ext cx="685440" cy="360"/>
              <a:chOff x="6877080" y="3346200"/>
              <a:chExt cx="685440" cy="360"/>
            </a:xfrm>
          </p:grpSpPr>
          <p:sp>
            <p:nvSpPr>
              <p:cNvPr id="203" name="Line 25"/>
              <p:cNvSpPr/>
              <p:nvPr/>
            </p:nvSpPr>
            <p:spPr>
              <a:xfrm>
                <a:off x="6877080" y="3346200"/>
                <a:ext cx="685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6877080" y="3346200"/>
                <a:ext cx="685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Rectangle 26"/>
            <p:cNvSpPr/>
            <p:nvPr/>
          </p:nvSpPr>
          <p:spPr>
            <a:xfrm>
              <a:off x="7734960" y="296712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Times New Roman"/>
                </a:rPr>
                <a:t>混合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27"/>
          <p:cNvSpPr/>
          <p:nvPr/>
        </p:nvSpPr>
        <p:spPr>
          <a:xfrm>
            <a:off x="1763640" y="289404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东南、西南沿海平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30"/>
          <p:cNvSpPr/>
          <p:nvPr/>
        </p:nvSpPr>
        <p:spPr>
          <a:xfrm>
            <a:off x="1619280" y="4262400"/>
            <a:ext cx="360360" cy="936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31"/>
          <p:cNvGrpSpPr/>
          <p:nvPr/>
        </p:nvGrpSpPr>
        <p:grpSpPr>
          <a:xfrm>
            <a:off x="4857840" y="4910040"/>
            <a:ext cx="1770120" cy="825120"/>
            <a:chOff x="4857840" y="4910040"/>
            <a:chExt cx="1770120" cy="825120"/>
          </a:xfrm>
        </p:grpSpPr>
        <p:grpSp>
          <p:nvGrpSpPr>
            <p:cNvPr id="209" name=""/>
            <p:cNvGrpSpPr/>
            <p:nvPr/>
          </p:nvGrpSpPr>
          <p:grpSpPr>
            <a:xfrm>
              <a:off x="4857840" y="5289480"/>
              <a:ext cx="685440" cy="360"/>
              <a:chOff x="4857840" y="5289480"/>
              <a:chExt cx="685440" cy="360"/>
            </a:xfrm>
          </p:grpSpPr>
          <p:sp>
            <p:nvSpPr>
              <p:cNvPr id="210" name="Line 32"/>
              <p:cNvSpPr/>
              <p:nvPr/>
            </p:nvSpPr>
            <p:spPr>
              <a:xfrm>
                <a:off x="4857840" y="5289480"/>
                <a:ext cx="685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4857840" y="5289480"/>
                <a:ext cx="685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Rectangle 33"/>
            <p:cNvSpPr/>
            <p:nvPr/>
          </p:nvSpPr>
          <p:spPr>
            <a:xfrm>
              <a:off x="5715720" y="49100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Times New Roman"/>
                </a:rPr>
                <a:t>混合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34"/>
          <p:cNvGrpSpPr/>
          <p:nvPr/>
        </p:nvGrpSpPr>
        <p:grpSpPr>
          <a:xfrm>
            <a:off x="6877080" y="1959120"/>
            <a:ext cx="1770120" cy="825120"/>
            <a:chOff x="6877080" y="1959120"/>
            <a:chExt cx="1770120" cy="825120"/>
          </a:xfrm>
        </p:grpSpPr>
        <p:grpSp>
          <p:nvGrpSpPr>
            <p:cNvPr id="214" name=""/>
            <p:cNvGrpSpPr/>
            <p:nvPr/>
          </p:nvGrpSpPr>
          <p:grpSpPr>
            <a:xfrm>
              <a:off x="6877080" y="2338200"/>
              <a:ext cx="685440" cy="360"/>
              <a:chOff x="6877080" y="2338200"/>
              <a:chExt cx="685440" cy="360"/>
            </a:xfrm>
          </p:grpSpPr>
          <p:sp>
            <p:nvSpPr>
              <p:cNvPr id="215" name="Line 35"/>
              <p:cNvSpPr/>
              <p:nvPr/>
            </p:nvSpPr>
            <p:spPr>
              <a:xfrm>
                <a:off x="6877080" y="2338200"/>
                <a:ext cx="685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6877080" y="2338200"/>
                <a:ext cx="685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Rectangle 36"/>
            <p:cNvSpPr/>
            <p:nvPr/>
          </p:nvSpPr>
          <p:spPr>
            <a:xfrm>
              <a:off x="7734960" y="195912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Times New Roman"/>
                </a:rPr>
                <a:t>粗放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37"/>
          <p:cNvGrpSpPr/>
          <p:nvPr/>
        </p:nvGrpSpPr>
        <p:grpSpPr>
          <a:xfrm>
            <a:off x="4859280" y="3902040"/>
            <a:ext cx="1770120" cy="825120"/>
            <a:chOff x="4859280" y="3902040"/>
            <a:chExt cx="1770120" cy="825120"/>
          </a:xfrm>
        </p:grpSpPr>
        <p:grpSp>
          <p:nvGrpSpPr>
            <p:cNvPr id="219" name=""/>
            <p:cNvGrpSpPr/>
            <p:nvPr/>
          </p:nvGrpSpPr>
          <p:grpSpPr>
            <a:xfrm>
              <a:off x="4859280" y="4281480"/>
              <a:ext cx="685440" cy="360"/>
              <a:chOff x="4859280" y="4281480"/>
              <a:chExt cx="685440" cy="360"/>
            </a:xfrm>
          </p:grpSpPr>
          <p:sp>
            <p:nvSpPr>
              <p:cNvPr id="220" name="Line 38"/>
              <p:cNvSpPr/>
              <p:nvPr/>
            </p:nvSpPr>
            <p:spPr>
              <a:xfrm>
                <a:off x="4859280" y="4281480"/>
                <a:ext cx="685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4859280" y="4281480"/>
                <a:ext cx="685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Rectangle 39"/>
            <p:cNvSpPr/>
            <p:nvPr/>
          </p:nvSpPr>
          <p:spPr>
            <a:xfrm>
              <a:off x="5717160" y="39020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Times New Roman"/>
                </a:rPr>
                <a:t>粗放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Text Box 40"/>
          <p:cNvSpPr/>
          <p:nvPr/>
        </p:nvSpPr>
        <p:spPr>
          <a:xfrm>
            <a:off x="5919840" y="5989680"/>
            <a:ext cx="31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8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.3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179280" y="144360"/>
            <a:ext cx="878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预习题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澳大利亚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70%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以上的羊只，集中在东南部和西南部沿海的混合经营地带，其他广大地区放养的羊只相对较少。试从地形和气候条件说明原因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303120" y="4122720"/>
            <a:ext cx="85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东南与西南沿海地区地形平坦；气候温和，降水较多。所以羊只数量较多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文本框 8194"/>
          <p:cNvSpPr/>
          <p:nvPr/>
        </p:nvSpPr>
        <p:spPr>
          <a:xfrm>
            <a:off x="790560" y="3787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324000" y="1909800"/>
            <a:ext cx="8280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澳大利亚的农牧业带中，人口和城市集中分布的是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粗放牧羊带      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粗放牧牛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绵羊与小麦混合经营带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羊、牛与经济作物混合经营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364000" y="27082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50920" y="1159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三、“坐在矿车上”的国家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自主复习：预习题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0—1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026"/>
          <p:cNvSpPr/>
          <p:nvPr/>
        </p:nvSpPr>
        <p:spPr>
          <a:xfrm>
            <a:off x="2908440" y="115920"/>
            <a:ext cx="180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世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活化石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博物馆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028"/>
          <p:cNvSpPr/>
          <p:nvPr/>
        </p:nvSpPr>
        <p:spPr>
          <a:xfrm>
            <a:off x="971640" y="47628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生物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29"/>
          <p:cNvSpPr/>
          <p:nvPr/>
        </p:nvSpPr>
        <p:spPr>
          <a:xfrm>
            <a:off x="2987640" y="2084400"/>
            <a:ext cx="187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骑在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羊背上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国家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032"/>
          <p:cNvSpPr/>
          <p:nvPr/>
        </p:nvSpPr>
        <p:spPr>
          <a:xfrm>
            <a:off x="2195640" y="413388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坐在矿车上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国家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031"/>
          <p:cNvSpPr/>
          <p:nvPr/>
        </p:nvSpPr>
        <p:spPr>
          <a:xfrm>
            <a:off x="971640" y="234792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绵羊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数最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034"/>
          <p:cNvSpPr/>
          <p:nvPr/>
        </p:nvSpPr>
        <p:spPr>
          <a:xfrm>
            <a:off x="1116000" y="419112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矿产丰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44"/>
          <p:cNvSpPr/>
          <p:nvPr/>
        </p:nvSpPr>
        <p:spPr>
          <a:xfrm>
            <a:off x="4859280" y="2276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农牧业发达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46"/>
          <p:cNvSpPr/>
          <p:nvPr/>
        </p:nvSpPr>
        <p:spPr>
          <a:xfrm>
            <a:off x="5508720" y="41338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工矿业发达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55"/>
          <p:cNvSpPr/>
          <p:nvPr/>
        </p:nvSpPr>
        <p:spPr>
          <a:xfrm>
            <a:off x="5366880" y="6508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803640" y="2708280"/>
            <a:ext cx="576360" cy="287280"/>
            <a:chOff x="6803640" y="2708280"/>
            <a:chExt cx="576360" cy="287280"/>
          </a:xfrm>
        </p:grpSpPr>
        <p:sp>
          <p:nvSpPr>
            <p:cNvPr id="240" name="Line 1058"/>
            <p:cNvSpPr/>
            <p:nvPr/>
          </p:nvSpPr>
          <p:spPr>
            <a:xfrm flipH="1" flipV="1">
              <a:off x="6803640" y="2708280"/>
              <a:ext cx="576360" cy="287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 rot="10800000">
              <a:off x="6803640" y="2708280"/>
              <a:ext cx="57636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803640" y="2492280"/>
            <a:ext cx="576720" cy="216000"/>
            <a:chOff x="6803640" y="2492280"/>
            <a:chExt cx="576720" cy="216000"/>
          </a:xfrm>
        </p:grpSpPr>
        <p:sp>
          <p:nvSpPr>
            <p:cNvPr id="243" name="Line 1059"/>
            <p:cNvSpPr/>
            <p:nvPr/>
          </p:nvSpPr>
          <p:spPr>
            <a:xfrm flipH="1">
              <a:off x="6803640" y="2492280"/>
              <a:ext cx="576360" cy="216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6804000" y="2492280"/>
              <a:ext cx="576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Text Box 1060"/>
          <p:cNvSpPr/>
          <p:nvPr/>
        </p:nvSpPr>
        <p:spPr>
          <a:xfrm>
            <a:off x="4572000" y="528624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现在的经济支柱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口、城市的分布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484360" y="1125360"/>
            <a:ext cx="503280" cy="360"/>
            <a:chOff x="2484360" y="1125360"/>
            <a:chExt cx="503280" cy="360"/>
          </a:xfrm>
        </p:grpSpPr>
        <p:sp>
          <p:nvSpPr>
            <p:cNvPr id="247" name="Line 1062"/>
            <p:cNvSpPr/>
            <p:nvPr/>
          </p:nvSpPr>
          <p:spPr>
            <a:xfrm>
              <a:off x="2484360" y="1125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2484360" y="112536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484360" y="3068640"/>
            <a:ext cx="574920" cy="360"/>
            <a:chOff x="2484360" y="3068640"/>
            <a:chExt cx="574920" cy="360"/>
          </a:xfrm>
        </p:grpSpPr>
        <p:sp>
          <p:nvSpPr>
            <p:cNvPr id="250" name="Line 1065"/>
            <p:cNvSpPr/>
            <p:nvPr/>
          </p:nvSpPr>
          <p:spPr>
            <a:xfrm>
              <a:off x="2484360" y="3068640"/>
              <a:ext cx="574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2484360" y="3068640"/>
              <a:ext cx="57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1070"/>
          <p:cNvSpPr/>
          <p:nvPr/>
        </p:nvSpPr>
        <p:spPr>
          <a:xfrm>
            <a:off x="182880" y="155952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澳大利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124000" y="4838760"/>
            <a:ext cx="574920" cy="360"/>
            <a:chOff x="2124000" y="4838760"/>
            <a:chExt cx="574920" cy="360"/>
          </a:xfrm>
        </p:grpSpPr>
        <p:sp>
          <p:nvSpPr>
            <p:cNvPr id="254" name="Line 1071"/>
            <p:cNvSpPr/>
            <p:nvPr/>
          </p:nvSpPr>
          <p:spPr>
            <a:xfrm>
              <a:off x="2124000" y="4838760"/>
              <a:ext cx="574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2124000" y="4838760"/>
              <a:ext cx="57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637160" y="1154160"/>
            <a:ext cx="574560" cy="360"/>
            <a:chOff x="4637160" y="1154160"/>
            <a:chExt cx="574560" cy="360"/>
          </a:xfrm>
        </p:grpSpPr>
        <p:sp>
          <p:nvSpPr>
            <p:cNvPr id="257" name="Line 1072"/>
            <p:cNvSpPr/>
            <p:nvPr/>
          </p:nvSpPr>
          <p:spPr>
            <a:xfrm>
              <a:off x="4637160" y="1154160"/>
              <a:ext cx="574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4637160" y="1154160"/>
              <a:ext cx="57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643280" y="3068640"/>
            <a:ext cx="574920" cy="360"/>
            <a:chOff x="4643280" y="3068640"/>
            <a:chExt cx="574920" cy="360"/>
          </a:xfrm>
        </p:grpSpPr>
        <p:sp>
          <p:nvSpPr>
            <p:cNvPr id="260" name="Line 1073"/>
            <p:cNvSpPr/>
            <p:nvPr/>
          </p:nvSpPr>
          <p:spPr>
            <a:xfrm>
              <a:off x="4643280" y="3068640"/>
              <a:ext cx="574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4643280" y="3068640"/>
              <a:ext cx="57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Text Box 1074"/>
          <p:cNvSpPr/>
          <p:nvPr/>
        </p:nvSpPr>
        <p:spPr>
          <a:xfrm>
            <a:off x="7533720" y="19162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地形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气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076720" y="4567320"/>
            <a:ext cx="574920" cy="360"/>
            <a:chOff x="5076720" y="4567320"/>
            <a:chExt cx="574920" cy="360"/>
          </a:xfrm>
        </p:grpSpPr>
        <p:sp>
          <p:nvSpPr>
            <p:cNvPr id="264" name="Line 1075"/>
            <p:cNvSpPr/>
            <p:nvPr/>
          </p:nvSpPr>
          <p:spPr>
            <a:xfrm>
              <a:off x="5076720" y="4567320"/>
              <a:ext cx="574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5076720" y="4567320"/>
              <a:ext cx="57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AutoShape 1076"/>
          <p:cNvSpPr/>
          <p:nvPr/>
        </p:nvSpPr>
        <p:spPr>
          <a:xfrm>
            <a:off x="900000" y="981000"/>
            <a:ext cx="287280" cy="403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04760 h 4032360"/>
              <a:gd name="textAreaBottom" fmla="*/ 392760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659640" y="4854600"/>
            <a:ext cx="360" cy="504720"/>
            <a:chOff x="6659640" y="4854600"/>
            <a:chExt cx="360" cy="504720"/>
          </a:xfrm>
        </p:grpSpPr>
        <p:sp>
          <p:nvSpPr>
            <p:cNvPr id="268" name="Line 1077"/>
            <p:cNvSpPr/>
            <p:nvPr/>
          </p:nvSpPr>
          <p:spPr>
            <a:xfrm>
              <a:off x="6659640" y="485460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6659640" y="4854600"/>
              <a:ext cx="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BADF-D2A2-4391-8734-AAB04D1D55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08000" y="-27000"/>
            <a:ext cx="885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回扣目标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读图记忆澳大利亚的临海、河湖、地形区、城市，能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分析澳大利亚的位置、地形和人口城市分布特点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记住澳大利亚的特有动物、出口农产品、经济支柱；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析：①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澳大利亚农牧业分布与地形、气候的关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澳大利亚养羊业的分布及其自然原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79280" y="260280"/>
            <a:ext cx="8964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复习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撒哈拉以南的非洲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读图记忆撒哈拉以南非洲的主要临海、地形区、河流；位置和地形特点；主要气候类型及其特征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记住该地区的经济特点，会分析该地区在国际贸易中的地位及原因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记住阻碍非洲经济发展的三大问题及表现，会分析三者的关系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能为非洲经济发展出谋划策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8"/>
          <p:cNvGrpSpPr/>
          <p:nvPr/>
        </p:nvGrpSpPr>
        <p:grpSpPr>
          <a:xfrm>
            <a:off x="1908000" y="981000"/>
            <a:ext cx="5545080" cy="5545080"/>
            <a:chOff x="1908000" y="981000"/>
            <a:chExt cx="5545080" cy="5545080"/>
          </a:xfrm>
        </p:grpSpPr>
        <p:pic>
          <p:nvPicPr>
            <p:cNvPr id="136" name="Picture 4" descr="feizhoukongbai"/>
            <p:cNvPicPr/>
            <p:nvPr/>
          </p:nvPicPr>
          <p:blipFill>
            <a:blip r:embed="rId1"/>
            <a:stretch/>
          </p:blipFill>
          <p:spPr>
            <a:xfrm>
              <a:off x="1908000" y="981000"/>
              <a:ext cx="5545080" cy="554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Group 7"/>
            <p:cNvGrpSpPr/>
            <p:nvPr/>
          </p:nvGrpSpPr>
          <p:grpSpPr>
            <a:xfrm>
              <a:off x="2916000" y="2192400"/>
              <a:ext cx="3024360" cy="803160"/>
              <a:chOff x="2916000" y="2192400"/>
              <a:chExt cx="3024360" cy="803160"/>
            </a:xfrm>
          </p:grpSpPr>
          <p:sp>
            <p:nvSpPr>
              <p:cNvPr id="138" name="Freeform 5"/>
              <p:cNvSpPr/>
              <p:nvPr/>
            </p:nvSpPr>
            <p:spPr>
              <a:xfrm>
                <a:off x="2916000" y="2192400"/>
                <a:ext cx="2808360" cy="803160"/>
              </a:xfrm>
              <a:custGeom>
                <a:avLst/>
                <a:gdLst/>
                <a:ahLst/>
                <a:rect l="l" t="t" r="r" b="b"/>
                <a:pathLst>
                  <a:path w="1769" h="506">
                    <a:moveTo>
                      <a:pt x="0" y="0"/>
                    </a:moveTo>
                    <a:cubicBezTo>
                      <a:pt x="234" y="170"/>
                      <a:pt x="469" y="340"/>
                      <a:pt x="590" y="408"/>
                    </a:cubicBezTo>
                    <a:cubicBezTo>
                      <a:pt x="711" y="476"/>
                      <a:pt x="658" y="431"/>
                      <a:pt x="726" y="408"/>
                    </a:cubicBezTo>
                    <a:cubicBezTo>
                      <a:pt x="794" y="385"/>
                      <a:pt x="930" y="280"/>
                      <a:pt x="998" y="272"/>
                    </a:cubicBezTo>
                    <a:cubicBezTo>
                      <a:pt x="1066" y="264"/>
                      <a:pt x="1096" y="355"/>
                      <a:pt x="1134" y="363"/>
                    </a:cubicBezTo>
                    <a:cubicBezTo>
                      <a:pt x="1172" y="371"/>
                      <a:pt x="1149" y="295"/>
                      <a:pt x="1225" y="318"/>
                    </a:cubicBezTo>
                    <a:cubicBezTo>
                      <a:pt x="1301" y="341"/>
                      <a:pt x="1520" y="492"/>
                      <a:pt x="1588" y="499"/>
                    </a:cubicBezTo>
                    <a:cubicBezTo>
                      <a:pt x="1656" y="506"/>
                      <a:pt x="1603" y="401"/>
                      <a:pt x="1633" y="363"/>
                    </a:cubicBezTo>
                    <a:cubicBezTo>
                      <a:pt x="1663" y="325"/>
                      <a:pt x="1746" y="287"/>
                      <a:pt x="1769" y="272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724360" y="2624040"/>
                <a:ext cx="216000" cy="360"/>
                <a:chOff x="5724360" y="2624040"/>
                <a:chExt cx="216000" cy="360"/>
              </a:xfrm>
            </p:grpSpPr>
            <p:sp>
              <p:nvSpPr>
                <p:cNvPr id="140" name="Line 6"/>
                <p:cNvSpPr/>
                <p:nvPr/>
              </p:nvSpPr>
              <p:spPr>
                <a:xfrm>
                  <a:off x="5724360" y="2624040"/>
                  <a:ext cx="21600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 txBox="1"/>
                <p:nvPr/>
              </p:nvSpPr>
              <p:spPr>
                <a:xfrm>
                  <a:off x="5724360" y="2624040"/>
                  <a:ext cx="21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31840" y="260280"/>
            <a:ext cx="8661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复习欧洲西部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读图记忆临海、地形区、气候类型及特征；主要国家及首都；工业密集地带；旅游胜地及所在国家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记住本区区域性国际组织；工农业主要部门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会分析：①欧洲西部地形特点及其对气候的影响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畜牧业发达与地形、气候的关系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xiouqihou"/>
          <p:cNvPicPr/>
          <p:nvPr/>
        </p:nvPicPr>
        <p:blipFill>
          <a:blip r:embed="rId1"/>
          <a:stretch/>
        </p:blipFill>
        <p:spPr>
          <a:xfrm>
            <a:off x="1028880" y="828720"/>
            <a:ext cx="6207120" cy="555300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5448240" y="5183280"/>
            <a:ext cx="1371600" cy="360"/>
            <a:chOff x="5448240" y="5183280"/>
            <a:chExt cx="1371600" cy="360"/>
          </a:xfrm>
        </p:grpSpPr>
        <p:sp>
          <p:nvSpPr>
            <p:cNvPr id="145" name="Line 3"/>
            <p:cNvSpPr/>
            <p:nvPr/>
          </p:nvSpPr>
          <p:spPr>
            <a:xfrm>
              <a:off x="5448240" y="5183280"/>
              <a:ext cx="1371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5448240" y="518328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4"/>
          <p:cNvSpPr/>
          <p:nvPr/>
        </p:nvSpPr>
        <p:spPr>
          <a:xfrm>
            <a:off x="5072040" y="4815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397480" y="2500200"/>
            <a:ext cx="1371600" cy="360"/>
            <a:chOff x="5397480" y="2500200"/>
            <a:chExt cx="1371600" cy="360"/>
          </a:xfrm>
        </p:grpSpPr>
        <p:sp>
          <p:nvSpPr>
            <p:cNvPr id="149" name="Line 5"/>
            <p:cNvSpPr/>
            <p:nvPr/>
          </p:nvSpPr>
          <p:spPr>
            <a:xfrm>
              <a:off x="5397480" y="2500200"/>
              <a:ext cx="1371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5397480" y="250020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6"/>
          <p:cNvSpPr/>
          <p:nvPr/>
        </p:nvSpPr>
        <p:spPr>
          <a:xfrm>
            <a:off x="5068800" y="2138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2678040" y="3760920"/>
            <a:ext cx="38124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3059280" y="4654440"/>
            <a:ext cx="3808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9"/>
          <p:cNvSpPr/>
          <p:nvPr/>
        </p:nvSpPr>
        <p:spPr>
          <a:xfrm>
            <a:off x="5918040" y="3121200"/>
            <a:ext cx="381240" cy="380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5991120" y="585612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11"/>
          <p:cNvSpPr/>
          <p:nvPr/>
        </p:nvSpPr>
        <p:spPr>
          <a:xfrm>
            <a:off x="3614760" y="3789360"/>
            <a:ext cx="3808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12"/>
          <p:cNvSpPr/>
          <p:nvPr/>
        </p:nvSpPr>
        <p:spPr>
          <a:xfrm>
            <a:off x="3924360" y="1341360"/>
            <a:ext cx="24444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6689880" y="49068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6689880" y="2251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文本框 8194"/>
          <p:cNvSpPr/>
          <p:nvPr/>
        </p:nvSpPr>
        <p:spPr>
          <a:xfrm>
            <a:off x="1793880" y="4935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324000" y="289080"/>
            <a:ext cx="858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南非的一家化妆品公司生产了一批适合黑种人的护肤品，在撒哈拉以南的非洲取得了很高的销售业绩，该公司准备向海外扩大销售，下列地区有可能列入公司推广市场的是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中国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俄罗斯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澳大利亚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英国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165800" y="4149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179280" y="260280"/>
            <a:ext cx="878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说说看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澳大利亚是世界上唯一一个独自占有一块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____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的国家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从位置看，它位于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____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洲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__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（东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西）半球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__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（南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北）半球；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从国土面积和人口密度看，它是一个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_________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的国家；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从经济发展水平看，它是一个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____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国家。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1793880" y="1579680"/>
            <a:ext cx="155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大陆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4643280" y="2227320"/>
            <a:ext cx="155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大洋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6995880" y="2205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东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3395520" y="2892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784080" y="4221000"/>
            <a:ext cx="290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地广人稀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7410600" y="4869000"/>
            <a:ext cx="155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发达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08000" y="-27000"/>
            <a:ext cx="885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复习目标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读图记忆澳大利亚的临海、河湖、地形区、城市，能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分析澳大利亚的位置、地形和人口城市分布特点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记住澳大利亚的特有动物、出口农产品、经济支柱；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析：①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澳大利亚农牧业分布与地形、气候的关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澳大利亚养羊业的分布及其自然原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3"/>
          <p:cNvSpPr/>
          <p:nvPr/>
        </p:nvSpPr>
        <p:spPr>
          <a:xfrm>
            <a:off x="179280" y="15732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一、世界活化石博物馆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自主复习：预习题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—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79280" y="3517920"/>
            <a:ext cx="878544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下列动物中，不是澳大利亚特有动物的是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袋鼠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考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长颈鹿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鸭嘴兽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231840" y="1801800"/>
            <a:ext cx="873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说一说澳大利亚的海陆位置和纬度位置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3852720" y="42210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0" descr="guohui"/>
          <p:cNvPicPr/>
          <p:nvPr/>
        </p:nvPicPr>
        <p:blipFill>
          <a:blip r:embed="rId1"/>
          <a:stretch/>
        </p:blipFill>
        <p:spPr>
          <a:xfrm>
            <a:off x="3419640" y="2416320"/>
            <a:ext cx="5400360" cy="4152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8"/>
          <p:cNvSpPr/>
          <p:nvPr/>
        </p:nvSpPr>
        <p:spPr>
          <a:xfrm>
            <a:off x="4572000" y="6040440"/>
            <a:ext cx="34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澳大利亚国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23:42:2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45Z</dcterms:modified>
  <cp:revision>6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