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EDB-C39A-4C84-A784-9526FB9C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AF1-9E56-4A85-AA3A-4FB26304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E94-6AA3-4148-90EE-8B9A8A69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BC2-22F7-4E6B-A9FE-04CCDFC5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1BCF-AAD7-46C0-A4FA-BE018DE4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D0AA-2FC8-4451-993E-A7BE689A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14F6-BFB9-402F-9A2B-9BC2503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340E-63CA-400C-B114-BEF40F7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7AB1-CCFB-47CD-982D-F8C3D26A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5606-1C90-4D42-B708-90578500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57DC-87A1-42A0-94E1-E097A3FB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665-D088-468E-9238-5051D3D4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4A5A-EB82-42E5-A4B2-A791F27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FAE7-0293-47CE-87A0-49822B7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B519-15DC-41A0-BFB4-E1AD689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E30-2D43-4646-9C10-A2203D1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1A10-1E5D-4B1C-8C68-83CDE847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1656-1A5A-4624-BA20-4443BB75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6481-37B0-4F01-A8CD-2F693C93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BD3D-CC78-4831-BC2A-E3CD1A7B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5652-4991-40A7-A16E-AAF63109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7B63-2806-41B9-9F3F-D30E2272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51C-7E72-4EB2-BB85-D7558506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04289-C661-4008-9119-3524EEA3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197E-31EA-4329-BF14-7BB7AAB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4653-1701-43C6-80A5-BA8A65BD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E1A4-47F1-49E3-BAE2-1399894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E465-F044-415E-AD68-B41130E2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7AFD-9022-40FB-8BE6-083A384D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CCF3-818E-401D-8C64-E8210987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01F-A449-4D78-AD3B-DE738865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472-496A-4416-A0BE-0FAAB04E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BF5-5345-4397-8432-1A01CF1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D64-1D0A-4151-8D06-401AA44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09A-0B3A-4B40-9A0D-D7034C0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0A6-7BF7-4C6D-9844-CA647E02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Freeform 3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4" name="Oval 6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7740720" y="347760"/>
              <a:ext cx="25812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7" name="Oval 9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153280" y="152640"/>
              <a:ext cx="508320" cy="39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0" name="Oval 12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171360" y="946080"/>
              <a:ext cx="60048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6638-C515-4DA5-82B7-79203886A7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3CE9-FA51-45E6-BD98-4B923CB4C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2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97" name="Oval 5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"/>
            <p:cNvSpPr/>
            <p:nvPr/>
          </p:nvSpPr>
          <p:spPr>
            <a:xfrm>
              <a:off x="7086600" y="1947960"/>
              <a:ext cx="355680" cy="35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100" name="Oval 8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7620120" y="1524240"/>
              <a:ext cx="76212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103" name="Oval 11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04920" y="3657600"/>
              <a:ext cx="10792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3D24-B813-42EF-8AFE-02332613255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746280" y="638280"/>
            <a:ext cx="774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十章 第２节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阿基米德原理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914400" y="914400"/>
            <a:ext cx="7437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一个体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0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物体浮在水面上，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积露出水面，它受的浮力是多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 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371600" y="1981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746280" y="2619360"/>
            <a:ext cx="742608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阿基米德原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据题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×10 N/kg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38080" y="990720"/>
            <a:ext cx="7874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把两个物重相同的实心铁球和铝球，浸没在水中，它们受到的浮力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相等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铝球的比铁球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铝球的比铁球小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浮力都等于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836640" y="3519360"/>
            <a:ext cx="7561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990000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铁球和铝球的重力相等，则质量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021280" y="15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0"/>
          <p:cNvGrpSpPr/>
          <p:nvPr/>
        </p:nvGrpSpPr>
        <p:grpSpPr>
          <a:xfrm>
            <a:off x="1547640" y="4599000"/>
            <a:ext cx="4740120" cy="965160"/>
            <a:chOff x="1547640" y="4599000"/>
            <a:chExt cx="4740120" cy="965160"/>
          </a:xfrm>
        </p:grpSpPr>
        <p:pic>
          <p:nvPicPr>
            <p:cNvPr id="234" name="Object 8" descr=""/>
            <p:cNvPicPr/>
            <p:nvPr/>
          </p:nvPicPr>
          <p:blipFill>
            <a:blip r:embed="rId1"/>
            <a:stretch/>
          </p:blipFill>
          <p:spPr>
            <a:xfrm>
              <a:off x="1904760" y="4599000"/>
              <a:ext cx="10857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9"/>
            <p:cNvSpPr/>
            <p:nvPr/>
          </p:nvSpPr>
          <p:spPr>
            <a:xfrm>
              <a:off x="1547640" y="4889520"/>
              <a:ext cx="474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      ，</a:t>
              </a:r>
              <a:r>
                <a:rPr b="1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ρ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铁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＞</a:t>
              </a:r>
              <a:r>
                <a:rPr b="1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ρ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则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V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铁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&lt;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V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铝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11"/>
          <p:cNvSpPr/>
          <p:nvPr/>
        </p:nvSpPr>
        <p:spPr>
          <a:xfrm>
            <a:off x="1015920" y="5724360"/>
            <a:ext cx="5715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铝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铁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85920" y="1584360"/>
            <a:ext cx="84531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7840" indent="-1077840" algn="just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铝球受到的浮力最大，因为它浸入液体的深度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 algn="just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铅球受到的浮力最大，因为它的密度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 algn="just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铅球、铁球、铝球受的浮力一样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 algn="just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因素太多，无法判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2"/>
          <a:stretch/>
        </p:blipFill>
        <p:spPr>
          <a:xfrm>
            <a:off x="5967360" y="356400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611280" y="3968640"/>
            <a:ext cx="731520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990000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浸没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同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同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701640" y="617364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浮力与浸入液体的深度和物体的密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657360" y="458640"/>
            <a:ext cx="7964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图所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积相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度不同的铅球、铁球、铝球浸没在水中不同深度的地方，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867360" y="95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457200" y="762120"/>
            <a:ext cx="83059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甲、乙两个实心金属球，它们质量相同，其密度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甲球挂在甲弹簧测力计下，乙球挂在乙弹簧测力计下，并且让金属球全部没入水中，这时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、乙两球所受到的浮力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、乙两球所受到的浮力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、乙两个弹簧测力计的示数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、乙两个弹簧测力计的示数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648320" y="0"/>
            <a:ext cx="4495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运用浮力知识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48" name="文本框 8199"/>
          <p:cNvSpPr/>
          <p:nvPr/>
        </p:nvSpPr>
        <p:spPr>
          <a:xfrm>
            <a:off x="1665360" y="539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648320" y="0"/>
            <a:ext cx="4495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运用浮力知识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685800" y="233280"/>
            <a:ext cx="84582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: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分析物体受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11" descr=""/>
          <p:cNvPicPr/>
          <p:nvPr/>
        </p:nvPicPr>
        <p:blipFill>
          <a:blip r:embed="rId1"/>
          <a:stretch/>
        </p:blipFill>
        <p:spPr>
          <a:xfrm>
            <a:off x="984240" y="4619520"/>
            <a:ext cx="6513480" cy="1284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3"/>
          <p:cNvSpPr/>
          <p:nvPr/>
        </p:nvSpPr>
        <p:spPr>
          <a:xfrm>
            <a:off x="3986280" y="60847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物体受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122720" y="230364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项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836640" y="610560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项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50"/>
          <p:cNvGrpSpPr/>
          <p:nvPr/>
        </p:nvGrpSpPr>
        <p:grpSpPr>
          <a:xfrm>
            <a:off x="6686640" y="2889360"/>
            <a:ext cx="2205360" cy="1513080"/>
            <a:chOff x="6686640" y="2889360"/>
            <a:chExt cx="2205360" cy="1513080"/>
          </a:xfrm>
        </p:grpSpPr>
        <p:sp>
          <p:nvSpPr>
            <p:cNvPr id="256" name="Rectangle 149"/>
            <p:cNvSpPr/>
            <p:nvPr/>
          </p:nvSpPr>
          <p:spPr>
            <a:xfrm>
              <a:off x="6686640" y="3097080"/>
              <a:ext cx="2205000" cy="130464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48"/>
            <p:cNvGrpSpPr/>
            <p:nvPr/>
          </p:nvGrpSpPr>
          <p:grpSpPr>
            <a:xfrm>
              <a:off x="6686640" y="2889360"/>
              <a:ext cx="2205360" cy="1513080"/>
              <a:chOff x="6686640" y="2889360"/>
              <a:chExt cx="2205360" cy="151308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6686640" y="2889360"/>
                <a:ext cx="360" cy="1512720"/>
                <a:chOff x="6686640" y="2889360"/>
                <a:chExt cx="360" cy="1512720"/>
              </a:xfrm>
            </p:grpSpPr>
            <p:sp>
              <p:nvSpPr>
                <p:cNvPr id="259" name="Line 4"/>
                <p:cNvSpPr/>
                <p:nvPr/>
              </p:nvSpPr>
              <p:spPr>
                <a:xfrm>
                  <a:off x="6686640" y="2889360"/>
                  <a:ext cx="0" cy="1512720"/>
                </a:xfrm>
                <a:prstGeom prst="line">
                  <a:avLst/>
                </a:prstGeom>
                <a:ln w="28440">
                  <a:solidFill>
                    <a:srgbClr val="65aae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6686640" y="2889360"/>
                  <a:ext cx="360" cy="15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8891640" y="2889360"/>
                <a:ext cx="360" cy="1512720"/>
                <a:chOff x="8891640" y="2889360"/>
                <a:chExt cx="360" cy="1512720"/>
              </a:xfrm>
            </p:grpSpPr>
            <p:sp>
              <p:nvSpPr>
                <p:cNvPr id="262" name="Line 5"/>
                <p:cNvSpPr/>
                <p:nvPr/>
              </p:nvSpPr>
              <p:spPr>
                <a:xfrm>
                  <a:off x="8891640" y="2889360"/>
                  <a:ext cx="0" cy="1512720"/>
                </a:xfrm>
                <a:prstGeom prst="line">
                  <a:avLst/>
                </a:prstGeom>
                <a:ln w="28440">
                  <a:solidFill>
                    <a:srgbClr val="65aae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 txBox="1"/>
                <p:nvPr/>
              </p:nvSpPr>
              <p:spPr>
                <a:xfrm>
                  <a:off x="8891640" y="2889360"/>
                  <a:ext cx="360" cy="15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686640" y="4402080"/>
                <a:ext cx="2205000" cy="360"/>
                <a:chOff x="6686640" y="4402080"/>
                <a:chExt cx="2205000" cy="360"/>
              </a:xfrm>
            </p:grpSpPr>
            <p:sp>
              <p:nvSpPr>
                <p:cNvPr id="265" name="Line 6"/>
                <p:cNvSpPr/>
                <p:nvPr/>
              </p:nvSpPr>
              <p:spPr>
                <a:xfrm>
                  <a:off x="6686640" y="4402080"/>
                  <a:ext cx="2205000" cy="0"/>
                </a:xfrm>
                <a:prstGeom prst="line">
                  <a:avLst/>
                </a:prstGeom>
                <a:ln w="28440">
                  <a:solidFill>
                    <a:srgbClr val="65aae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 txBox="1"/>
                <p:nvPr/>
              </p:nvSpPr>
              <p:spPr>
                <a:xfrm>
                  <a:off x="6686640" y="4402080"/>
                  <a:ext cx="2205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6686640" y="3079440"/>
              <a:ext cx="2205000" cy="360"/>
              <a:chOff x="6686640" y="3079440"/>
              <a:chExt cx="2205000" cy="360"/>
            </a:xfrm>
          </p:grpSpPr>
          <p:sp>
            <p:nvSpPr>
              <p:cNvPr id="268" name="Line 7"/>
              <p:cNvSpPr/>
              <p:nvPr/>
            </p:nvSpPr>
            <p:spPr>
              <a:xfrm>
                <a:off x="6686640" y="3079440"/>
                <a:ext cx="220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6686640" y="3079440"/>
                <a:ext cx="220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Group 135"/>
          <p:cNvGrpSpPr/>
          <p:nvPr/>
        </p:nvGrpSpPr>
        <p:grpSpPr>
          <a:xfrm>
            <a:off x="7002360" y="1763640"/>
            <a:ext cx="314280" cy="1865520"/>
            <a:chOff x="7002360" y="1763640"/>
            <a:chExt cx="314280" cy="1865520"/>
          </a:xfrm>
        </p:grpSpPr>
        <p:sp>
          <p:nvSpPr>
            <p:cNvPr id="271" name="Oval 8"/>
            <p:cNvSpPr/>
            <p:nvPr/>
          </p:nvSpPr>
          <p:spPr>
            <a:xfrm>
              <a:off x="7002360" y="3313080"/>
              <a:ext cx="31428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c2c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149600" y="2889360"/>
              <a:ext cx="2160" cy="441360"/>
              <a:chOff x="7149600" y="2889360"/>
              <a:chExt cx="2160" cy="441360"/>
            </a:xfrm>
          </p:grpSpPr>
          <p:sp>
            <p:nvSpPr>
              <p:cNvPr id="273" name="Line 11"/>
              <p:cNvSpPr/>
              <p:nvPr/>
            </p:nvSpPr>
            <p:spPr>
              <a:xfrm flipV="1">
                <a:off x="7149960" y="2889360"/>
                <a:ext cx="180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 rot="10800000">
                <a:off x="7149600" y="2889360"/>
                <a:ext cx="1800" cy="44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32"/>
            <p:cNvGrpSpPr/>
            <p:nvPr/>
          </p:nvGrpSpPr>
          <p:grpSpPr>
            <a:xfrm>
              <a:off x="7059600" y="1763640"/>
              <a:ext cx="223920" cy="1098720"/>
              <a:chOff x="7059600" y="1763640"/>
              <a:chExt cx="223920" cy="109872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7059600" y="1865520"/>
                <a:ext cx="223920" cy="817560"/>
                <a:chOff x="7059600" y="1865520"/>
                <a:chExt cx="223920" cy="817560"/>
              </a:xfrm>
            </p:grpSpPr>
            <p:sp>
              <p:nvSpPr>
                <p:cNvPr id="277" name="Rectangle 33"/>
                <p:cNvSpPr/>
                <p:nvPr/>
              </p:nvSpPr>
              <p:spPr>
                <a:xfrm rot="16200000">
                  <a:off x="6801480" y="2158200"/>
                  <a:ext cx="739800" cy="223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34"/>
                <p:cNvSpPr/>
                <p:nvPr/>
              </p:nvSpPr>
              <p:spPr>
                <a:xfrm rot="16200000">
                  <a:off x="7128720" y="1847880"/>
                  <a:ext cx="84960" cy="119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35"/>
                <p:cNvSpPr/>
                <p:nvPr/>
              </p:nvSpPr>
              <p:spPr>
                <a:xfrm rot="16200000">
                  <a:off x="7133040" y="2580480"/>
                  <a:ext cx="84960" cy="119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36"/>
                <p:cNvSpPr/>
                <p:nvPr/>
              </p:nvSpPr>
              <p:spPr>
                <a:xfrm rot="16200000">
                  <a:off x="7141680" y="1850040"/>
                  <a:ext cx="63360" cy="17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37"/>
                <p:cNvSpPr/>
                <p:nvPr/>
              </p:nvSpPr>
              <p:spPr>
                <a:xfrm rot="16200000">
                  <a:off x="7133760" y="2518560"/>
                  <a:ext cx="63720" cy="17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7151760" y="2583720"/>
                  <a:ext cx="360" cy="3240"/>
                  <a:chOff x="7151760" y="2583720"/>
                  <a:chExt cx="360" cy="3240"/>
                </a:xfrm>
              </p:grpSpPr>
              <p:sp>
                <p:nvSpPr>
                  <p:cNvPr id="283" name="Line 38"/>
                  <p:cNvSpPr/>
                  <p:nvPr/>
                </p:nvSpPr>
                <p:spPr>
                  <a:xfrm flipV="1">
                    <a:off x="7151760" y="2583720"/>
                    <a:ext cx="0" cy="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 rot="16200000">
                    <a:off x="7150320" y="2585160"/>
                    <a:ext cx="3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7097760" y="1944720"/>
                <a:ext cx="131760" cy="360"/>
                <a:chOff x="7097760" y="1944720"/>
                <a:chExt cx="131760" cy="360"/>
              </a:xfrm>
            </p:grpSpPr>
            <p:sp>
              <p:nvSpPr>
                <p:cNvPr id="286" name="Line 39"/>
                <p:cNvSpPr/>
                <p:nvPr/>
              </p:nvSpPr>
              <p:spPr>
                <a:xfrm>
                  <a:off x="7097760" y="1944720"/>
                  <a:ext cx="13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 txBox="1"/>
                <p:nvPr/>
              </p:nvSpPr>
              <p:spPr>
                <a:xfrm>
                  <a:off x="7097760" y="1944720"/>
                  <a:ext cx="13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097760" y="2203560"/>
                <a:ext cx="131760" cy="360"/>
                <a:chOff x="7097760" y="2203560"/>
                <a:chExt cx="131760" cy="360"/>
              </a:xfrm>
            </p:grpSpPr>
            <p:sp>
              <p:nvSpPr>
                <p:cNvPr id="289" name="Line 40"/>
                <p:cNvSpPr/>
                <p:nvPr/>
              </p:nvSpPr>
              <p:spPr>
                <a:xfrm>
                  <a:off x="7097760" y="2203560"/>
                  <a:ext cx="13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7097760" y="2203560"/>
                  <a:ext cx="13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101000" y="2341440"/>
                <a:ext cx="133200" cy="360"/>
                <a:chOff x="7101000" y="2341440"/>
                <a:chExt cx="133200" cy="360"/>
              </a:xfrm>
            </p:grpSpPr>
            <p:sp>
              <p:nvSpPr>
                <p:cNvPr id="292" name="Line 41"/>
                <p:cNvSpPr/>
                <p:nvPr/>
              </p:nvSpPr>
              <p:spPr>
                <a:xfrm>
                  <a:off x="7101000" y="2341440"/>
                  <a:ext cx="13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7101000" y="2341440"/>
                  <a:ext cx="133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101000" y="2468520"/>
                <a:ext cx="133200" cy="360"/>
                <a:chOff x="7101000" y="2468520"/>
                <a:chExt cx="133200" cy="360"/>
              </a:xfrm>
            </p:grpSpPr>
            <p:sp>
              <p:nvSpPr>
                <p:cNvPr id="295" name="Line 42"/>
                <p:cNvSpPr/>
                <p:nvPr/>
              </p:nvSpPr>
              <p:spPr>
                <a:xfrm>
                  <a:off x="7101000" y="2468520"/>
                  <a:ext cx="13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7101000" y="2468520"/>
                  <a:ext cx="133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097760" y="2586240"/>
                <a:ext cx="131760" cy="360"/>
                <a:chOff x="7097760" y="2586240"/>
                <a:chExt cx="131760" cy="360"/>
              </a:xfrm>
            </p:grpSpPr>
            <p:sp>
              <p:nvSpPr>
                <p:cNvPr id="298" name="Line 43"/>
                <p:cNvSpPr/>
                <p:nvPr/>
              </p:nvSpPr>
              <p:spPr>
                <a:xfrm>
                  <a:off x="7097760" y="2586240"/>
                  <a:ext cx="13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>
                  <a:off x="7097760" y="2586240"/>
                  <a:ext cx="13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101000" y="2075040"/>
                <a:ext cx="133200" cy="360"/>
                <a:chOff x="7101000" y="2075040"/>
                <a:chExt cx="133200" cy="360"/>
              </a:xfrm>
            </p:grpSpPr>
            <p:sp>
              <p:nvSpPr>
                <p:cNvPr id="301" name="Line 44"/>
                <p:cNvSpPr/>
                <p:nvPr/>
              </p:nvSpPr>
              <p:spPr>
                <a:xfrm>
                  <a:off x="7101000" y="2075040"/>
                  <a:ext cx="13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>
                  <a:off x="7101000" y="2075040"/>
                  <a:ext cx="133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113600" y="1973160"/>
                <a:ext cx="92160" cy="360"/>
                <a:chOff x="7113600" y="1973160"/>
                <a:chExt cx="92160" cy="360"/>
              </a:xfrm>
            </p:grpSpPr>
            <p:sp>
              <p:nvSpPr>
                <p:cNvPr id="304" name="Line 45"/>
                <p:cNvSpPr/>
                <p:nvPr/>
              </p:nvSpPr>
              <p:spPr>
                <a:xfrm>
                  <a:off x="7113600" y="19731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>
                  <a:off x="7113600" y="19731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118280" y="2001960"/>
                <a:ext cx="90720" cy="360"/>
                <a:chOff x="7118280" y="2001960"/>
                <a:chExt cx="90720" cy="360"/>
              </a:xfrm>
            </p:grpSpPr>
            <p:sp>
              <p:nvSpPr>
                <p:cNvPr id="307" name="Line 46"/>
                <p:cNvSpPr/>
                <p:nvPr/>
              </p:nvSpPr>
              <p:spPr>
                <a:xfrm>
                  <a:off x="7118280" y="2001960"/>
                  <a:ext cx="90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 txBox="1"/>
                <p:nvPr/>
              </p:nvSpPr>
              <p:spPr>
                <a:xfrm>
                  <a:off x="7118280" y="2001960"/>
                  <a:ext cx="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118280" y="2028960"/>
                <a:ext cx="90720" cy="360"/>
                <a:chOff x="7118280" y="2028960"/>
                <a:chExt cx="90720" cy="360"/>
              </a:xfrm>
            </p:grpSpPr>
            <p:sp>
              <p:nvSpPr>
                <p:cNvPr id="310" name="Line 47"/>
                <p:cNvSpPr/>
                <p:nvPr/>
              </p:nvSpPr>
              <p:spPr>
                <a:xfrm>
                  <a:off x="7118280" y="2028960"/>
                  <a:ext cx="90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 txBox="1"/>
                <p:nvPr/>
              </p:nvSpPr>
              <p:spPr>
                <a:xfrm>
                  <a:off x="7118280" y="2028960"/>
                  <a:ext cx="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7121520" y="2494080"/>
                <a:ext cx="92160" cy="360"/>
                <a:chOff x="7121520" y="2494080"/>
                <a:chExt cx="92160" cy="360"/>
              </a:xfrm>
            </p:grpSpPr>
            <p:sp>
              <p:nvSpPr>
                <p:cNvPr id="313" name="Line 48"/>
                <p:cNvSpPr/>
                <p:nvPr/>
              </p:nvSpPr>
              <p:spPr>
                <a:xfrm>
                  <a:off x="7121520" y="249408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>
                  <a:off x="7121520" y="249408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118280" y="2054160"/>
                <a:ext cx="92160" cy="360"/>
                <a:chOff x="7118280" y="2054160"/>
                <a:chExt cx="92160" cy="360"/>
              </a:xfrm>
            </p:grpSpPr>
            <p:sp>
              <p:nvSpPr>
                <p:cNvPr id="316" name="Line 49"/>
                <p:cNvSpPr/>
                <p:nvPr/>
              </p:nvSpPr>
              <p:spPr>
                <a:xfrm>
                  <a:off x="7118280" y="20541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>
                  <a:off x="7118280" y="20541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113600" y="2540160"/>
                <a:ext cx="92160" cy="360"/>
                <a:chOff x="7113600" y="2540160"/>
                <a:chExt cx="92160" cy="360"/>
              </a:xfrm>
            </p:grpSpPr>
            <p:sp>
              <p:nvSpPr>
                <p:cNvPr id="319" name="Line 50"/>
                <p:cNvSpPr/>
                <p:nvPr/>
              </p:nvSpPr>
              <p:spPr>
                <a:xfrm>
                  <a:off x="7113600" y="25401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>
                  <a:off x="7113600" y="25401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118280" y="2232000"/>
                <a:ext cx="92160" cy="360"/>
                <a:chOff x="7118280" y="2232000"/>
                <a:chExt cx="92160" cy="360"/>
              </a:xfrm>
            </p:grpSpPr>
            <p:sp>
              <p:nvSpPr>
                <p:cNvPr id="322" name="Line 51"/>
                <p:cNvSpPr/>
                <p:nvPr/>
              </p:nvSpPr>
              <p:spPr>
                <a:xfrm>
                  <a:off x="7118280" y="22320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7118280" y="22320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7121520" y="2563920"/>
                <a:ext cx="92160" cy="360"/>
                <a:chOff x="7121520" y="2563920"/>
                <a:chExt cx="92160" cy="360"/>
              </a:xfrm>
            </p:grpSpPr>
            <p:sp>
              <p:nvSpPr>
                <p:cNvPr id="325" name="Line 52"/>
                <p:cNvSpPr/>
                <p:nvPr/>
              </p:nvSpPr>
              <p:spPr>
                <a:xfrm>
                  <a:off x="7121520" y="256392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 txBox="1"/>
                <p:nvPr/>
              </p:nvSpPr>
              <p:spPr>
                <a:xfrm>
                  <a:off x="7121520" y="256392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113600" y="2260800"/>
                <a:ext cx="92160" cy="360"/>
                <a:chOff x="7113600" y="2260800"/>
                <a:chExt cx="92160" cy="360"/>
              </a:xfrm>
            </p:grpSpPr>
            <p:sp>
              <p:nvSpPr>
                <p:cNvPr id="328" name="Line 53"/>
                <p:cNvSpPr/>
                <p:nvPr/>
              </p:nvSpPr>
              <p:spPr>
                <a:xfrm>
                  <a:off x="7113600" y="22608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7113600" y="22608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118280" y="2287800"/>
                <a:ext cx="92160" cy="360"/>
                <a:chOff x="7118280" y="2287800"/>
                <a:chExt cx="92160" cy="360"/>
              </a:xfrm>
            </p:grpSpPr>
            <p:sp>
              <p:nvSpPr>
                <p:cNvPr id="331" name="Line 54"/>
                <p:cNvSpPr/>
                <p:nvPr/>
              </p:nvSpPr>
              <p:spPr>
                <a:xfrm>
                  <a:off x="7118280" y="22878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 txBox="1"/>
                <p:nvPr/>
              </p:nvSpPr>
              <p:spPr>
                <a:xfrm>
                  <a:off x="7118280" y="22878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118280" y="2313000"/>
                <a:ext cx="92160" cy="360"/>
                <a:chOff x="7118280" y="2313000"/>
                <a:chExt cx="92160" cy="360"/>
              </a:xfrm>
            </p:grpSpPr>
            <p:sp>
              <p:nvSpPr>
                <p:cNvPr id="334" name="Line 55"/>
                <p:cNvSpPr/>
                <p:nvPr/>
              </p:nvSpPr>
              <p:spPr>
                <a:xfrm>
                  <a:off x="7118280" y="23130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>
                  <a:off x="7118280" y="23130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145280" y="2255760"/>
                <a:ext cx="360" cy="360"/>
                <a:chOff x="7145280" y="2255760"/>
                <a:chExt cx="360" cy="360"/>
              </a:xfrm>
            </p:grpSpPr>
            <p:sp>
              <p:nvSpPr>
                <p:cNvPr id="337" name="Line 56"/>
                <p:cNvSpPr/>
                <p:nvPr/>
              </p:nvSpPr>
              <p:spPr>
                <a:xfrm>
                  <a:off x="7145280" y="2255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 txBox="1"/>
                <p:nvPr/>
              </p:nvSpPr>
              <p:spPr>
                <a:xfrm>
                  <a:off x="7145280" y="2255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113600" y="2390760"/>
                <a:ext cx="92160" cy="360"/>
                <a:chOff x="7113600" y="2390760"/>
                <a:chExt cx="92160" cy="360"/>
              </a:xfrm>
            </p:grpSpPr>
            <p:sp>
              <p:nvSpPr>
                <p:cNvPr id="340" name="Line 57"/>
                <p:cNvSpPr/>
                <p:nvPr/>
              </p:nvSpPr>
              <p:spPr>
                <a:xfrm>
                  <a:off x="7113600" y="23907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 txBox="1"/>
                <p:nvPr/>
              </p:nvSpPr>
              <p:spPr>
                <a:xfrm>
                  <a:off x="7113600" y="23907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121520" y="2365560"/>
                <a:ext cx="92160" cy="360"/>
                <a:chOff x="7121520" y="2365560"/>
                <a:chExt cx="92160" cy="360"/>
              </a:xfrm>
            </p:grpSpPr>
            <p:sp>
              <p:nvSpPr>
                <p:cNvPr id="343" name="Line 58"/>
                <p:cNvSpPr/>
                <p:nvPr/>
              </p:nvSpPr>
              <p:spPr>
                <a:xfrm>
                  <a:off x="7121520" y="23655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7121520" y="23655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118280" y="2416320"/>
                <a:ext cx="92160" cy="360"/>
                <a:chOff x="7118280" y="2416320"/>
                <a:chExt cx="92160" cy="360"/>
              </a:xfrm>
            </p:grpSpPr>
            <p:sp>
              <p:nvSpPr>
                <p:cNvPr id="346" name="Line 59"/>
                <p:cNvSpPr/>
                <p:nvPr/>
              </p:nvSpPr>
              <p:spPr>
                <a:xfrm>
                  <a:off x="7118280" y="241632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 txBox="1"/>
                <p:nvPr/>
              </p:nvSpPr>
              <p:spPr>
                <a:xfrm>
                  <a:off x="7118280" y="241632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7118280" y="2444760"/>
                <a:ext cx="92160" cy="360"/>
                <a:chOff x="7118280" y="2444760"/>
                <a:chExt cx="92160" cy="360"/>
              </a:xfrm>
            </p:grpSpPr>
            <p:sp>
              <p:nvSpPr>
                <p:cNvPr id="349" name="Line 60"/>
                <p:cNvSpPr/>
                <p:nvPr/>
              </p:nvSpPr>
              <p:spPr>
                <a:xfrm>
                  <a:off x="7118280" y="24447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 txBox="1"/>
                <p:nvPr/>
              </p:nvSpPr>
              <p:spPr>
                <a:xfrm>
                  <a:off x="7118280" y="24447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7118280" y="2444760"/>
                <a:ext cx="92160" cy="360"/>
                <a:chOff x="7118280" y="2444760"/>
                <a:chExt cx="92160" cy="360"/>
              </a:xfrm>
            </p:grpSpPr>
            <p:sp>
              <p:nvSpPr>
                <p:cNvPr id="352" name="Line 61"/>
                <p:cNvSpPr/>
                <p:nvPr/>
              </p:nvSpPr>
              <p:spPr>
                <a:xfrm>
                  <a:off x="7118280" y="24447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 txBox="1"/>
                <p:nvPr/>
              </p:nvSpPr>
              <p:spPr>
                <a:xfrm>
                  <a:off x="7118280" y="24447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118280" y="2517840"/>
                <a:ext cx="92160" cy="360"/>
                <a:chOff x="7118280" y="2517840"/>
                <a:chExt cx="92160" cy="360"/>
              </a:xfrm>
            </p:grpSpPr>
            <p:sp>
              <p:nvSpPr>
                <p:cNvPr id="355" name="Line 62"/>
                <p:cNvSpPr/>
                <p:nvPr/>
              </p:nvSpPr>
              <p:spPr>
                <a:xfrm>
                  <a:off x="7118280" y="251784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 txBox="1"/>
                <p:nvPr/>
              </p:nvSpPr>
              <p:spPr>
                <a:xfrm>
                  <a:off x="7118280" y="251784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7126200" y="2178000"/>
                <a:ext cx="92160" cy="360"/>
                <a:chOff x="7126200" y="2178000"/>
                <a:chExt cx="92160" cy="360"/>
              </a:xfrm>
            </p:grpSpPr>
            <p:sp>
              <p:nvSpPr>
                <p:cNvPr id="358" name="Line 63"/>
                <p:cNvSpPr/>
                <p:nvPr/>
              </p:nvSpPr>
              <p:spPr>
                <a:xfrm>
                  <a:off x="7126200" y="21780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>
                  <a:off x="7126200" y="21780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121520" y="2146320"/>
                <a:ext cx="92160" cy="360"/>
                <a:chOff x="7121520" y="2146320"/>
                <a:chExt cx="92160" cy="360"/>
              </a:xfrm>
            </p:grpSpPr>
            <p:sp>
              <p:nvSpPr>
                <p:cNvPr id="361" name="Line 64"/>
                <p:cNvSpPr/>
                <p:nvPr/>
              </p:nvSpPr>
              <p:spPr>
                <a:xfrm>
                  <a:off x="7121520" y="214632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 txBox="1"/>
                <p:nvPr/>
              </p:nvSpPr>
              <p:spPr>
                <a:xfrm>
                  <a:off x="7121520" y="214632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121520" y="2120760"/>
                <a:ext cx="92160" cy="360"/>
                <a:chOff x="7121520" y="2120760"/>
                <a:chExt cx="92160" cy="360"/>
              </a:xfrm>
            </p:grpSpPr>
            <p:sp>
              <p:nvSpPr>
                <p:cNvPr id="364" name="Line 65"/>
                <p:cNvSpPr/>
                <p:nvPr/>
              </p:nvSpPr>
              <p:spPr>
                <a:xfrm>
                  <a:off x="7121520" y="21207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 txBox="1"/>
                <p:nvPr/>
              </p:nvSpPr>
              <p:spPr>
                <a:xfrm>
                  <a:off x="7121520" y="21207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121520" y="2097000"/>
                <a:ext cx="92160" cy="360"/>
                <a:chOff x="7121520" y="2097000"/>
                <a:chExt cx="92160" cy="360"/>
              </a:xfrm>
            </p:grpSpPr>
            <p:sp>
              <p:nvSpPr>
                <p:cNvPr id="367" name="Line 66"/>
                <p:cNvSpPr/>
                <p:nvPr/>
              </p:nvSpPr>
              <p:spPr>
                <a:xfrm>
                  <a:off x="7121520" y="20970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 txBox="1"/>
                <p:nvPr/>
              </p:nvSpPr>
              <p:spPr>
                <a:xfrm>
                  <a:off x="7121520" y="20970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67"/>
              <p:cNvSpPr/>
              <p:nvPr/>
            </p:nvSpPr>
            <p:spPr>
              <a:xfrm>
                <a:off x="7149960" y="1933560"/>
                <a:ext cx="24120" cy="68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68"/>
              <p:cNvSpPr/>
              <p:nvPr/>
            </p:nvSpPr>
            <p:spPr>
              <a:xfrm>
                <a:off x="7113600" y="1763640"/>
                <a:ext cx="10332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166160" y="2684520"/>
                <a:ext cx="360" cy="135000"/>
                <a:chOff x="7166160" y="2684520"/>
                <a:chExt cx="360" cy="135000"/>
              </a:xfrm>
            </p:grpSpPr>
            <p:sp>
              <p:nvSpPr>
                <p:cNvPr id="372" name="Line 69"/>
                <p:cNvSpPr/>
                <p:nvPr/>
              </p:nvSpPr>
              <p:spPr>
                <a:xfrm>
                  <a:off x="7166160" y="2684520"/>
                  <a:ext cx="0" cy="13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7166160" y="2684520"/>
                  <a:ext cx="360" cy="1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Oval 70"/>
              <p:cNvSpPr/>
              <p:nvPr/>
            </p:nvSpPr>
            <p:spPr>
              <a:xfrm>
                <a:off x="7134120" y="2813040"/>
                <a:ext cx="66960" cy="4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1"/>
              <p:cNvSpPr/>
              <p:nvPr/>
            </p:nvSpPr>
            <p:spPr>
              <a:xfrm>
                <a:off x="7097760" y="2798640"/>
                <a:ext cx="6840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72"/>
              <p:cNvSpPr/>
              <p:nvPr/>
            </p:nvSpPr>
            <p:spPr>
              <a:xfrm>
                <a:off x="7085160" y="2405160"/>
                <a:ext cx="152280" cy="2520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73"/>
              <p:cNvSpPr/>
              <p:nvPr/>
            </p:nvSpPr>
            <p:spPr>
              <a:xfrm>
                <a:off x="7137360" y="1781280"/>
                <a:ext cx="60480" cy="5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4"/>
              <p:cNvSpPr/>
              <p:nvPr/>
            </p:nvSpPr>
            <p:spPr>
              <a:xfrm>
                <a:off x="7153200" y="1855800"/>
                <a:ext cx="23760" cy="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149"/>
          <p:cNvGrpSpPr/>
          <p:nvPr/>
        </p:nvGrpSpPr>
        <p:grpSpPr>
          <a:xfrm>
            <a:off x="8217000" y="1719360"/>
            <a:ext cx="366480" cy="2041560"/>
            <a:chOff x="8217000" y="1719360"/>
            <a:chExt cx="366480" cy="2041560"/>
          </a:xfrm>
        </p:grpSpPr>
        <p:grpSp>
          <p:nvGrpSpPr>
            <p:cNvPr id="380" name=""/>
            <p:cNvGrpSpPr/>
            <p:nvPr/>
          </p:nvGrpSpPr>
          <p:grpSpPr>
            <a:xfrm>
              <a:off x="8389440" y="2798280"/>
              <a:ext cx="360" cy="576360"/>
              <a:chOff x="8389440" y="2798280"/>
              <a:chExt cx="360" cy="576360"/>
            </a:xfrm>
          </p:grpSpPr>
          <p:sp>
            <p:nvSpPr>
              <p:cNvPr id="381" name="Line 30"/>
              <p:cNvSpPr/>
              <p:nvPr/>
            </p:nvSpPr>
            <p:spPr>
              <a:xfrm flipV="1">
                <a:off x="8389800" y="279828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 rot="10800000">
                <a:off x="8389440" y="2798280"/>
                <a:ext cx="3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144"/>
            <p:cNvGrpSpPr/>
            <p:nvPr/>
          </p:nvGrpSpPr>
          <p:grpSpPr>
            <a:xfrm>
              <a:off x="8217000" y="1719360"/>
              <a:ext cx="366480" cy="2041560"/>
              <a:chOff x="8217000" y="1719360"/>
              <a:chExt cx="366480" cy="2041560"/>
            </a:xfrm>
          </p:grpSpPr>
          <p:sp>
            <p:nvSpPr>
              <p:cNvPr id="384" name="Oval 10"/>
              <p:cNvSpPr/>
              <p:nvPr/>
            </p:nvSpPr>
            <p:spPr>
              <a:xfrm>
                <a:off x="8217000" y="3384720"/>
                <a:ext cx="366480" cy="37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Group 75"/>
              <p:cNvGrpSpPr/>
              <p:nvPr/>
            </p:nvGrpSpPr>
            <p:grpSpPr>
              <a:xfrm>
                <a:off x="8307360" y="1719360"/>
                <a:ext cx="223920" cy="1098360"/>
                <a:chOff x="8307360" y="1719360"/>
                <a:chExt cx="223920" cy="1098360"/>
              </a:xfrm>
            </p:grpSpPr>
            <p:grpSp>
              <p:nvGrpSpPr>
                <p:cNvPr id="386" name="Group 76"/>
                <p:cNvGrpSpPr/>
                <p:nvPr/>
              </p:nvGrpSpPr>
              <p:grpSpPr>
                <a:xfrm>
                  <a:off x="8307360" y="1820160"/>
                  <a:ext cx="223920" cy="818640"/>
                  <a:chOff x="8307360" y="1820160"/>
                  <a:chExt cx="223920" cy="818640"/>
                </a:xfrm>
              </p:grpSpPr>
              <p:sp>
                <p:nvSpPr>
                  <p:cNvPr id="387" name="Rectangle 77"/>
                  <p:cNvSpPr/>
                  <p:nvPr/>
                </p:nvSpPr>
                <p:spPr>
                  <a:xfrm rot="16200000">
                    <a:off x="8048880" y="2113920"/>
                    <a:ext cx="740880" cy="223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78"/>
                  <p:cNvSpPr/>
                  <p:nvPr/>
                </p:nvSpPr>
                <p:spPr>
                  <a:xfrm rot="16200000">
                    <a:off x="8376480" y="1802520"/>
                    <a:ext cx="84960" cy="11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79"/>
                  <p:cNvSpPr/>
                  <p:nvPr/>
                </p:nvSpPr>
                <p:spPr>
                  <a:xfrm rot="16200000">
                    <a:off x="8380800" y="2536200"/>
                    <a:ext cx="84960" cy="11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Rectangle 80"/>
                  <p:cNvSpPr/>
                  <p:nvPr/>
                </p:nvSpPr>
                <p:spPr>
                  <a:xfrm rot="16200000">
                    <a:off x="8389080" y="1804320"/>
                    <a:ext cx="6372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Rectangle 81"/>
                  <p:cNvSpPr/>
                  <p:nvPr/>
                </p:nvSpPr>
                <p:spPr>
                  <a:xfrm rot="16200000">
                    <a:off x="8381520" y="2474280"/>
                    <a:ext cx="6372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8399520" y="2539440"/>
                    <a:ext cx="360" cy="3240"/>
                    <a:chOff x="8399520" y="2539440"/>
                    <a:chExt cx="360" cy="3240"/>
                  </a:xfrm>
                </p:grpSpPr>
                <p:sp>
                  <p:nvSpPr>
                    <p:cNvPr id="393" name="Line 82"/>
                    <p:cNvSpPr/>
                    <p:nvPr/>
                  </p:nvSpPr>
                  <p:spPr>
                    <a:xfrm flipV="1">
                      <a:off x="8399520" y="2539440"/>
                      <a:ext cx="0" cy="3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 txBox="1"/>
                    <p:nvPr/>
                  </p:nvSpPr>
                  <p:spPr>
                    <a:xfrm rot="16200000">
                      <a:off x="8398080" y="2540880"/>
                      <a:ext cx="32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8345160" y="1900080"/>
                  <a:ext cx="131760" cy="360"/>
                  <a:chOff x="8345160" y="1900080"/>
                  <a:chExt cx="131760" cy="360"/>
                </a:xfrm>
              </p:grpSpPr>
              <p:sp>
                <p:nvSpPr>
                  <p:cNvPr id="396" name="Line 83"/>
                  <p:cNvSpPr/>
                  <p:nvPr/>
                </p:nvSpPr>
                <p:spPr>
                  <a:xfrm>
                    <a:off x="8345160" y="190008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 txBox="1"/>
                  <p:nvPr/>
                </p:nvSpPr>
                <p:spPr>
                  <a:xfrm>
                    <a:off x="8345160" y="190008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8345160" y="2158560"/>
                  <a:ext cx="131760" cy="360"/>
                  <a:chOff x="8345160" y="2158560"/>
                  <a:chExt cx="131760" cy="360"/>
                </a:xfrm>
              </p:grpSpPr>
              <p:sp>
                <p:nvSpPr>
                  <p:cNvPr id="399" name="Line 84"/>
                  <p:cNvSpPr/>
                  <p:nvPr/>
                </p:nvSpPr>
                <p:spPr>
                  <a:xfrm>
                    <a:off x="8345160" y="215856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 txBox="1"/>
                  <p:nvPr/>
                </p:nvSpPr>
                <p:spPr>
                  <a:xfrm>
                    <a:off x="8345160" y="215856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8349120" y="2296800"/>
                  <a:ext cx="131760" cy="360"/>
                  <a:chOff x="8349120" y="2296800"/>
                  <a:chExt cx="131760" cy="360"/>
                </a:xfrm>
              </p:grpSpPr>
              <p:sp>
                <p:nvSpPr>
                  <p:cNvPr id="402" name="Line 85"/>
                  <p:cNvSpPr/>
                  <p:nvPr/>
                </p:nvSpPr>
                <p:spPr>
                  <a:xfrm>
                    <a:off x="8349120" y="229680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 txBox="1"/>
                  <p:nvPr/>
                </p:nvSpPr>
                <p:spPr>
                  <a:xfrm>
                    <a:off x="8349120" y="229680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8349120" y="2424600"/>
                  <a:ext cx="131760" cy="360"/>
                  <a:chOff x="8349120" y="2424600"/>
                  <a:chExt cx="131760" cy="360"/>
                </a:xfrm>
              </p:grpSpPr>
              <p:sp>
                <p:nvSpPr>
                  <p:cNvPr id="405" name="Line 86"/>
                  <p:cNvSpPr/>
                  <p:nvPr/>
                </p:nvSpPr>
                <p:spPr>
                  <a:xfrm>
                    <a:off x="8349120" y="242460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 txBox="1"/>
                  <p:nvPr/>
                </p:nvSpPr>
                <p:spPr>
                  <a:xfrm>
                    <a:off x="8349120" y="242460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8345160" y="2541600"/>
                  <a:ext cx="131760" cy="360"/>
                  <a:chOff x="8345160" y="2541600"/>
                  <a:chExt cx="131760" cy="360"/>
                </a:xfrm>
              </p:grpSpPr>
              <p:sp>
                <p:nvSpPr>
                  <p:cNvPr id="408" name="Line 87"/>
                  <p:cNvSpPr/>
                  <p:nvPr/>
                </p:nvSpPr>
                <p:spPr>
                  <a:xfrm>
                    <a:off x="8345160" y="254160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 txBox="1"/>
                  <p:nvPr/>
                </p:nvSpPr>
                <p:spPr>
                  <a:xfrm>
                    <a:off x="8345160" y="254160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8349120" y="2031120"/>
                  <a:ext cx="131760" cy="360"/>
                  <a:chOff x="8349120" y="2031120"/>
                  <a:chExt cx="131760" cy="360"/>
                </a:xfrm>
              </p:grpSpPr>
              <p:sp>
                <p:nvSpPr>
                  <p:cNvPr id="411" name="Line 88"/>
                  <p:cNvSpPr/>
                  <p:nvPr/>
                </p:nvSpPr>
                <p:spPr>
                  <a:xfrm>
                    <a:off x="8349120" y="203112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 txBox="1"/>
                  <p:nvPr/>
                </p:nvSpPr>
                <p:spPr>
                  <a:xfrm>
                    <a:off x="8349120" y="203112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8361360" y="1928160"/>
                  <a:ext cx="91800" cy="360"/>
                  <a:chOff x="8361360" y="1928160"/>
                  <a:chExt cx="91800" cy="360"/>
                </a:xfrm>
              </p:grpSpPr>
              <p:sp>
                <p:nvSpPr>
                  <p:cNvPr id="414" name="Line 89"/>
                  <p:cNvSpPr/>
                  <p:nvPr/>
                </p:nvSpPr>
                <p:spPr>
                  <a:xfrm>
                    <a:off x="8361360" y="19281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 txBox="1"/>
                  <p:nvPr/>
                </p:nvSpPr>
                <p:spPr>
                  <a:xfrm>
                    <a:off x="8361360" y="19281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8365320" y="1956600"/>
                  <a:ext cx="91800" cy="360"/>
                  <a:chOff x="8365320" y="1956600"/>
                  <a:chExt cx="91800" cy="360"/>
                </a:xfrm>
              </p:grpSpPr>
              <p:sp>
                <p:nvSpPr>
                  <p:cNvPr id="417" name="Line 90"/>
                  <p:cNvSpPr/>
                  <p:nvPr/>
                </p:nvSpPr>
                <p:spPr>
                  <a:xfrm>
                    <a:off x="8365320" y="195660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 txBox="1"/>
                  <p:nvPr/>
                </p:nvSpPr>
                <p:spPr>
                  <a:xfrm>
                    <a:off x="8365320" y="195660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365320" y="1985040"/>
                  <a:ext cx="91800" cy="360"/>
                  <a:chOff x="8365320" y="1985040"/>
                  <a:chExt cx="91800" cy="360"/>
                </a:xfrm>
              </p:grpSpPr>
              <p:sp>
                <p:nvSpPr>
                  <p:cNvPr id="420" name="Line 91"/>
                  <p:cNvSpPr/>
                  <p:nvPr/>
                </p:nvSpPr>
                <p:spPr>
                  <a:xfrm>
                    <a:off x="8365320" y="19850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 txBox="1"/>
                  <p:nvPr/>
                </p:nvSpPr>
                <p:spPr>
                  <a:xfrm>
                    <a:off x="8365320" y="19850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370000" y="2449440"/>
                  <a:ext cx="91800" cy="360"/>
                  <a:chOff x="8370000" y="2449440"/>
                  <a:chExt cx="91800" cy="360"/>
                </a:xfrm>
              </p:grpSpPr>
              <p:sp>
                <p:nvSpPr>
                  <p:cNvPr id="423" name="Line 92"/>
                  <p:cNvSpPr/>
                  <p:nvPr/>
                </p:nvSpPr>
                <p:spPr>
                  <a:xfrm>
                    <a:off x="8370000" y="24494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 txBox="1"/>
                  <p:nvPr/>
                </p:nvSpPr>
                <p:spPr>
                  <a:xfrm>
                    <a:off x="8370000" y="24494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8366040" y="2009880"/>
                  <a:ext cx="91800" cy="360"/>
                  <a:chOff x="8366040" y="2009880"/>
                  <a:chExt cx="91800" cy="360"/>
                </a:xfrm>
              </p:grpSpPr>
              <p:sp>
                <p:nvSpPr>
                  <p:cNvPr id="426" name="Line 93"/>
                  <p:cNvSpPr/>
                  <p:nvPr/>
                </p:nvSpPr>
                <p:spPr>
                  <a:xfrm>
                    <a:off x="8366040" y="200988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 txBox="1"/>
                  <p:nvPr/>
                </p:nvSpPr>
                <p:spPr>
                  <a:xfrm>
                    <a:off x="8366040" y="200988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8362080" y="2495520"/>
                  <a:ext cx="91800" cy="360"/>
                  <a:chOff x="8362080" y="2495520"/>
                  <a:chExt cx="91800" cy="360"/>
                </a:xfrm>
              </p:grpSpPr>
              <p:sp>
                <p:nvSpPr>
                  <p:cNvPr id="429" name="Line 94"/>
                  <p:cNvSpPr/>
                  <p:nvPr/>
                </p:nvSpPr>
                <p:spPr>
                  <a:xfrm>
                    <a:off x="8362080" y="24955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 txBox="1"/>
                  <p:nvPr/>
                </p:nvSpPr>
                <p:spPr>
                  <a:xfrm>
                    <a:off x="8362080" y="249552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8366040" y="2187000"/>
                  <a:ext cx="91800" cy="360"/>
                  <a:chOff x="8366040" y="2187000"/>
                  <a:chExt cx="91800" cy="360"/>
                </a:xfrm>
              </p:grpSpPr>
              <p:sp>
                <p:nvSpPr>
                  <p:cNvPr id="432" name="Line 95"/>
                  <p:cNvSpPr/>
                  <p:nvPr/>
                </p:nvSpPr>
                <p:spPr>
                  <a:xfrm>
                    <a:off x="8366040" y="218700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 txBox="1"/>
                  <p:nvPr/>
                </p:nvSpPr>
                <p:spPr>
                  <a:xfrm>
                    <a:off x="8366040" y="218700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8370000" y="2520000"/>
                  <a:ext cx="91800" cy="360"/>
                  <a:chOff x="8370000" y="2520000"/>
                  <a:chExt cx="91800" cy="360"/>
                </a:xfrm>
              </p:grpSpPr>
              <p:sp>
                <p:nvSpPr>
                  <p:cNvPr id="435" name="Line 96"/>
                  <p:cNvSpPr/>
                  <p:nvPr/>
                </p:nvSpPr>
                <p:spPr>
                  <a:xfrm>
                    <a:off x="8370000" y="252000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 txBox="1"/>
                  <p:nvPr/>
                </p:nvSpPr>
                <p:spPr>
                  <a:xfrm>
                    <a:off x="8370000" y="252000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8362080" y="2215440"/>
                  <a:ext cx="91800" cy="360"/>
                  <a:chOff x="8362080" y="2215440"/>
                  <a:chExt cx="91800" cy="360"/>
                </a:xfrm>
              </p:grpSpPr>
              <p:sp>
                <p:nvSpPr>
                  <p:cNvPr id="438" name="Line 97"/>
                  <p:cNvSpPr/>
                  <p:nvPr/>
                </p:nvSpPr>
                <p:spPr>
                  <a:xfrm>
                    <a:off x="8362080" y="22154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 txBox="1"/>
                  <p:nvPr/>
                </p:nvSpPr>
                <p:spPr>
                  <a:xfrm>
                    <a:off x="8362080" y="22154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8366040" y="2243880"/>
                  <a:ext cx="91800" cy="360"/>
                  <a:chOff x="8366040" y="2243880"/>
                  <a:chExt cx="91800" cy="360"/>
                </a:xfrm>
              </p:grpSpPr>
              <p:sp>
                <p:nvSpPr>
                  <p:cNvPr id="441" name="Line 98"/>
                  <p:cNvSpPr/>
                  <p:nvPr/>
                </p:nvSpPr>
                <p:spPr>
                  <a:xfrm>
                    <a:off x="8366040" y="224388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 txBox="1"/>
                  <p:nvPr/>
                </p:nvSpPr>
                <p:spPr>
                  <a:xfrm>
                    <a:off x="8366040" y="224388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8366040" y="2268360"/>
                  <a:ext cx="91800" cy="360"/>
                  <a:chOff x="8366040" y="2268360"/>
                  <a:chExt cx="91800" cy="360"/>
                </a:xfrm>
              </p:grpSpPr>
              <p:sp>
                <p:nvSpPr>
                  <p:cNvPr id="444" name="Line 99"/>
                  <p:cNvSpPr/>
                  <p:nvPr/>
                </p:nvSpPr>
                <p:spPr>
                  <a:xfrm>
                    <a:off x="8366040" y="22683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 txBox="1"/>
                  <p:nvPr/>
                </p:nvSpPr>
                <p:spPr>
                  <a:xfrm>
                    <a:off x="8366040" y="22683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8393400" y="2211840"/>
                  <a:ext cx="360" cy="360"/>
                  <a:chOff x="8393400" y="2211840"/>
                  <a:chExt cx="360" cy="360"/>
                </a:xfrm>
              </p:grpSpPr>
              <p:sp>
                <p:nvSpPr>
                  <p:cNvPr id="447" name="Line 100"/>
                  <p:cNvSpPr/>
                  <p:nvPr/>
                </p:nvSpPr>
                <p:spPr>
                  <a:xfrm>
                    <a:off x="8393400" y="22118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 txBox="1"/>
                  <p:nvPr/>
                </p:nvSpPr>
                <p:spPr>
                  <a:xfrm>
                    <a:off x="8393400" y="2211840"/>
                    <a:ext cx="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8362080" y="2346480"/>
                  <a:ext cx="91800" cy="360"/>
                  <a:chOff x="8362080" y="2346480"/>
                  <a:chExt cx="91800" cy="360"/>
                </a:xfrm>
              </p:grpSpPr>
              <p:sp>
                <p:nvSpPr>
                  <p:cNvPr id="450" name="Line 101"/>
                  <p:cNvSpPr/>
                  <p:nvPr/>
                </p:nvSpPr>
                <p:spPr>
                  <a:xfrm>
                    <a:off x="8362080" y="234648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 txBox="1"/>
                  <p:nvPr/>
                </p:nvSpPr>
                <p:spPr>
                  <a:xfrm>
                    <a:off x="8362080" y="234648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8370000" y="2321640"/>
                  <a:ext cx="91800" cy="360"/>
                  <a:chOff x="8370000" y="2321640"/>
                  <a:chExt cx="91800" cy="360"/>
                </a:xfrm>
              </p:grpSpPr>
              <p:sp>
                <p:nvSpPr>
                  <p:cNvPr id="453" name="Line 102"/>
                  <p:cNvSpPr/>
                  <p:nvPr/>
                </p:nvSpPr>
                <p:spPr>
                  <a:xfrm>
                    <a:off x="8370000" y="23216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 txBox="1"/>
                  <p:nvPr/>
                </p:nvSpPr>
                <p:spPr>
                  <a:xfrm>
                    <a:off x="8370000" y="23216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8366040" y="2371320"/>
                  <a:ext cx="91800" cy="360"/>
                  <a:chOff x="8366040" y="2371320"/>
                  <a:chExt cx="91800" cy="360"/>
                </a:xfrm>
              </p:grpSpPr>
              <p:sp>
                <p:nvSpPr>
                  <p:cNvPr id="456" name="Line 103"/>
                  <p:cNvSpPr/>
                  <p:nvPr/>
                </p:nvSpPr>
                <p:spPr>
                  <a:xfrm>
                    <a:off x="8366040" y="23713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 txBox="1"/>
                  <p:nvPr/>
                </p:nvSpPr>
                <p:spPr>
                  <a:xfrm>
                    <a:off x="8366040" y="237132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8366040" y="2399760"/>
                  <a:ext cx="91800" cy="360"/>
                  <a:chOff x="8366040" y="2399760"/>
                  <a:chExt cx="91800" cy="360"/>
                </a:xfrm>
              </p:grpSpPr>
              <p:sp>
                <p:nvSpPr>
                  <p:cNvPr id="459" name="Line 104"/>
                  <p:cNvSpPr/>
                  <p:nvPr/>
                </p:nvSpPr>
                <p:spPr>
                  <a:xfrm>
                    <a:off x="8366040" y="23997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 txBox="1"/>
                  <p:nvPr/>
                </p:nvSpPr>
                <p:spPr>
                  <a:xfrm>
                    <a:off x="8366040" y="23997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8366040" y="2399760"/>
                  <a:ext cx="91800" cy="360"/>
                  <a:chOff x="8366040" y="2399760"/>
                  <a:chExt cx="91800" cy="360"/>
                </a:xfrm>
              </p:grpSpPr>
              <p:sp>
                <p:nvSpPr>
                  <p:cNvPr id="462" name="Line 105"/>
                  <p:cNvSpPr/>
                  <p:nvPr/>
                </p:nvSpPr>
                <p:spPr>
                  <a:xfrm>
                    <a:off x="8366040" y="23997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 txBox="1"/>
                  <p:nvPr/>
                </p:nvSpPr>
                <p:spPr>
                  <a:xfrm>
                    <a:off x="8366040" y="23997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8366040" y="2473920"/>
                  <a:ext cx="91800" cy="360"/>
                  <a:chOff x="8366040" y="2473920"/>
                  <a:chExt cx="91800" cy="360"/>
                </a:xfrm>
              </p:grpSpPr>
              <p:sp>
                <p:nvSpPr>
                  <p:cNvPr id="465" name="Line 106"/>
                  <p:cNvSpPr/>
                  <p:nvPr/>
                </p:nvSpPr>
                <p:spPr>
                  <a:xfrm>
                    <a:off x="8366040" y="24739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 txBox="1"/>
                  <p:nvPr/>
                </p:nvSpPr>
                <p:spPr>
                  <a:xfrm>
                    <a:off x="8366040" y="247392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8373960" y="2133720"/>
                  <a:ext cx="91800" cy="360"/>
                  <a:chOff x="8373960" y="2133720"/>
                  <a:chExt cx="91800" cy="360"/>
                </a:xfrm>
              </p:grpSpPr>
              <p:sp>
                <p:nvSpPr>
                  <p:cNvPr id="468" name="Line 107"/>
                  <p:cNvSpPr/>
                  <p:nvPr/>
                </p:nvSpPr>
                <p:spPr>
                  <a:xfrm>
                    <a:off x="8373960" y="21337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 txBox="1"/>
                  <p:nvPr/>
                </p:nvSpPr>
                <p:spPr>
                  <a:xfrm>
                    <a:off x="8373960" y="213372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8370000" y="2102040"/>
                  <a:ext cx="91800" cy="360"/>
                  <a:chOff x="8370000" y="2102040"/>
                  <a:chExt cx="91800" cy="360"/>
                </a:xfrm>
              </p:grpSpPr>
              <p:sp>
                <p:nvSpPr>
                  <p:cNvPr id="471" name="Line 108"/>
                  <p:cNvSpPr/>
                  <p:nvPr/>
                </p:nvSpPr>
                <p:spPr>
                  <a:xfrm>
                    <a:off x="8370000" y="21020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 txBox="1"/>
                  <p:nvPr/>
                </p:nvSpPr>
                <p:spPr>
                  <a:xfrm>
                    <a:off x="8370000" y="21020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8370000" y="2077200"/>
                  <a:ext cx="91800" cy="360"/>
                  <a:chOff x="8370000" y="2077200"/>
                  <a:chExt cx="91800" cy="360"/>
                </a:xfrm>
              </p:grpSpPr>
              <p:sp>
                <p:nvSpPr>
                  <p:cNvPr id="474" name="Line 109"/>
                  <p:cNvSpPr/>
                  <p:nvPr/>
                </p:nvSpPr>
                <p:spPr>
                  <a:xfrm>
                    <a:off x="8370000" y="207720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 txBox="1"/>
                  <p:nvPr/>
                </p:nvSpPr>
                <p:spPr>
                  <a:xfrm>
                    <a:off x="8370000" y="207720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8370000" y="2052360"/>
                  <a:ext cx="91800" cy="360"/>
                  <a:chOff x="8370000" y="2052360"/>
                  <a:chExt cx="91800" cy="360"/>
                </a:xfrm>
              </p:grpSpPr>
              <p:sp>
                <p:nvSpPr>
                  <p:cNvPr id="477" name="Line 110"/>
                  <p:cNvSpPr/>
                  <p:nvPr/>
                </p:nvSpPr>
                <p:spPr>
                  <a:xfrm>
                    <a:off x="8370000" y="20523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 txBox="1"/>
                  <p:nvPr/>
                </p:nvSpPr>
                <p:spPr>
                  <a:xfrm>
                    <a:off x="8370000" y="20523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9" name="Rectangle 111"/>
                <p:cNvSpPr/>
                <p:nvPr/>
              </p:nvSpPr>
              <p:spPr>
                <a:xfrm>
                  <a:off x="8397360" y="1889280"/>
                  <a:ext cx="23760" cy="680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12"/>
                <p:cNvSpPr/>
                <p:nvPr/>
              </p:nvSpPr>
              <p:spPr>
                <a:xfrm>
                  <a:off x="8361360" y="1719360"/>
                  <a:ext cx="104040" cy="91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8413200" y="2640600"/>
                  <a:ext cx="360" cy="134280"/>
                  <a:chOff x="8413200" y="2640600"/>
                  <a:chExt cx="360" cy="134280"/>
                </a:xfrm>
              </p:grpSpPr>
              <p:sp>
                <p:nvSpPr>
                  <p:cNvPr id="482" name="Line 113"/>
                  <p:cNvSpPr/>
                  <p:nvPr/>
                </p:nvSpPr>
                <p:spPr>
                  <a:xfrm>
                    <a:off x="8413200" y="2640600"/>
                    <a:ext cx="0" cy="13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 txBox="1"/>
                  <p:nvPr/>
                </p:nvSpPr>
                <p:spPr>
                  <a:xfrm>
                    <a:off x="8413200" y="2640600"/>
                    <a:ext cx="360" cy="13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Oval 114"/>
                <p:cNvSpPr/>
                <p:nvPr/>
              </p:nvSpPr>
              <p:spPr>
                <a:xfrm>
                  <a:off x="8381160" y="2768400"/>
                  <a:ext cx="68040" cy="49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115"/>
                <p:cNvSpPr/>
                <p:nvPr/>
              </p:nvSpPr>
              <p:spPr>
                <a:xfrm>
                  <a:off x="8345160" y="2754000"/>
                  <a:ext cx="68040" cy="56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AutoShape 116"/>
                <p:cNvSpPr/>
                <p:nvPr/>
              </p:nvSpPr>
              <p:spPr>
                <a:xfrm>
                  <a:off x="8333280" y="2360520"/>
                  <a:ext cx="151920" cy="2484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17"/>
                <p:cNvSpPr/>
                <p:nvPr/>
              </p:nvSpPr>
              <p:spPr>
                <a:xfrm>
                  <a:off x="8385120" y="1737000"/>
                  <a:ext cx="59760" cy="56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Rectangle 118"/>
                <p:cNvSpPr/>
                <p:nvPr/>
              </p:nvSpPr>
              <p:spPr>
                <a:xfrm>
                  <a:off x="8401320" y="1811160"/>
                  <a:ext cx="23760" cy="6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9" name="Group 150"/>
          <p:cNvGrpSpPr/>
          <p:nvPr/>
        </p:nvGrpSpPr>
        <p:grpSpPr>
          <a:xfrm>
            <a:off x="8172360" y="2484360"/>
            <a:ext cx="971640" cy="2252880"/>
            <a:chOff x="8172360" y="2484360"/>
            <a:chExt cx="971640" cy="2252880"/>
          </a:xfrm>
        </p:grpSpPr>
        <p:grpSp>
          <p:nvGrpSpPr>
            <p:cNvPr id="490" name=""/>
            <p:cNvGrpSpPr/>
            <p:nvPr/>
          </p:nvGrpSpPr>
          <p:grpSpPr>
            <a:xfrm>
              <a:off x="8408880" y="3564000"/>
              <a:ext cx="360" cy="765000"/>
              <a:chOff x="8408880" y="3564000"/>
              <a:chExt cx="360" cy="765000"/>
            </a:xfrm>
          </p:grpSpPr>
          <p:sp>
            <p:nvSpPr>
              <p:cNvPr id="491" name="Line 128"/>
              <p:cNvSpPr/>
              <p:nvPr/>
            </p:nvSpPr>
            <p:spPr>
              <a:xfrm>
                <a:off x="8408880" y="3564000"/>
                <a:ext cx="0" cy="765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8408880" y="3564000"/>
                <a:ext cx="360" cy="76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Rectangle 129"/>
            <p:cNvSpPr/>
            <p:nvPr/>
          </p:nvSpPr>
          <p:spPr>
            <a:xfrm>
              <a:off x="8172360" y="4268880"/>
              <a:ext cx="67464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G</a:t>
              </a:r>
              <a:r>
                <a:rPr b="1" i="1" lang="zh-CN" sz="2400" spc="-1" strike="noStrike" baseline="-25000">
                  <a:solidFill>
                    <a:srgbClr val="000099"/>
                  </a:solidFill>
                  <a:latin typeface="Times New Roman"/>
                  <a:ea typeface="楷体"/>
                </a:rPr>
                <a:t>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97360" y="2843280"/>
              <a:ext cx="360" cy="674640"/>
              <a:chOff x="8397360" y="2843280"/>
              <a:chExt cx="360" cy="674640"/>
            </a:xfrm>
          </p:grpSpPr>
          <p:sp>
            <p:nvSpPr>
              <p:cNvPr id="495" name="Line 138"/>
              <p:cNvSpPr/>
              <p:nvPr/>
            </p:nvSpPr>
            <p:spPr>
              <a:xfrm flipV="1">
                <a:off x="8397720" y="2843280"/>
                <a:ext cx="0" cy="674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 rot="10800000">
                <a:off x="8397360" y="2843280"/>
                <a:ext cx="360" cy="67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Rectangle 139"/>
            <p:cNvSpPr/>
            <p:nvPr/>
          </p:nvSpPr>
          <p:spPr>
            <a:xfrm>
              <a:off x="8352000" y="2484360"/>
              <a:ext cx="6300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F</a:t>
              </a:r>
              <a:r>
                <a:rPr b="1" lang="zh-CN" sz="24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8397360" y="3249360"/>
              <a:ext cx="360" cy="314280"/>
              <a:chOff x="8397360" y="3249360"/>
              <a:chExt cx="360" cy="314280"/>
            </a:xfrm>
          </p:grpSpPr>
          <p:sp>
            <p:nvSpPr>
              <p:cNvPr id="499" name="Line 144"/>
              <p:cNvSpPr/>
              <p:nvPr/>
            </p:nvSpPr>
            <p:spPr>
              <a:xfrm flipV="1">
                <a:off x="8397720" y="3249360"/>
                <a:ext cx="0" cy="31428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 rot="10800000">
                <a:off x="8397360" y="3249360"/>
                <a:ext cx="360" cy="31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Rectangle 145"/>
            <p:cNvSpPr/>
            <p:nvPr/>
          </p:nvSpPr>
          <p:spPr>
            <a:xfrm>
              <a:off x="8352000" y="3203640"/>
              <a:ext cx="792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 </a:t>
              </a: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"/>
                </a:rPr>
                <a:t>F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Times New Roman"/>
                  <a:ea typeface="楷体"/>
                </a:rPr>
                <a:t>浮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47"/>
          <p:cNvGrpSpPr/>
          <p:nvPr/>
        </p:nvGrpSpPr>
        <p:grpSpPr>
          <a:xfrm>
            <a:off x="6912000" y="2664000"/>
            <a:ext cx="1081080" cy="1982520"/>
            <a:chOff x="6912000" y="2664000"/>
            <a:chExt cx="1081080" cy="1982520"/>
          </a:xfrm>
        </p:grpSpPr>
        <p:grpSp>
          <p:nvGrpSpPr>
            <p:cNvPr id="503" name=""/>
            <p:cNvGrpSpPr/>
            <p:nvPr/>
          </p:nvGrpSpPr>
          <p:grpSpPr>
            <a:xfrm>
              <a:off x="7137360" y="3492360"/>
              <a:ext cx="360" cy="765360"/>
              <a:chOff x="7137360" y="3492360"/>
              <a:chExt cx="360" cy="765360"/>
            </a:xfrm>
          </p:grpSpPr>
          <p:sp>
            <p:nvSpPr>
              <p:cNvPr id="504" name="Line 124"/>
              <p:cNvSpPr/>
              <p:nvPr/>
            </p:nvSpPr>
            <p:spPr>
              <a:xfrm>
                <a:off x="7137360" y="3492360"/>
                <a:ext cx="0" cy="765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7137360" y="3492360"/>
                <a:ext cx="360" cy="76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25"/>
            <p:cNvSpPr/>
            <p:nvPr/>
          </p:nvSpPr>
          <p:spPr>
            <a:xfrm>
              <a:off x="6912000" y="4178160"/>
              <a:ext cx="7207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G</a:t>
              </a:r>
              <a:r>
                <a:rPr b="1" lang="zh-CN" sz="2400" spc="-1" strike="noStrike" baseline="-25000">
                  <a:solidFill>
                    <a:srgbClr val="000099"/>
                  </a:solidFill>
                  <a:latin typeface="Times New Roman"/>
                  <a:ea typeface="楷体"/>
                </a:rPr>
                <a:t>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5"/>
            <p:cNvGrpSpPr/>
            <p:nvPr/>
          </p:nvGrpSpPr>
          <p:grpSpPr>
            <a:xfrm>
              <a:off x="7146360" y="2664000"/>
              <a:ext cx="437760" cy="808560"/>
              <a:chOff x="7146360" y="2664000"/>
              <a:chExt cx="437760" cy="80856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7146360" y="2798280"/>
                <a:ext cx="360" cy="674280"/>
                <a:chOff x="7146360" y="2798280"/>
                <a:chExt cx="360" cy="674280"/>
              </a:xfrm>
            </p:grpSpPr>
            <p:sp>
              <p:nvSpPr>
                <p:cNvPr id="509" name="Line 133"/>
                <p:cNvSpPr/>
                <p:nvPr/>
              </p:nvSpPr>
              <p:spPr>
                <a:xfrm flipV="1">
                  <a:off x="7146720" y="2798280"/>
                  <a:ext cx="0" cy="674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 txBox="1"/>
                <p:nvPr/>
              </p:nvSpPr>
              <p:spPr>
                <a:xfrm rot="10800000">
                  <a:off x="7146360" y="2798280"/>
                  <a:ext cx="36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Rectangle 134"/>
              <p:cNvSpPr/>
              <p:nvPr/>
            </p:nvSpPr>
            <p:spPr>
              <a:xfrm>
                <a:off x="7149600" y="2664000"/>
                <a:ext cx="43452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spAutoFit/>
              </a:bodyPr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  <a:ea typeface="楷体"/>
                  </a:rPr>
                  <a:t> </a:t>
                </a: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  <a:ea typeface="楷体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99"/>
                    </a:solidFill>
                    <a:latin typeface="Times New Roman"/>
                    <a:ea typeface="楷体"/>
                  </a:rPr>
                  <a:t>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Rectangle 132"/>
            <p:cNvSpPr/>
            <p:nvPr/>
          </p:nvSpPr>
          <p:spPr>
            <a:xfrm>
              <a:off x="7183440" y="3114720"/>
              <a:ext cx="8096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 </a:t>
              </a: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"/>
                </a:rPr>
                <a:t>F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Times New Roman"/>
                  <a:ea typeface="楷体"/>
                </a:rPr>
                <a:t>浮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137000" y="3158640"/>
              <a:ext cx="360" cy="314280"/>
              <a:chOff x="7137000" y="3158640"/>
              <a:chExt cx="360" cy="314280"/>
            </a:xfrm>
          </p:grpSpPr>
          <p:sp>
            <p:nvSpPr>
              <p:cNvPr id="514" name="Line 131"/>
              <p:cNvSpPr/>
              <p:nvPr/>
            </p:nvSpPr>
            <p:spPr>
              <a:xfrm flipV="1">
                <a:off x="7137360" y="3158640"/>
                <a:ext cx="0" cy="31428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 rot="10800000">
                <a:off x="7137000" y="3158640"/>
                <a:ext cx="360" cy="31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0880" y="6854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1062000" y="2214720"/>
            <a:ext cx="65628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．阿基米德原理的探究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．阿基米德原理的数学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．阿基米德原理的公式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111111"/>
                </a:solidFill>
                <a:latin typeface="宋体"/>
                <a:ea typeface="宋体"/>
              </a:rPr>
              <a:t>．利用阿基米德原理的分析与计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97"/>
          <p:cNvGrpSpPr/>
          <p:nvPr/>
        </p:nvGrpSpPr>
        <p:grpSpPr>
          <a:xfrm>
            <a:off x="1197000" y="773280"/>
            <a:ext cx="2290680" cy="715680"/>
            <a:chOff x="1197000" y="773280"/>
            <a:chExt cx="2290680" cy="715680"/>
          </a:xfrm>
        </p:grpSpPr>
        <p:pic>
          <p:nvPicPr>
            <p:cNvPr id="520" name="TextBox 2" descr=""/>
            <p:cNvPicPr/>
            <p:nvPr/>
          </p:nvPicPr>
          <p:blipFill>
            <a:blip r:embed="rId1"/>
            <a:stretch/>
          </p:blipFill>
          <p:spPr>
            <a:xfrm>
              <a:off x="1197000" y="773280"/>
              <a:ext cx="2290680" cy="7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199"/>
            <p:cNvSpPr/>
            <p:nvPr/>
          </p:nvSpPr>
          <p:spPr>
            <a:xfrm>
              <a:off x="1747440" y="8143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本课小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8620-F6B6-48CC-842E-2C13D5F014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92"/>
          <p:cNvSpPr/>
          <p:nvPr/>
        </p:nvSpPr>
        <p:spPr>
          <a:xfrm>
            <a:off x="971640" y="324000"/>
            <a:ext cx="129528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  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93"/>
          <p:cNvSpPr/>
          <p:nvPr/>
        </p:nvSpPr>
        <p:spPr>
          <a:xfrm>
            <a:off x="566640" y="3886200"/>
            <a:ext cx="8161560" cy="21416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弹簧测力计下挂一物体浸没在水中时，弹簧测力计的示数是物体在空气中弹簧测力计示数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这个物体的密度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1/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B. 2/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 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D. 3/2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94"/>
          <p:cNvSpPr/>
          <p:nvPr/>
        </p:nvSpPr>
        <p:spPr>
          <a:xfrm>
            <a:off x="611280" y="1449360"/>
            <a:ext cx="8012160" cy="162972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铁块的体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全部浸入水中时，排开水的体积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开的水重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受到的浮力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如果将它全部浸入酒精中，受到的浮力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6"/>
          <p:cNvSpPr/>
          <p:nvPr/>
        </p:nvSpPr>
        <p:spPr>
          <a:xfrm>
            <a:off x="3986280" y="495936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7"/>
          <p:cNvSpPr/>
          <p:nvPr/>
        </p:nvSpPr>
        <p:spPr>
          <a:xfrm>
            <a:off x="2546280" y="1943280"/>
            <a:ext cx="763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8"/>
          <p:cNvSpPr/>
          <p:nvPr/>
        </p:nvSpPr>
        <p:spPr>
          <a:xfrm>
            <a:off x="6692760" y="194328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9"/>
          <p:cNvSpPr/>
          <p:nvPr/>
        </p:nvSpPr>
        <p:spPr>
          <a:xfrm>
            <a:off x="2770200" y="2482920"/>
            <a:ext cx="674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00"/>
          <p:cNvSpPr/>
          <p:nvPr/>
        </p:nvSpPr>
        <p:spPr>
          <a:xfrm>
            <a:off x="2905200" y="299880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8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25"/>
          <p:cNvGrpSpPr/>
          <p:nvPr/>
        </p:nvGrpSpPr>
        <p:grpSpPr>
          <a:xfrm>
            <a:off x="1066680" y="685800"/>
            <a:ext cx="3276720" cy="712800"/>
            <a:chOff x="1066680" y="685800"/>
            <a:chExt cx="3276720" cy="712800"/>
          </a:xfrm>
        </p:grpSpPr>
        <p:pic>
          <p:nvPicPr>
            <p:cNvPr id="150" name="TextBox 1" descr=""/>
            <p:cNvPicPr/>
            <p:nvPr/>
          </p:nvPicPr>
          <p:blipFill>
            <a:blip r:embed="rId2"/>
            <a:stretch/>
          </p:blipFill>
          <p:spPr>
            <a:xfrm>
              <a:off x="1066680" y="685800"/>
              <a:ext cx="32767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4"/>
            <p:cNvSpPr/>
            <p:nvPr/>
          </p:nvSpPr>
          <p:spPr>
            <a:xfrm>
              <a:off x="1675440" y="801720"/>
              <a:ext cx="18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阿基米德的启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23"/>
          <p:cNvSpPr/>
          <p:nvPr/>
        </p:nvSpPr>
        <p:spPr>
          <a:xfrm>
            <a:off x="609480" y="1901880"/>
            <a:ext cx="8193240" cy="3677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e4c9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两千多年以前，希腊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阿基米德为了鉴定金王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否是纯金的，要测量王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体积，冥思苦想了很久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没有结果。一天，他跨进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水的浴缸洗澡时，看见浴缸里的水向外溢，他忽然想到：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物体浸在液体中的体积，不就是物体排开液体的体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6" descr="阿基米德"/>
          <p:cNvPicPr/>
          <p:nvPr/>
        </p:nvPicPr>
        <p:blipFill>
          <a:blip r:embed="rId3"/>
          <a:stretch/>
        </p:blipFill>
        <p:spPr>
          <a:xfrm>
            <a:off x="5651640" y="819000"/>
            <a:ext cx="3176280" cy="35737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0" descr="体验浮力与排水量的关系1"/>
          <p:cNvPicPr/>
          <p:nvPr/>
        </p:nvPicPr>
        <p:blipFill>
          <a:blip r:embed="rId2"/>
          <a:stretch/>
        </p:blipFill>
        <p:spPr>
          <a:xfrm>
            <a:off x="5967360" y="503280"/>
            <a:ext cx="271296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3"/>
          <p:cNvGrpSpPr/>
          <p:nvPr/>
        </p:nvGrpSpPr>
        <p:grpSpPr>
          <a:xfrm>
            <a:off x="746280" y="3402000"/>
            <a:ext cx="7651080" cy="703440"/>
            <a:chOff x="746280" y="3402000"/>
            <a:chExt cx="7651080" cy="703440"/>
          </a:xfrm>
        </p:grpSpPr>
        <p:sp>
          <p:nvSpPr>
            <p:cNvPr id="157" name="Rectangle 16"/>
            <p:cNvSpPr/>
            <p:nvPr/>
          </p:nvSpPr>
          <p:spPr>
            <a:xfrm>
              <a:off x="5586840" y="3494160"/>
              <a:ext cx="2810520" cy="520560"/>
            </a:xfrm>
            <a:prstGeom prst="rect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3d94e3"/>
                </a:gs>
              </a:gsLst>
              <a:lin ang="5400000"/>
            </a:gradFill>
            <a:ln w="28440">
              <a:solidFill>
                <a:srgbClr val="65aa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排开液体的体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746280" y="3494160"/>
              <a:ext cx="3903480" cy="520560"/>
            </a:xfrm>
            <a:prstGeom prst="rect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3d94e3"/>
                </a:gs>
              </a:gsLst>
              <a:lin ang="5400000"/>
            </a:gradFill>
            <a:ln w="28440">
              <a:solidFill>
                <a:srgbClr val="65aa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物体浸在液体中的体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4884120" y="3402000"/>
              <a:ext cx="46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"/>
          <p:cNvGrpSpPr/>
          <p:nvPr/>
        </p:nvGrpSpPr>
        <p:grpSpPr>
          <a:xfrm>
            <a:off x="1015920" y="503280"/>
            <a:ext cx="2133720" cy="712800"/>
            <a:chOff x="1015920" y="503280"/>
            <a:chExt cx="2133720" cy="712800"/>
          </a:xfrm>
        </p:grpSpPr>
        <p:pic>
          <p:nvPicPr>
            <p:cNvPr id="161" name="TextBox 1" descr=""/>
            <p:cNvPicPr/>
            <p:nvPr/>
          </p:nvPicPr>
          <p:blipFill>
            <a:blip r:embed="rId3"/>
            <a:stretch/>
          </p:blipFill>
          <p:spPr>
            <a:xfrm>
              <a:off x="1015920" y="503280"/>
              <a:ext cx="21337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6"/>
            <p:cNvSpPr/>
            <p:nvPr/>
          </p:nvSpPr>
          <p:spPr>
            <a:xfrm>
              <a:off x="1254240" y="619200"/>
              <a:ext cx="17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做做想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27"/>
          <p:cNvSpPr/>
          <p:nvPr/>
        </p:nvSpPr>
        <p:spPr>
          <a:xfrm>
            <a:off x="522360" y="1365120"/>
            <a:ext cx="4770360" cy="605880"/>
          </a:xfrm>
          <a:prstGeom prst="rect">
            <a:avLst/>
          </a:prstGeom>
          <a:noFill/>
          <a:ln w="28440">
            <a:solidFill>
              <a:srgbClr val="ff84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将易拉罐按入装满水的烧杯中，感受浮力与排开的液体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657360" y="4284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回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大小与哪些因素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476280" y="4923000"/>
            <a:ext cx="8191440" cy="592200"/>
          </a:xfrm>
          <a:prstGeom prst="roundRect">
            <a:avLst>
              <a:gd name="adj" fmla="val 9648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浮力大小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跟它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浸在液体中的体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液体的密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关。浸在液体中的体积越大、液体的密度越大，浮力就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971640" y="773280"/>
            <a:ext cx="1709640" cy="712800"/>
            <a:chOff x="971640" y="773280"/>
            <a:chExt cx="1709640" cy="712800"/>
          </a:xfrm>
        </p:grpSpPr>
        <p:pic>
          <p:nvPicPr>
            <p:cNvPr id="167" name="TextBox 1" descr=""/>
            <p:cNvPicPr/>
            <p:nvPr/>
          </p:nvPicPr>
          <p:blipFill>
            <a:blip r:embed="rId1"/>
            <a:stretch/>
          </p:blipFill>
          <p:spPr>
            <a:xfrm>
              <a:off x="971640" y="773280"/>
              <a:ext cx="17096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6"/>
            <p:cNvSpPr/>
            <p:nvPr/>
          </p:nvSpPr>
          <p:spPr>
            <a:xfrm>
              <a:off x="1163520" y="863640"/>
              <a:ext cx="13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猜   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7"/>
          <p:cNvSpPr/>
          <p:nvPr/>
        </p:nvSpPr>
        <p:spPr>
          <a:xfrm>
            <a:off x="522360" y="3564000"/>
            <a:ext cx="7543800" cy="947160"/>
          </a:xfrm>
          <a:prstGeom prst="rect">
            <a:avLst/>
          </a:prstGeom>
          <a:gradFill rotWithShape="0">
            <a:gsLst>
              <a:gs pos="0">
                <a:srgbClr val="ffd7af"/>
              </a:gs>
              <a:gs pos="100000">
                <a:srgbClr val="ffb4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浮力与排开的液体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怎样表述浮力的大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11280" y="4915080"/>
            <a:ext cx="8191440" cy="644760"/>
          </a:xfrm>
          <a:prstGeom prst="roundRect">
            <a:avLst>
              <a:gd name="adj" fmla="val 22741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大小可能与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排开液体的体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液体的密度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611280" y="1628640"/>
            <a:ext cx="7786440" cy="592200"/>
          </a:xfrm>
          <a:prstGeom prst="roundRect">
            <a:avLst>
              <a:gd name="adj" fmla="val 9648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浮力大小，跟它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排开液体的体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液体的密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关。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排开液体的体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越大、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液体的密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越大，浮力就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927000" y="5815080"/>
            <a:ext cx="6794640" cy="622440"/>
          </a:xfrm>
          <a:prstGeom prst="roundRect">
            <a:avLst>
              <a:gd name="adj" fmla="val 17463"/>
            </a:avLst>
          </a:prstGeom>
          <a:solidFill>
            <a:srgbClr val="65aae9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大小可能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开液体的重力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阿基米德原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727360" y="113364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与物体排开液体重力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5"/>
          <p:cNvSpPr/>
          <p:nvPr/>
        </p:nvSpPr>
        <p:spPr>
          <a:xfrm>
            <a:off x="5715000" y="1967040"/>
            <a:ext cx="2125800" cy="28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3"/>
          <p:cNvSpPr/>
          <p:nvPr/>
        </p:nvSpPr>
        <p:spPr>
          <a:xfrm>
            <a:off x="2895480" y="1967040"/>
            <a:ext cx="198144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2"/>
          <p:cNvGrpSpPr/>
          <p:nvPr/>
        </p:nvGrpSpPr>
        <p:grpSpPr>
          <a:xfrm>
            <a:off x="927000" y="1852560"/>
            <a:ext cx="2143080" cy="3655440"/>
            <a:chOff x="927000" y="1852560"/>
            <a:chExt cx="2143080" cy="3655440"/>
          </a:xfrm>
        </p:grpSpPr>
        <p:grpSp>
          <p:nvGrpSpPr>
            <p:cNvPr id="179" name="Group 18"/>
            <p:cNvGrpSpPr/>
            <p:nvPr/>
          </p:nvGrpSpPr>
          <p:grpSpPr>
            <a:xfrm>
              <a:off x="927000" y="1852560"/>
              <a:ext cx="2143080" cy="3376800"/>
              <a:chOff x="927000" y="1852560"/>
              <a:chExt cx="2143080" cy="3376800"/>
            </a:xfrm>
          </p:grpSpPr>
          <p:pic>
            <p:nvPicPr>
              <p:cNvPr id="180" name="Picture 108" descr="8-29-1"/>
              <p:cNvPicPr/>
              <p:nvPr/>
            </p:nvPicPr>
            <p:blipFill>
              <a:blip r:embed="rId1"/>
              <a:stretch/>
            </p:blipFill>
            <p:spPr>
              <a:xfrm>
                <a:off x="927000" y="1852560"/>
                <a:ext cx="2143080" cy="337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AutoShape 20"/>
              <p:cNvSpPr/>
              <p:nvPr/>
            </p:nvSpPr>
            <p:spPr>
              <a:xfrm flipV="1">
                <a:off x="2046960" y="4555440"/>
                <a:ext cx="439920" cy="213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27"/>
            <p:cNvSpPr/>
            <p:nvPr/>
          </p:nvSpPr>
          <p:spPr>
            <a:xfrm>
              <a:off x="1584360" y="504828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3"/>
          <p:cNvGrpSpPr/>
          <p:nvPr/>
        </p:nvGrpSpPr>
        <p:grpSpPr>
          <a:xfrm>
            <a:off x="3492360" y="2017800"/>
            <a:ext cx="1847880" cy="3490200"/>
            <a:chOff x="3492360" y="2017800"/>
            <a:chExt cx="1847880" cy="3490200"/>
          </a:xfrm>
        </p:grpSpPr>
        <p:grpSp>
          <p:nvGrpSpPr>
            <p:cNvPr id="184" name="Group 24"/>
            <p:cNvGrpSpPr/>
            <p:nvPr/>
          </p:nvGrpSpPr>
          <p:grpSpPr>
            <a:xfrm>
              <a:off x="3492360" y="2017800"/>
              <a:ext cx="1847880" cy="3165480"/>
              <a:chOff x="3492360" y="2017800"/>
              <a:chExt cx="1847880" cy="3165480"/>
            </a:xfrm>
          </p:grpSpPr>
          <p:pic>
            <p:nvPicPr>
              <p:cNvPr id="185" name="Picture 112" descr="8-29-2"/>
              <p:cNvPicPr/>
              <p:nvPr/>
            </p:nvPicPr>
            <p:blipFill>
              <a:blip r:embed="rId2"/>
              <a:stretch/>
            </p:blipFill>
            <p:spPr>
              <a:xfrm>
                <a:off x="3492360" y="2017800"/>
                <a:ext cx="1847880" cy="316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AutoShape 26"/>
              <p:cNvSpPr/>
              <p:nvPr/>
            </p:nvSpPr>
            <p:spPr>
              <a:xfrm flipV="1">
                <a:off x="4678920" y="4555080"/>
                <a:ext cx="440280" cy="213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28"/>
            <p:cNvSpPr/>
            <p:nvPr/>
          </p:nvSpPr>
          <p:spPr>
            <a:xfrm>
              <a:off x="4103640" y="504828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5730840" y="1943280"/>
            <a:ext cx="954000" cy="3520080"/>
            <a:chOff x="5730840" y="1943280"/>
            <a:chExt cx="954000" cy="3520080"/>
          </a:xfrm>
        </p:grpSpPr>
        <p:pic>
          <p:nvPicPr>
            <p:cNvPr id="189" name="Picture 21" descr="实验2"/>
            <p:cNvPicPr/>
            <p:nvPr/>
          </p:nvPicPr>
          <p:blipFill>
            <a:blip r:embed="rId3"/>
            <a:stretch/>
          </p:blipFill>
          <p:spPr>
            <a:xfrm>
              <a:off x="5730840" y="1943280"/>
              <a:ext cx="95400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29"/>
            <p:cNvSpPr/>
            <p:nvPr/>
          </p:nvSpPr>
          <p:spPr>
            <a:xfrm>
              <a:off x="5994360" y="500364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5"/>
          <p:cNvGrpSpPr/>
          <p:nvPr/>
        </p:nvGrpSpPr>
        <p:grpSpPr>
          <a:xfrm>
            <a:off x="7093080" y="1989000"/>
            <a:ext cx="865080" cy="3474360"/>
            <a:chOff x="7093080" y="1989000"/>
            <a:chExt cx="865080" cy="3474360"/>
          </a:xfrm>
        </p:grpSpPr>
        <p:pic>
          <p:nvPicPr>
            <p:cNvPr id="192" name="Picture 23" descr="实验1"/>
            <p:cNvPicPr/>
            <p:nvPr/>
          </p:nvPicPr>
          <p:blipFill>
            <a:blip r:embed="rId4"/>
            <a:stretch/>
          </p:blipFill>
          <p:spPr>
            <a:xfrm>
              <a:off x="7093080" y="1989000"/>
              <a:ext cx="86508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30"/>
            <p:cNvSpPr/>
            <p:nvPr/>
          </p:nvSpPr>
          <p:spPr>
            <a:xfrm>
              <a:off x="7164360" y="500364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31"/>
          <p:cNvSpPr/>
          <p:nvPr/>
        </p:nvSpPr>
        <p:spPr>
          <a:xfrm>
            <a:off x="1376280" y="5589720"/>
            <a:ext cx="731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数据填入记录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不同物体、不同液体做几次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6"/>
          <p:cNvGrpSpPr/>
          <p:nvPr/>
        </p:nvGrpSpPr>
        <p:grpSpPr>
          <a:xfrm>
            <a:off x="476280" y="998640"/>
            <a:ext cx="2251080" cy="712800"/>
            <a:chOff x="476280" y="998640"/>
            <a:chExt cx="2251080" cy="712800"/>
          </a:xfrm>
        </p:grpSpPr>
        <p:pic>
          <p:nvPicPr>
            <p:cNvPr id="196" name="TextBox 1" descr=""/>
            <p:cNvPicPr/>
            <p:nvPr/>
          </p:nvPicPr>
          <p:blipFill>
            <a:blip r:embed="rId5"/>
            <a:stretch/>
          </p:blipFill>
          <p:spPr>
            <a:xfrm>
              <a:off x="476280" y="998640"/>
              <a:ext cx="22510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38"/>
            <p:cNvSpPr/>
            <p:nvPr/>
          </p:nvSpPr>
          <p:spPr>
            <a:xfrm>
              <a:off x="729000" y="1089000"/>
              <a:ext cx="18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探究实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5"/>
          <p:cNvSpPr/>
          <p:nvPr/>
        </p:nvSpPr>
        <p:spPr>
          <a:xfrm>
            <a:off x="1544400" y="1133640"/>
            <a:ext cx="1460880" cy="52056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6200000"/>
          </a:gradFill>
          <a:ln w="9360">
            <a:solidFill>
              <a:srgbClr val="9d9d9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数据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6280" y="1854360"/>
          <a:ext cx="8731080" cy="2703240"/>
        </p:xfrm>
        <a:graphic>
          <a:graphicData uri="http://schemas.openxmlformats.org/drawingml/2006/table">
            <a:tbl>
              <a:tblPr/>
              <a:tblGrid>
                <a:gridCol w="585720"/>
                <a:gridCol w="1123920"/>
                <a:gridCol w="1890720"/>
                <a:gridCol w="809640"/>
                <a:gridCol w="1665360"/>
                <a:gridCol w="1216080"/>
                <a:gridCol w="14396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物体的重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物体在液体中测力计示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浮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桶和排液的总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桶的重力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排开液体的重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</a:tr>
              <a:tr h="48384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119"/>
          <p:cNvSpPr/>
          <p:nvPr/>
        </p:nvSpPr>
        <p:spPr>
          <a:xfrm>
            <a:off x="914400" y="457200"/>
            <a:ext cx="6324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阿基米德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1462680" y="4734000"/>
            <a:ext cx="1887480" cy="52056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6200000"/>
          </a:gradFill>
          <a:ln w="9360">
            <a:solidFill>
              <a:srgbClr val="9d9d9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数据得出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657360" y="5408640"/>
            <a:ext cx="7424640" cy="123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．浸在液体中的物体受到向上的浮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．浮力的大小等于物体排开液体的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094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浸在液体中的物体所受的浮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大小等于它排开液体的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11280" y="3249720"/>
            <a:ext cx="582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数学表达式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31800" y="5519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适用范围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液体和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11280" y="4194000"/>
            <a:ext cx="7110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于计算的导出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= </a:t>
            </a:r>
            <a:r>
              <a:rPr b="1" i="1" lang="el-GR" sz="2800" spc="-1" strike="noStrike">
                <a:solidFill>
                  <a:srgbClr val="ff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液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7047000" y="1854360"/>
            <a:ext cx="1847880" cy="3165480"/>
            <a:chOff x="7047000" y="1854360"/>
            <a:chExt cx="1847880" cy="3165480"/>
          </a:xfrm>
        </p:grpSpPr>
        <p:pic>
          <p:nvPicPr>
            <p:cNvPr id="210" name="Picture 112" descr="8-29-2"/>
            <p:cNvPicPr/>
            <p:nvPr/>
          </p:nvPicPr>
          <p:blipFill>
            <a:blip r:embed="rId1"/>
            <a:stretch/>
          </p:blipFill>
          <p:spPr>
            <a:xfrm>
              <a:off x="7047000" y="1854360"/>
              <a:ext cx="184788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8"/>
            <p:cNvSpPr/>
            <p:nvPr/>
          </p:nvSpPr>
          <p:spPr>
            <a:xfrm flipV="1">
              <a:off x="8233560" y="4391640"/>
              <a:ext cx="440280" cy="213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1093680" y="636480"/>
            <a:ext cx="63248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阿基米德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746280" y="1763640"/>
            <a:ext cx="8191440" cy="43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区分：浸没、浸入、浸在、没入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el-GR" sz="2800" spc="-1" strike="noStrike">
                <a:solidFill>
                  <a:srgbClr val="ff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的密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排开的液体的体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决定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明浮力大小只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大小与物体的形状、密度，浸没在液体中的深度及物体在液体中是否运动等因素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46280" y="503280"/>
            <a:ext cx="6172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关于阿基米德原理的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609480" y="17733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浸在液体中的物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到的浮力大小取决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的体积和液体的密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的密度和物体浸入液体的深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浸入液体的体积和液体的密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的质量、体积、浸入液体的深度及形状等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06640" y="2354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38080" y="685800"/>
            <a:ext cx="6172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例题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106640" y="2895480"/>
            <a:ext cx="22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182600" y="4038480"/>
            <a:ext cx="3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106640" y="3429000"/>
            <a:ext cx="22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106640" y="4419720"/>
            <a:ext cx="22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02Z</dcterms:modified>
  <cp:revision>15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