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5.jpeg" ContentType="image/jpeg"/>
  <Override PartName="/ppt/media/image43.png" ContentType="image/png"/>
  <Override PartName="/ppt/media/ZR948.WAV" ContentType="audio/x-wav"/>
  <Override PartName="/ppt/media/image54.jpeg" ContentType="image/jpeg"/>
  <Override PartName="/ppt/media/image33.png" ContentType="image/png"/>
  <Override PartName="/ppt/media/image53.wmf" ContentType="image/x-wmf"/>
  <Override PartName="/ppt/media/image51.jpeg" ContentType="image/jpeg"/>
  <Override PartName="/ppt/media/image49.jpeg" ContentType="image/jpeg"/>
  <Override PartName="/ppt/media/image46.png" ContentType="image/png"/>
  <Override PartName="/ppt/media/image35.wmf" ContentType="image/x-wmf"/>
  <Override PartName="/ppt/media/image22.wmf" ContentType="image/x-wmf"/>
  <Override PartName="/ppt/media/image42.png" ContentType="image/png"/>
  <Override PartName="/ppt/media/image26.jpeg" ContentType="image/jpeg"/>
  <Override PartName="/ppt/media/image61.png" ContentType="image/png"/>
  <Override PartName="/ppt/media/image5.jpeg" ContentType="image/jpeg"/>
  <Override PartName="/ppt/media/explode.wav" ContentType="audio/x-wav"/>
  <Override PartName="/ppt/media/image48.wmf" ContentType="image/x-wmf"/>
  <Override PartName="/ppt/media/image50.png" ContentType="image/png"/>
  <Override PartName="/ppt/media/image4.jpeg" ContentType="image/jpeg"/>
  <Override PartName="/ppt/media/image40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projctor.wav" ContentType="audio/x-wav"/>
  <Override PartName="/ppt/media/image24.jpeg" ContentType="image/jpeg"/>
  <Override PartName="/ppt/media/image47.png" ContentType="image/png"/>
  <Override PartName="/ppt/media/image1.jpeg" ContentType="image/jpeg"/>
  <Override PartName="/ppt/media/image14.png" ContentType="image/png"/>
  <Override PartName="/ppt/media/image65.jpeg" ContentType="image/jpeg"/>
  <Override PartName="/ppt/media/image38.png" ContentType="image/png"/>
  <Override PartName="/ppt/media/image62.jpeg" ContentType="image/jpeg"/>
  <Override PartName="/ppt/media/image41.wmf" ContentType="image/x-wmf"/>
  <Override PartName="/ppt/media/image64.wmf" ContentType="image/x-wmf"/>
  <Override PartName="/ppt/media/type.wav" ContentType="audio/x-wav"/>
  <Override PartName="/ppt/media/image63.jpeg" ContentType="image/jpeg"/>
  <Override PartName="/ppt/media/image60.png" ContentType="image/png"/>
  <Override PartName="/ppt/media/image6.jpeg" ContentType="image/jpeg"/>
  <Override PartName="/ppt/media/image21.wmf" ContentType="image/x-wmf"/>
  <Override PartName="/ppt/media/image15.wmf" ContentType="image/x-wmf"/>
  <Override PartName="/ppt/media/image58.png" ContentType="image/png"/>
  <Override PartName="/ppt/media/image57.png" ContentType="image/png"/>
  <Override PartName="/ppt/media/image20.png" ContentType="image/png"/>
  <Override PartName="/ppt/media/image36.jpeg" ContentType="image/jpeg"/>
  <Override PartName="/ppt/media/image56.png" ContentType="image/png"/>
  <Override PartName="/ppt/media/image18.jpeg" ContentType="image/jpeg"/>
  <Override PartName="/ppt/media/image28.png" ContentType="image/png"/>
  <Override PartName="/ppt/media/image7.wmf" ContentType="image/x-wmf"/>
  <Override PartName="/ppt/media/image59.png" ContentType="image/png"/>
  <Override PartName="/ppt/media/image16.wmf" ContentType="image/x-wmf"/>
  <Override PartName="/ppt/media/image45.jpeg" ContentType="image/jpeg"/>
  <Override PartName="/ppt/media/image8.png" ContentType="image/png"/>
  <Override PartName="/ppt/media/image23.jpeg" ContentType="image/jpeg"/>
  <Override PartName="/ppt/media/image10.jpeg" ContentType="image/jpeg"/>
  <Override PartName="/ppt/media/image17.wmf" ContentType="image/x-wmf"/>
  <Override PartName="/ppt/media/image27.jpeg" ContentType="image/jpeg"/>
  <Override PartName="/ppt/media/image9.png" ContentType="image/png"/>
  <Override PartName="/ppt/media/image39.png" ContentType="image/png"/>
  <Override PartName="/ppt/media/image19.jpeg" ContentType="image/jpeg"/>
  <Override PartName="/ppt/media/image11.png" ContentType="image/png"/>
  <Override PartName="/ppt/media/image13.jpeg" ContentType="image/jpeg"/>
  <Override PartName="/ppt/media/image4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4.jpeg" ContentType="image/jpeg"/>
  <Override PartName="/ppt/media/image3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645-2204-4230-BDDF-1292C310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105-463A-4940-B2EE-E75A86E3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D9A-BFEC-4BAB-9405-CA1AB1AF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C3A-0CF0-4DF3-BF7D-6044008D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F5BE-1D3B-439C-9481-2EF5647E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EA28-BD01-4AA2-ACBE-B85FCA11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5061-51DF-42FC-9CD2-E53B1F7B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ED3D-928F-4523-9F58-66EC28EB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F380-7571-4DFE-8D69-44C80943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12B2-497E-4FBB-86BE-1F380779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DC48-81A1-4133-A260-ECBDE24F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6C7-61A8-4C9D-B87B-F59C4FBC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CDFB-E71B-4E90-84AE-9CA0ABD5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F1BF-6E75-41BE-905B-6F254E8D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76D7-87B9-44CC-A20A-B6FA20E0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1CF0-47DA-4097-A78B-81B41B73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F9B5-319D-4BE6-8547-72BE1E47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949-CE51-4A6F-B2F3-5AE016B1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DD6-28EC-43F9-860A-900321BE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380-1772-4FFB-A57A-EE8921A4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B99-E229-414D-B0D4-9A8073EF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9A4-6823-48C9-B7A3-757AC2D4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D66-3C50-4B77-AAD2-14A8E9B5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A01-C345-4A1A-8BFC-235D2655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760" y="368136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70080" y="37256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04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4936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760" y="47894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70080" y="48337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1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4936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760" y="57992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70080" y="58435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499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4936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960" y="41990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4280" y="42433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497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356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960" y="530712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4280" y="535140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780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356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960" y="635796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4280" y="6402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864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356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231" name="未知"/>
            <p:cNvSpPr/>
            <p:nvPr/>
          </p:nvSpPr>
          <p:spPr>
            <a:xfrm>
              <a:off x="7041600" y="0"/>
              <a:ext cx="2101680" cy="190620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64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9840"/>
                <a:ext cx="185400" cy="21456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3400" y="1058760"/>
                <a:ext cx="163800" cy="28584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2240" y="482400"/>
                <a:ext cx="534960" cy="2404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640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70040"/>
                <a:ext cx="39168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160" y="754920"/>
                <a:ext cx="301680" cy="18072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5400"/>
                <a:ext cx="325080" cy="14112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9680"/>
                <a:ext cx="54756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6680" y="1161000"/>
                <a:ext cx="44244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7880" y="1249920"/>
                <a:ext cx="455040" cy="3636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4520" y="1104120"/>
                <a:ext cx="258480" cy="6490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E816-6D5A-4418-9C9F-DAD9398CC3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6D81-8915-4B36-A098-9A4E6FE0F6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audio" Target="../media/ZR948.WAV"/><Relationship Id="rId5" Type="http://schemas.openxmlformats.org/officeDocument/2006/relationships/audio" Target="../media/ZR948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explod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C:\Documents and Settings\Administrator\Local Settings\Temp\&#21021;&#20013;&#29289;&#29702;&#35838;&#20214;&#38598;\&#30005;&#23398;\&#23616;&#37096;&#30701;&#36335;.swf" TargetMode="External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8055d312bd0012c6f2de3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矩形 2"/>
          <p:cNvSpPr/>
          <p:nvPr/>
        </p:nvSpPr>
        <p:spPr>
          <a:xfrm>
            <a:off x="0" y="836640"/>
            <a:ext cx="913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十九章 生活用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"/>
          <p:cNvSpPr/>
          <p:nvPr/>
        </p:nvSpPr>
        <p:spPr>
          <a:xfrm>
            <a:off x="0" y="2205000"/>
            <a:ext cx="913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节 安全用电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3"/>
          <p:cNvSpPr/>
          <p:nvPr/>
        </p:nvSpPr>
        <p:spPr>
          <a:xfrm>
            <a:off x="324000" y="98100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问题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阅读教材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1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1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页，分组讨论：电压高低与有没有危险有关系吗？为什么电压越高越危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24000" y="5229360"/>
            <a:ext cx="61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黑体"/>
                <a:ea typeface="黑体"/>
              </a:rPr>
              <a:t>安全电压</a:t>
            </a:r>
            <a:r>
              <a:rPr b="1" lang="en-US" sz="4000" spc="-1" strike="noStrike">
                <a:solidFill>
                  <a:srgbClr val="cc3399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cc3399"/>
                </a:solidFill>
                <a:latin typeface="黑体"/>
                <a:ea typeface="黑体"/>
              </a:rPr>
              <a:t>不高于</a:t>
            </a:r>
            <a:r>
              <a:rPr b="1" lang="en-US" sz="4000" spc="-1" strike="noStrike">
                <a:solidFill>
                  <a:srgbClr val="cc3399"/>
                </a:solidFill>
                <a:latin typeface="黑体"/>
                <a:ea typeface="黑体"/>
              </a:rPr>
              <a:t>36V</a:t>
            </a:r>
            <a:r>
              <a:rPr b="1" lang="zh-CN" sz="4000" spc="-1" strike="noStrike">
                <a:solidFill>
                  <a:srgbClr val="cc3399"/>
                </a:solidFill>
                <a:latin typeface="黑体"/>
                <a:ea typeface="黑体"/>
              </a:rPr>
              <a:t>的电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3" descr="5984"/>
          <p:cNvPicPr/>
          <p:nvPr/>
        </p:nvPicPr>
        <p:blipFill>
          <a:blip r:embed="rId1"/>
          <a:stretch/>
        </p:blipFill>
        <p:spPr>
          <a:xfrm>
            <a:off x="5292720" y="2205000"/>
            <a:ext cx="3759120" cy="45720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10"/>
          <p:cNvSpPr/>
          <p:nvPr/>
        </p:nvSpPr>
        <p:spPr>
          <a:xfrm>
            <a:off x="539640" y="2924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根据欧姆定律，电阻一定时，电压越高，对人的生命危害越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1187280" y="117360"/>
            <a:ext cx="650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电压越高越危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家庭电路"/>
          <p:cNvPicPr/>
          <p:nvPr/>
        </p:nvPicPr>
        <p:blipFill>
          <a:blip r:embed="rId1"/>
          <a:stretch/>
        </p:blipFill>
        <p:spPr>
          <a:xfrm>
            <a:off x="1187280" y="1628640"/>
            <a:ext cx="7467840" cy="46944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252360" y="1268280"/>
            <a:ext cx="35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家庭电路的电压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220 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远远超出了安全电压，一旦发生触电，很可能有生命危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476360" y="260280"/>
            <a:ext cx="683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二、常见的触电事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324000" y="836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问题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阅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材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3~1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分组讨论：①触电是怎么回事？对比两种触电的情况，仔细观察两图中造成触电事故的相同点，总结低压触电事故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单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826920" y="2825640"/>
            <a:ext cx="3159360" cy="4032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双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076720" y="2897280"/>
            <a:ext cx="3035520" cy="39607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6"/>
          <p:cNvSpPr/>
          <p:nvPr/>
        </p:nvSpPr>
        <p:spPr>
          <a:xfrm>
            <a:off x="2031840" y="144360"/>
            <a:ext cx="671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常见的触电事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8199"/>
          <p:cNvSpPr/>
          <p:nvPr/>
        </p:nvSpPr>
        <p:spPr>
          <a:xfrm>
            <a:off x="3030480" y="2751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5" descr=""/>
          <p:cNvPicPr/>
          <p:nvPr/>
        </p:nvPicPr>
        <p:blipFill>
          <a:blip r:embed="rId1"/>
          <a:stretch/>
        </p:blipFill>
        <p:spPr>
          <a:xfrm>
            <a:off x="0" y="4941720"/>
            <a:ext cx="9144000" cy="1209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3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19560" cy="311292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4"/>
          <p:cNvGrpSpPr/>
          <p:nvPr/>
        </p:nvGrpSpPr>
        <p:grpSpPr>
          <a:xfrm>
            <a:off x="5105520" y="2057400"/>
            <a:ext cx="4038480" cy="3352320"/>
            <a:chOff x="5105520" y="2057400"/>
            <a:chExt cx="4038480" cy="3352320"/>
          </a:xfrm>
        </p:grpSpPr>
        <p:grpSp>
          <p:nvGrpSpPr>
            <p:cNvPr id="387" name="Group 5"/>
            <p:cNvGrpSpPr/>
            <p:nvPr/>
          </p:nvGrpSpPr>
          <p:grpSpPr>
            <a:xfrm>
              <a:off x="6172200" y="4648320"/>
              <a:ext cx="2057400" cy="761400"/>
              <a:chOff x="6172200" y="4648320"/>
              <a:chExt cx="2057400" cy="76140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6172200" y="4648320"/>
                <a:ext cx="2057400" cy="3805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21"/>
              <p:cNvSpPr/>
              <p:nvPr/>
            </p:nvSpPr>
            <p:spPr>
              <a:xfrm>
                <a:off x="7620120" y="5028840"/>
                <a:ext cx="15228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22"/>
              <p:cNvSpPr/>
              <p:nvPr/>
            </p:nvSpPr>
            <p:spPr>
              <a:xfrm>
                <a:off x="6629400" y="5028840"/>
                <a:ext cx="15228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9"/>
            <p:cNvGrpSpPr/>
            <p:nvPr/>
          </p:nvGrpSpPr>
          <p:grpSpPr>
            <a:xfrm>
              <a:off x="5105520" y="2057400"/>
              <a:ext cx="4038480" cy="914760"/>
              <a:chOff x="5105520" y="2057400"/>
              <a:chExt cx="4038480" cy="91476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5105520" y="2971800"/>
                <a:ext cx="4038480" cy="360"/>
                <a:chOff x="5105520" y="2971800"/>
                <a:chExt cx="4038480" cy="360"/>
              </a:xfrm>
            </p:grpSpPr>
            <p:sp>
              <p:nvSpPr>
                <p:cNvPr id="393" name="Line 8"/>
                <p:cNvSpPr/>
                <p:nvPr/>
              </p:nvSpPr>
              <p:spPr>
                <a:xfrm>
                  <a:off x="5105520" y="2971800"/>
                  <a:ext cx="40384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 txBox="1"/>
                <p:nvPr/>
              </p:nvSpPr>
              <p:spPr>
                <a:xfrm>
                  <a:off x="5105520" y="2971800"/>
                  <a:ext cx="4038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5105520" y="2057400"/>
                <a:ext cx="4038480" cy="360"/>
                <a:chOff x="5105520" y="2057400"/>
                <a:chExt cx="4038480" cy="360"/>
              </a:xfrm>
            </p:grpSpPr>
            <p:sp>
              <p:nvSpPr>
                <p:cNvPr id="396" name="Line 24"/>
                <p:cNvSpPr/>
                <p:nvPr/>
              </p:nvSpPr>
              <p:spPr>
                <a:xfrm>
                  <a:off x="5105520" y="2057400"/>
                  <a:ext cx="4038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 txBox="1"/>
                <p:nvPr/>
              </p:nvSpPr>
              <p:spPr>
                <a:xfrm>
                  <a:off x="5105520" y="2057400"/>
                  <a:ext cx="4038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8" name="Group 12"/>
          <p:cNvGrpSpPr/>
          <p:nvPr/>
        </p:nvGrpSpPr>
        <p:grpSpPr>
          <a:xfrm>
            <a:off x="-291960" y="2057400"/>
            <a:ext cx="5409720" cy="1015920"/>
            <a:chOff x="-291960" y="2057400"/>
            <a:chExt cx="5409720" cy="1015920"/>
          </a:xfrm>
        </p:grpSpPr>
        <p:grpSp>
          <p:nvGrpSpPr>
            <p:cNvPr id="399" name=""/>
            <p:cNvGrpSpPr/>
            <p:nvPr/>
          </p:nvGrpSpPr>
          <p:grpSpPr>
            <a:xfrm>
              <a:off x="-215640" y="2362320"/>
              <a:ext cx="4028760" cy="360"/>
              <a:chOff x="-215640" y="2362320"/>
              <a:chExt cx="4028760" cy="360"/>
            </a:xfrm>
          </p:grpSpPr>
          <p:sp>
            <p:nvSpPr>
              <p:cNvPr id="400" name="Line 7"/>
              <p:cNvSpPr/>
              <p:nvPr/>
            </p:nvSpPr>
            <p:spPr>
              <a:xfrm>
                <a:off x="-215640" y="2362320"/>
                <a:ext cx="402876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-215640" y="2362320"/>
                <a:ext cx="402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Text Box 9"/>
            <p:cNvSpPr/>
            <p:nvPr/>
          </p:nvSpPr>
          <p:spPr>
            <a:xfrm>
              <a:off x="3901680" y="2057400"/>
              <a:ext cx="1216080" cy="101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火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零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-291960" y="2895480"/>
              <a:ext cx="4028760" cy="360"/>
              <a:chOff x="-291960" y="2895480"/>
              <a:chExt cx="4028760" cy="360"/>
            </a:xfrm>
          </p:grpSpPr>
          <p:sp>
            <p:nvSpPr>
              <p:cNvPr id="404" name="Line 25"/>
              <p:cNvSpPr/>
              <p:nvPr/>
            </p:nvSpPr>
            <p:spPr>
              <a:xfrm>
                <a:off x="-291960" y="2895480"/>
                <a:ext cx="4028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 txBox="1"/>
              <p:nvPr/>
            </p:nvSpPr>
            <p:spPr>
              <a:xfrm>
                <a:off x="-291960" y="2895480"/>
                <a:ext cx="402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Group 16"/>
          <p:cNvGrpSpPr/>
          <p:nvPr/>
        </p:nvGrpSpPr>
        <p:grpSpPr>
          <a:xfrm>
            <a:off x="6400800" y="2044800"/>
            <a:ext cx="1805040" cy="2698200"/>
            <a:chOff x="6400800" y="2044800"/>
            <a:chExt cx="1805040" cy="2698200"/>
          </a:xfrm>
        </p:grpSpPr>
        <p:pic>
          <p:nvPicPr>
            <p:cNvPr id="407" name="Picture 17" descr=""/>
            <p:cNvPicPr/>
            <p:nvPr/>
          </p:nvPicPr>
          <p:blipFill>
            <a:blip r:embed="rId3"/>
            <a:srcRect l="32480" t="32489" r="0" b="0"/>
            <a:stretch/>
          </p:blipFill>
          <p:spPr>
            <a:xfrm>
              <a:off x="6400800" y="2209680"/>
              <a:ext cx="1805040" cy="25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Freeform 26"/>
            <p:cNvSpPr/>
            <p:nvPr/>
          </p:nvSpPr>
          <p:spPr>
            <a:xfrm>
              <a:off x="7696080" y="2044800"/>
              <a:ext cx="304920" cy="177480"/>
            </a:xfrm>
            <a:custGeom>
              <a:avLst/>
              <a:gdLst/>
              <a:ahLst/>
              <a:rect l="l" t="t" r="r" b="b"/>
              <a:pathLst>
                <a:path w="192" h="112">
                  <a:moveTo>
                    <a:pt x="0" y="104"/>
                  </a:moveTo>
                  <a:cubicBezTo>
                    <a:pt x="32" y="84"/>
                    <a:pt x="64" y="64"/>
                    <a:pt x="96" y="56"/>
                  </a:cubicBezTo>
                  <a:cubicBezTo>
                    <a:pt x="128" y="48"/>
                    <a:pt x="192" y="48"/>
                    <a:pt x="192" y="56"/>
                  </a:cubicBezTo>
                  <a:cubicBezTo>
                    <a:pt x="192" y="64"/>
                    <a:pt x="112" y="112"/>
                    <a:pt x="96" y="104"/>
                  </a:cubicBezTo>
                  <a:cubicBezTo>
                    <a:pt x="80" y="96"/>
                    <a:pt x="88" y="16"/>
                    <a:pt x="96" y="8"/>
                  </a:cubicBezTo>
                  <a:cubicBezTo>
                    <a:pt x="104" y="0"/>
                    <a:pt x="144" y="48"/>
                    <a:pt x="144" y="56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Freeform 27"/>
          <p:cNvSpPr/>
          <p:nvPr/>
        </p:nvSpPr>
        <p:spPr>
          <a:xfrm>
            <a:off x="6388200" y="2057400"/>
            <a:ext cx="1765080" cy="1549440"/>
          </a:xfrm>
          <a:custGeom>
            <a:avLst/>
            <a:gdLst/>
            <a:ahLst/>
            <a:rect l="l" t="t" r="r" b="b"/>
            <a:pathLst>
              <a:path w="1112" h="976">
                <a:moveTo>
                  <a:pt x="968" y="0"/>
                </a:moveTo>
                <a:cubicBezTo>
                  <a:pt x="892" y="48"/>
                  <a:pt x="816" y="96"/>
                  <a:pt x="824" y="144"/>
                </a:cubicBezTo>
                <a:cubicBezTo>
                  <a:pt x="832" y="192"/>
                  <a:pt x="976" y="248"/>
                  <a:pt x="1016" y="288"/>
                </a:cubicBezTo>
                <a:cubicBezTo>
                  <a:pt x="1056" y="328"/>
                  <a:pt x="1112" y="344"/>
                  <a:pt x="1064" y="384"/>
                </a:cubicBezTo>
                <a:cubicBezTo>
                  <a:pt x="1016" y="424"/>
                  <a:pt x="848" y="488"/>
                  <a:pt x="728" y="528"/>
                </a:cubicBezTo>
                <a:cubicBezTo>
                  <a:pt x="608" y="568"/>
                  <a:pt x="432" y="576"/>
                  <a:pt x="344" y="624"/>
                </a:cubicBezTo>
                <a:cubicBezTo>
                  <a:pt x="256" y="672"/>
                  <a:pt x="232" y="760"/>
                  <a:pt x="200" y="816"/>
                </a:cubicBezTo>
                <a:cubicBezTo>
                  <a:pt x="168" y="872"/>
                  <a:pt x="176" y="944"/>
                  <a:pt x="152" y="960"/>
                </a:cubicBezTo>
                <a:cubicBezTo>
                  <a:pt x="128" y="976"/>
                  <a:pt x="80" y="952"/>
                  <a:pt x="56" y="912"/>
                </a:cubicBezTo>
                <a:cubicBezTo>
                  <a:pt x="32" y="872"/>
                  <a:pt x="16" y="776"/>
                  <a:pt x="8" y="720"/>
                </a:cubicBezTo>
                <a:cubicBezTo>
                  <a:pt x="0" y="664"/>
                  <a:pt x="0" y="600"/>
                  <a:pt x="8" y="576"/>
                </a:cubicBezTo>
              </a:path>
            </a:pathLst>
          </a:cu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0"/>
          <p:cNvGrpSpPr/>
          <p:nvPr/>
        </p:nvGrpSpPr>
        <p:grpSpPr>
          <a:xfrm>
            <a:off x="1816200" y="2362320"/>
            <a:ext cx="1841400" cy="2971800"/>
            <a:chOff x="1816200" y="2362320"/>
            <a:chExt cx="1841400" cy="2971800"/>
          </a:xfrm>
        </p:grpSpPr>
        <p:grpSp>
          <p:nvGrpSpPr>
            <p:cNvPr id="411" name="Group 21"/>
            <p:cNvGrpSpPr/>
            <p:nvPr/>
          </p:nvGrpSpPr>
          <p:grpSpPr>
            <a:xfrm>
              <a:off x="1816200" y="2362320"/>
              <a:ext cx="1841400" cy="2768760"/>
              <a:chOff x="1816200" y="2362320"/>
              <a:chExt cx="1841400" cy="2768760"/>
            </a:xfrm>
          </p:grpSpPr>
          <p:sp>
            <p:nvSpPr>
              <p:cNvPr id="412" name="Freeform 15"/>
              <p:cNvSpPr/>
              <p:nvPr/>
            </p:nvSpPr>
            <p:spPr>
              <a:xfrm>
                <a:off x="1816200" y="2362320"/>
                <a:ext cx="1612800" cy="2768760"/>
              </a:xfrm>
              <a:custGeom>
                <a:avLst/>
                <a:gdLst/>
                <a:ahLst/>
                <a:rect l="l" t="t" r="r" b="b"/>
                <a:pathLst>
                  <a:path w="1016" h="1744">
                    <a:moveTo>
                      <a:pt x="440" y="0"/>
                    </a:moveTo>
                    <a:cubicBezTo>
                      <a:pt x="460" y="12"/>
                      <a:pt x="480" y="24"/>
                      <a:pt x="488" y="48"/>
                    </a:cubicBezTo>
                    <a:cubicBezTo>
                      <a:pt x="496" y="72"/>
                      <a:pt x="464" y="80"/>
                      <a:pt x="488" y="144"/>
                    </a:cubicBezTo>
                    <a:cubicBezTo>
                      <a:pt x="512" y="208"/>
                      <a:pt x="624" y="360"/>
                      <a:pt x="632" y="432"/>
                    </a:cubicBezTo>
                    <a:cubicBezTo>
                      <a:pt x="640" y="504"/>
                      <a:pt x="632" y="496"/>
                      <a:pt x="536" y="576"/>
                    </a:cubicBezTo>
                    <a:cubicBezTo>
                      <a:pt x="440" y="656"/>
                      <a:pt x="112" y="824"/>
                      <a:pt x="56" y="912"/>
                    </a:cubicBezTo>
                    <a:cubicBezTo>
                      <a:pt x="0" y="1000"/>
                      <a:pt x="136" y="1040"/>
                      <a:pt x="200" y="1104"/>
                    </a:cubicBezTo>
                    <a:cubicBezTo>
                      <a:pt x="264" y="1168"/>
                      <a:pt x="400" y="1224"/>
                      <a:pt x="440" y="1296"/>
                    </a:cubicBezTo>
                    <a:cubicBezTo>
                      <a:pt x="480" y="1368"/>
                      <a:pt x="432" y="1464"/>
                      <a:pt x="440" y="1536"/>
                    </a:cubicBezTo>
                    <a:cubicBezTo>
                      <a:pt x="448" y="1608"/>
                      <a:pt x="440" y="1712"/>
                      <a:pt x="488" y="1728"/>
                    </a:cubicBezTo>
                    <a:cubicBezTo>
                      <a:pt x="536" y="1744"/>
                      <a:pt x="640" y="1648"/>
                      <a:pt x="728" y="1632"/>
                    </a:cubicBezTo>
                    <a:cubicBezTo>
                      <a:pt x="816" y="1616"/>
                      <a:pt x="960" y="1632"/>
                      <a:pt x="1016" y="1632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6"/>
              <p:cNvSpPr/>
              <p:nvPr/>
            </p:nvSpPr>
            <p:spPr>
              <a:xfrm>
                <a:off x="2514600" y="4038840"/>
                <a:ext cx="1143000" cy="939600"/>
              </a:xfrm>
              <a:custGeom>
                <a:avLst/>
                <a:gdLst/>
                <a:ahLst/>
                <a:rect l="l" t="t" r="r" b="b"/>
                <a:pathLst>
                  <a:path w="720" h="592">
                    <a:moveTo>
                      <a:pt x="0" y="224"/>
                    </a:moveTo>
                    <a:cubicBezTo>
                      <a:pt x="48" y="208"/>
                      <a:pt x="96" y="192"/>
                      <a:pt x="144" y="176"/>
                    </a:cubicBezTo>
                    <a:cubicBezTo>
                      <a:pt x="192" y="160"/>
                      <a:pt x="256" y="144"/>
                      <a:pt x="288" y="128"/>
                    </a:cubicBezTo>
                    <a:cubicBezTo>
                      <a:pt x="320" y="112"/>
                      <a:pt x="304" y="96"/>
                      <a:pt x="336" y="80"/>
                    </a:cubicBezTo>
                    <a:cubicBezTo>
                      <a:pt x="368" y="64"/>
                      <a:pt x="440" y="40"/>
                      <a:pt x="480" y="32"/>
                    </a:cubicBezTo>
                    <a:cubicBezTo>
                      <a:pt x="520" y="24"/>
                      <a:pt x="560" y="0"/>
                      <a:pt x="576" y="32"/>
                    </a:cubicBezTo>
                    <a:cubicBezTo>
                      <a:pt x="592" y="64"/>
                      <a:pt x="576" y="176"/>
                      <a:pt x="576" y="224"/>
                    </a:cubicBezTo>
                    <a:cubicBezTo>
                      <a:pt x="576" y="272"/>
                      <a:pt x="560" y="264"/>
                      <a:pt x="576" y="320"/>
                    </a:cubicBezTo>
                    <a:cubicBezTo>
                      <a:pt x="592" y="376"/>
                      <a:pt x="648" y="528"/>
                      <a:pt x="672" y="560"/>
                    </a:cubicBezTo>
                    <a:cubicBezTo>
                      <a:pt x="696" y="592"/>
                      <a:pt x="720" y="520"/>
                      <a:pt x="720" y="512"/>
                    </a:cubicBezTo>
                  </a:path>
                </a:pathLst>
              </a:custGeom>
              <a:noFill/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Freeform 36"/>
            <p:cNvSpPr/>
            <p:nvPr/>
          </p:nvSpPr>
          <p:spPr>
            <a:xfrm>
              <a:off x="3124440" y="4889520"/>
              <a:ext cx="419040" cy="444600"/>
            </a:xfrm>
            <a:custGeom>
              <a:avLst/>
              <a:gdLst/>
              <a:ahLst/>
              <a:rect l="l" t="t" r="r" b="b"/>
              <a:pathLst>
                <a:path w="264" h="280">
                  <a:moveTo>
                    <a:pt x="144" y="40"/>
                  </a:moveTo>
                  <a:cubicBezTo>
                    <a:pt x="204" y="20"/>
                    <a:pt x="264" y="0"/>
                    <a:pt x="240" y="40"/>
                  </a:cubicBezTo>
                  <a:cubicBezTo>
                    <a:pt x="216" y="80"/>
                    <a:pt x="40" y="240"/>
                    <a:pt x="0" y="28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34"/>
          <p:cNvSpPr/>
          <p:nvPr/>
        </p:nvSpPr>
        <p:spPr>
          <a:xfrm>
            <a:off x="2031840" y="144360"/>
            <a:ext cx="671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常见的触电事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R94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R94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5" descr=""/>
          <p:cNvPicPr/>
          <p:nvPr/>
        </p:nvPicPr>
        <p:blipFill>
          <a:blip r:embed="rId1"/>
          <a:stretch/>
        </p:blipFill>
        <p:spPr>
          <a:xfrm>
            <a:off x="252360" y="4726080"/>
            <a:ext cx="8497800" cy="1209600"/>
          </a:xfrm>
          <a:prstGeom prst="rect">
            <a:avLst/>
          </a:prstGeom>
          <a:ln w="0">
            <a:noFill/>
          </a:ln>
        </p:spPr>
      </p:pic>
      <p:grpSp>
        <p:nvGrpSpPr>
          <p:cNvPr id="417" name=""/>
          <p:cNvGrpSpPr/>
          <p:nvPr/>
        </p:nvGrpSpPr>
        <p:grpSpPr>
          <a:xfrm>
            <a:off x="3276720" y="1258920"/>
            <a:ext cx="360" cy="360"/>
            <a:chOff x="3276720" y="1258920"/>
            <a:chExt cx="360" cy="360"/>
          </a:xfrm>
        </p:grpSpPr>
        <p:sp>
          <p:nvSpPr>
            <p:cNvPr id="418" name="Line 43"/>
            <p:cNvSpPr/>
            <p:nvPr/>
          </p:nvSpPr>
          <p:spPr>
            <a:xfrm>
              <a:off x="3276720" y="12589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3276720" y="125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"/>
          <p:cNvGrpSpPr/>
          <p:nvPr/>
        </p:nvGrpSpPr>
        <p:grpSpPr>
          <a:xfrm>
            <a:off x="1115640" y="1052640"/>
            <a:ext cx="5513760" cy="4044960"/>
            <a:chOff x="1115640" y="1052640"/>
            <a:chExt cx="5513760" cy="4044960"/>
          </a:xfrm>
        </p:grpSpPr>
        <p:sp>
          <p:nvSpPr>
            <p:cNvPr id="421" name="Oval 45"/>
            <p:cNvSpPr/>
            <p:nvPr/>
          </p:nvSpPr>
          <p:spPr>
            <a:xfrm>
              <a:off x="5558040" y="1052640"/>
              <a:ext cx="75960" cy="41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6"/>
            <p:cNvGrpSpPr/>
            <p:nvPr/>
          </p:nvGrpSpPr>
          <p:grpSpPr>
            <a:xfrm>
              <a:off x="1115640" y="1052640"/>
              <a:ext cx="5513760" cy="4044960"/>
              <a:chOff x="1115640" y="1052640"/>
              <a:chExt cx="5513760" cy="4044960"/>
            </a:xfrm>
          </p:grpSpPr>
          <p:sp>
            <p:nvSpPr>
              <p:cNvPr id="423" name="Rectangle 40"/>
              <p:cNvSpPr/>
              <p:nvPr/>
            </p:nvSpPr>
            <p:spPr>
              <a:xfrm>
                <a:off x="3581280" y="3931920"/>
                <a:ext cx="2590920" cy="548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4" name="Picture 39" descr=""/>
              <p:cNvPicPr/>
              <p:nvPr/>
            </p:nvPicPr>
            <p:blipFill>
              <a:blip r:embed="rId2"/>
              <a:srcRect l="0" t="17431" r="0" b="0"/>
              <a:stretch/>
            </p:blipFill>
            <p:spPr>
              <a:xfrm>
                <a:off x="4343040" y="1351080"/>
                <a:ext cx="1295280" cy="292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Rectangle 41"/>
              <p:cNvSpPr/>
              <p:nvPr/>
            </p:nvSpPr>
            <p:spPr>
              <a:xfrm>
                <a:off x="4038480" y="4480560"/>
                <a:ext cx="228240" cy="617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42"/>
              <p:cNvSpPr/>
              <p:nvPr/>
            </p:nvSpPr>
            <p:spPr>
              <a:xfrm>
                <a:off x="5181480" y="4480560"/>
                <a:ext cx="228600" cy="617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1115640" y="1052640"/>
                <a:ext cx="5513760" cy="2880"/>
                <a:chOff x="1115640" y="1052640"/>
                <a:chExt cx="5513760" cy="2880"/>
              </a:xfrm>
            </p:grpSpPr>
            <p:sp>
              <p:nvSpPr>
                <p:cNvPr id="428" name="Line 44"/>
                <p:cNvSpPr/>
                <p:nvPr/>
              </p:nvSpPr>
              <p:spPr>
                <a:xfrm flipV="1">
                  <a:off x="1116000" y="1052640"/>
                  <a:ext cx="5513400" cy="28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 txBox="1"/>
                <p:nvPr/>
              </p:nvSpPr>
              <p:spPr>
                <a:xfrm rot="10800000">
                  <a:off x="1115640" y="1052280"/>
                  <a:ext cx="5513400" cy="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3920" bIns="-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1115640" y="1342800"/>
                <a:ext cx="5513760" cy="2880"/>
                <a:chOff x="1115640" y="1342800"/>
                <a:chExt cx="5513760" cy="2880"/>
              </a:xfrm>
            </p:grpSpPr>
            <p:sp>
              <p:nvSpPr>
                <p:cNvPr id="431" name="Line 44"/>
                <p:cNvSpPr/>
                <p:nvPr/>
              </p:nvSpPr>
              <p:spPr>
                <a:xfrm flipV="1">
                  <a:off x="1116000" y="1342800"/>
                  <a:ext cx="5513400" cy="2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 txBox="1"/>
                <p:nvPr/>
              </p:nvSpPr>
              <p:spPr>
                <a:xfrm rot="10800000">
                  <a:off x="1115640" y="1342440"/>
                  <a:ext cx="5513400" cy="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3920" bIns="-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>
    <p:pull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35" descr=""/>
          <p:cNvPicPr/>
          <p:nvPr/>
        </p:nvPicPr>
        <p:blipFill>
          <a:blip r:embed="rId1"/>
          <a:stretch/>
        </p:blipFill>
        <p:spPr>
          <a:xfrm>
            <a:off x="612720" y="4726080"/>
            <a:ext cx="8136000" cy="1209600"/>
          </a:xfrm>
          <a:prstGeom prst="rect">
            <a:avLst/>
          </a:prstGeom>
          <a:ln w="0">
            <a:noFill/>
          </a:ln>
        </p:spPr>
      </p:pic>
      <p:grpSp>
        <p:nvGrpSpPr>
          <p:cNvPr id="434" name="Group 3"/>
          <p:cNvGrpSpPr/>
          <p:nvPr/>
        </p:nvGrpSpPr>
        <p:grpSpPr>
          <a:xfrm>
            <a:off x="1331640" y="1052640"/>
            <a:ext cx="5513760" cy="4044960"/>
            <a:chOff x="1331640" y="1052640"/>
            <a:chExt cx="5513760" cy="4044960"/>
          </a:xfrm>
        </p:grpSpPr>
        <p:sp>
          <p:nvSpPr>
            <p:cNvPr id="435" name="Rectangle 40"/>
            <p:cNvSpPr/>
            <p:nvPr/>
          </p:nvSpPr>
          <p:spPr>
            <a:xfrm>
              <a:off x="3797280" y="3931920"/>
              <a:ext cx="2590920" cy="548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6" name="Picture 39" descr=""/>
            <p:cNvPicPr/>
            <p:nvPr/>
          </p:nvPicPr>
          <p:blipFill>
            <a:blip r:embed="rId2"/>
            <a:srcRect l="0" t="17431" r="0" b="0"/>
            <a:stretch/>
          </p:blipFill>
          <p:spPr>
            <a:xfrm>
              <a:off x="4559040" y="1351080"/>
              <a:ext cx="1295280" cy="292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Rectangle 41"/>
            <p:cNvSpPr/>
            <p:nvPr/>
          </p:nvSpPr>
          <p:spPr>
            <a:xfrm>
              <a:off x="4254480" y="4480560"/>
              <a:ext cx="228240" cy="617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42"/>
            <p:cNvSpPr/>
            <p:nvPr/>
          </p:nvSpPr>
          <p:spPr>
            <a:xfrm>
              <a:off x="5397480" y="4480560"/>
              <a:ext cx="228600" cy="617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1331640" y="1052640"/>
              <a:ext cx="5513760" cy="2880"/>
              <a:chOff x="1331640" y="1052640"/>
              <a:chExt cx="5513760" cy="2880"/>
            </a:xfrm>
          </p:grpSpPr>
          <p:sp>
            <p:nvSpPr>
              <p:cNvPr id="440" name="Line 44"/>
              <p:cNvSpPr/>
              <p:nvPr/>
            </p:nvSpPr>
            <p:spPr>
              <a:xfrm flipV="1">
                <a:off x="1332000" y="1052640"/>
                <a:ext cx="5513400" cy="2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 rot="10800000">
                <a:off x="1331640" y="1052280"/>
                <a:ext cx="55134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1331640" y="1342800"/>
              <a:ext cx="5513760" cy="2880"/>
              <a:chOff x="1331640" y="1342800"/>
              <a:chExt cx="5513760" cy="2880"/>
            </a:xfrm>
          </p:grpSpPr>
          <p:sp>
            <p:nvSpPr>
              <p:cNvPr id="443" name="Line 44"/>
              <p:cNvSpPr/>
              <p:nvPr/>
            </p:nvSpPr>
            <p:spPr>
              <a:xfrm flipV="1">
                <a:off x="1332000" y="1342800"/>
                <a:ext cx="5513400" cy="2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 rot="10800000">
                <a:off x="1331640" y="1342440"/>
                <a:ext cx="55134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pull dir="r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179280" y="1341360"/>
            <a:ext cx="85568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触电是怎么回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低压触电有哪几种方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1804320" y="206208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过大电流通过人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1103400" y="2781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低压触电的原因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1120680" y="3429000"/>
            <a:ext cx="60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体接触火线并构成了通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2031840" y="144360"/>
            <a:ext cx="63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常见的触电事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Box 4"/>
          <p:cNvSpPr/>
          <p:nvPr/>
        </p:nvSpPr>
        <p:spPr>
          <a:xfrm>
            <a:off x="324000" y="5878440"/>
            <a:ext cx="4016160" cy="75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宋体"/>
              </a:rPr>
              <a:t>人体接触火线、零线</a:t>
            </a:r>
            <a:r>
              <a:rPr b="1" lang="zh-CN" sz="2800" spc="-1" strike="noStrike">
                <a:solidFill>
                  <a:srgbClr val="e4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4"/>
          <p:cNvSpPr/>
          <p:nvPr/>
        </p:nvSpPr>
        <p:spPr>
          <a:xfrm>
            <a:off x="4789440" y="5950080"/>
            <a:ext cx="4248360" cy="75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宋体"/>
              </a:rPr>
              <a:t>人体接触火线、大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395280" y="1125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低压触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4"/>
          <p:cNvSpPr/>
          <p:nvPr/>
        </p:nvSpPr>
        <p:spPr>
          <a:xfrm>
            <a:off x="2484360" y="117360"/>
            <a:ext cx="2664000" cy="76428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触电种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6" descr="BU2$%0)JV7`X8[E$49H0~AO"/>
          <p:cNvPicPr/>
          <p:nvPr/>
        </p:nvPicPr>
        <p:blipFill>
          <a:blip r:embed="rId1"/>
          <a:stretch/>
        </p:blipFill>
        <p:spPr>
          <a:xfrm>
            <a:off x="1117440" y="1844640"/>
            <a:ext cx="3095640" cy="41083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BU2$%0)JV7`X8[E$49H0~AO"/>
          <p:cNvPicPr/>
          <p:nvPr/>
        </p:nvPicPr>
        <p:blipFill>
          <a:blip r:embed="rId2"/>
          <a:stretch/>
        </p:blipFill>
        <p:spPr>
          <a:xfrm>
            <a:off x="4968720" y="1917720"/>
            <a:ext cx="2988000" cy="3995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9"/>
          <p:cNvSpPr/>
          <p:nvPr/>
        </p:nvSpPr>
        <p:spPr>
          <a:xfrm>
            <a:off x="8245440" y="2781360"/>
            <a:ext cx="358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单线触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179280" y="2781360"/>
            <a:ext cx="68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双线触电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875040" y="1125360"/>
            <a:ext cx="24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单线触电和双线触电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3"/>
          <p:cNvSpPr/>
          <p:nvPr/>
        </p:nvSpPr>
        <p:spPr>
          <a:xfrm>
            <a:off x="-354600" y="3573360"/>
            <a:ext cx="13993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双线触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ShockwaveFlash1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56108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3"/>
          <p:cNvSpPr/>
          <p:nvPr/>
        </p:nvSpPr>
        <p:spPr>
          <a:xfrm>
            <a:off x="-354600" y="3716280"/>
            <a:ext cx="13993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单线触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ShockwaveFlash1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416720" cy="55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2340000" y="549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755640" y="184464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知道电压越高越危险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了解导致触电的原因，知道安全用电的原则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了解雷电的危害及避雷针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4"/>
          <p:cNvSpPr/>
          <p:nvPr/>
        </p:nvSpPr>
        <p:spPr>
          <a:xfrm>
            <a:off x="396720" y="177336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e40000"/>
                </a:solidFill>
                <a:latin typeface="宋体"/>
              </a:rPr>
              <a:t>高压电弧触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与高压带电体距离到一定值时，高压带电体与人体之间会发生放电现象，导致触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24000" y="392904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e40000"/>
                </a:solidFill>
                <a:latin typeface="宋体"/>
              </a:rPr>
              <a:t>跨步电压触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电线落在地面上时，在距高压线不同距离的点之间存在电压。人的两脚间存在足够大的电压时，就会发生跨步电压触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6" descr="883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724360" y="981000"/>
            <a:ext cx="3295800" cy="27370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image005"/>
          <p:cNvPicPr/>
          <p:nvPr/>
        </p:nvPicPr>
        <p:blipFill>
          <a:blip r:embed="rId2"/>
          <a:stretch/>
        </p:blipFill>
        <p:spPr>
          <a:xfrm>
            <a:off x="5684760" y="3789360"/>
            <a:ext cx="3281400" cy="2879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6"/>
          <p:cNvSpPr/>
          <p:nvPr/>
        </p:nvSpPr>
        <p:spPr>
          <a:xfrm>
            <a:off x="431640" y="74916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高压触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4"/>
          <p:cNvSpPr/>
          <p:nvPr/>
        </p:nvSpPr>
        <p:spPr>
          <a:xfrm>
            <a:off x="5437080" y="5670720"/>
            <a:ext cx="3382920" cy="751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宋体"/>
              </a:rPr>
              <a:t>跨步电压触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1050840" y="5668920"/>
            <a:ext cx="2052720" cy="751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宋体"/>
              </a:rPr>
              <a:t>电弧触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2268360" y="4046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高压触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5" descr="H{14L1CN(}UKR]NDK)(J2_W"/>
          <p:cNvPicPr/>
          <p:nvPr/>
        </p:nvPicPr>
        <p:blipFill>
          <a:blip r:embed="rId1"/>
          <a:stretch/>
        </p:blipFill>
        <p:spPr>
          <a:xfrm>
            <a:off x="4427640" y="584280"/>
            <a:ext cx="4187880" cy="48877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`6624ACYH89H[3_G[FR[1RD"/>
          <p:cNvPicPr/>
          <p:nvPr/>
        </p:nvPicPr>
        <p:blipFill>
          <a:blip r:embed="rId2"/>
          <a:stretch/>
        </p:blipFill>
        <p:spPr>
          <a:xfrm>
            <a:off x="431640" y="1268280"/>
            <a:ext cx="3760920" cy="40687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牛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332000" y="1413000"/>
            <a:ext cx="6476760" cy="460368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3"/>
          <p:cNvSpPr/>
          <p:nvPr/>
        </p:nvSpPr>
        <p:spPr>
          <a:xfrm>
            <a:off x="3708360" y="2602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怎  么  了  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2174760" y="3333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TMP35"/>
          <p:cNvPicPr/>
          <p:nvPr/>
        </p:nvPicPr>
        <p:blipFill>
          <a:blip r:embed="rId1"/>
          <a:stretch/>
        </p:blipFill>
        <p:spPr>
          <a:xfrm>
            <a:off x="2484360" y="1773360"/>
            <a:ext cx="6659640" cy="50846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5"/>
          <p:cNvSpPr/>
          <p:nvPr/>
        </p:nvSpPr>
        <p:spPr>
          <a:xfrm>
            <a:off x="1046880" y="2060640"/>
            <a:ext cx="1094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cc"/>
                </a:solidFill>
                <a:latin typeface="Times New Roman"/>
                <a:ea typeface="方正舒体"/>
              </a:rPr>
              <a:t>怎么办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1619280" y="54936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想一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真实触电1"/>
          <p:cNvPicPr/>
          <p:nvPr/>
        </p:nvPicPr>
        <p:blipFill>
          <a:blip r:embed="rId1"/>
          <a:stretch/>
        </p:blipFill>
        <p:spPr>
          <a:xfrm>
            <a:off x="1066680" y="0"/>
            <a:ext cx="7394760" cy="579132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3"/>
          <p:cNvSpPr/>
          <p:nvPr/>
        </p:nvSpPr>
        <p:spPr>
          <a:xfrm>
            <a:off x="1219320" y="5638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612720" y="586728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人无事爬上电线杆，头部已经被电流烧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" descr="fzjm-11"/>
          <p:cNvPicPr/>
          <p:nvPr/>
        </p:nvPicPr>
        <p:blipFill>
          <a:blip r:embed="rId1"/>
          <a:stretch/>
        </p:blipFill>
        <p:spPr>
          <a:xfrm>
            <a:off x="4933800" y="262080"/>
            <a:ext cx="3886200" cy="612288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4000" y="406440"/>
            <a:ext cx="3384360" cy="79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触目惊心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95280" y="1485720"/>
            <a:ext cx="396072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1f4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据权威部门统计：我国每年因各类触电事故死亡人数达万人以上，因触电造成的伤残人数更是达到了十几万人，这其中青少年是最大的受害者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dur="indefinite" nodeType="afterEffect" fill="hold" presetClass="entr" presetID="1">
                                  <p:stCondLst>
                                    <p:cond delay="3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1258920" y="2852640"/>
            <a:ext cx="647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不接触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低压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带电体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547640" y="692280"/>
            <a:ext cx="56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  <a:ea typeface="隶书"/>
              </a:rPr>
              <a:t>安全用电原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1332000" y="4508640"/>
            <a:ext cx="704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不靠近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高压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带电体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3" descr="TMP4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4437000"/>
            <a:ext cx="3059280" cy="23036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水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492360" y="4467240"/>
            <a:ext cx="2990880" cy="2390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5" descr="TMP38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732720" y="4508640"/>
            <a:ext cx="2151000" cy="23493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7" descr="page-0118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468360" y="692280"/>
            <a:ext cx="7993080" cy="374652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8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想想议议”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常工作和生活中哪些情况可能会引起触电呢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2"/>
          <p:cNvSpPr/>
          <p:nvPr/>
        </p:nvSpPr>
        <p:spPr>
          <a:xfrm>
            <a:off x="324000" y="476280"/>
            <a:ext cx="784836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10800" bIns="10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755640" y="2997360"/>
            <a:ext cx="360036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10800" bIns="10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Object 5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" descr="32"/>
          <p:cNvPicPr/>
          <p:nvPr/>
        </p:nvPicPr>
        <p:blipFill>
          <a:blip r:embed="rId3"/>
          <a:stretch/>
        </p:blipFill>
        <p:spPr>
          <a:xfrm>
            <a:off x="431640" y="816120"/>
            <a:ext cx="8352000" cy="5421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3330720" cy="330516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3"/>
          <p:cNvSpPr/>
          <p:nvPr/>
        </p:nvSpPr>
        <p:spPr>
          <a:xfrm>
            <a:off x="325440" y="549360"/>
            <a:ext cx="5040360" cy="63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家庭电路中防止触电措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2"/>
          <a:stretch/>
        </p:blipFill>
        <p:spPr>
          <a:xfrm>
            <a:off x="746280" y="3878280"/>
            <a:ext cx="1833480" cy="24289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"/>
          <p:cNvPicPr/>
          <p:nvPr/>
        </p:nvPicPr>
        <p:blipFill>
          <a:blip r:embed="rId3"/>
          <a:stretch/>
        </p:blipFill>
        <p:spPr>
          <a:xfrm>
            <a:off x="3086280" y="3924360"/>
            <a:ext cx="1368360" cy="23860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7"/>
          <p:cNvSpPr/>
          <p:nvPr/>
        </p:nvSpPr>
        <p:spPr>
          <a:xfrm>
            <a:off x="982800" y="1736640"/>
            <a:ext cx="6372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关必须接在火线上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螺丝口灯泡，尾部接火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金属外壳的电器，外壳要接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2771640" y="4428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电的危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24000" y="510552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懂得安全用电知识就容易造成触电身亡、电气火灾、电器损坏等意外事故，所以， “安全用电，性命攸关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u=2204836390,3286979762&amp;fm=21&amp;gp=0[1]"/>
          <p:cNvPicPr/>
          <p:nvPr/>
        </p:nvPicPr>
        <p:blipFill>
          <a:blip r:embed="rId1"/>
          <a:stretch/>
        </p:blipFill>
        <p:spPr>
          <a:xfrm>
            <a:off x="539640" y="1198440"/>
            <a:ext cx="3241800" cy="35290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2008071214335617[1]"/>
          <p:cNvPicPr/>
          <p:nvPr/>
        </p:nvPicPr>
        <p:blipFill>
          <a:blip r:embed="rId2"/>
          <a:stretch/>
        </p:blipFill>
        <p:spPr>
          <a:xfrm>
            <a:off x="4356000" y="909720"/>
            <a:ext cx="403236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026"/>
          <p:cNvSpPr/>
          <p:nvPr/>
        </p:nvSpPr>
        <p:spPr>
          <a:xfrm>
            <a:off x="457200" y="1828800"/>
            <a:ext cx="843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本来不应该带电的物体带了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30"/>
          <p:cNvSpPr/>
          <p:nvPr/>
        </p:nvSpPr>
        <p:spPr>
          <a:xfrm>
            <a:off x="1523880" y="762120"/>
            <a:ext cx="403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应警惕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31"/>
          <p:cNvSpPr/>
          <p:nvPr/>
        </p:nvSpPr>
        <p:spPr>
          <a:xfrm>
            <a:off x="457200" y="3809880"/>
            <a:ext cx="829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本来绝缘的，由于  绝缘破损而导了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4111560" y="1557360"/>
            <a:ext cx="5032440" cy="4994280"/>
            <a:chOff x="4111560" y="1557360"/>
            <a:chExt cx="5032440" cy="4994280"/>
          </a:xfrm>
        </p:grpSpPr>
        <p:grpSp>
          <p:nvGrpSpPr>
            <p:cNvPr id="510" name=""/>
            <p:cNvGrpSpPr/>
            <p:nvPr/>
          </p:nvGrpSpPr>
          <p:grpSpPr>
            <a:xfrm>
              <a:off x="4767480" y="1653480"/>
              <a:ext cx="4011480" cy="360"/>
              <a:chOff x="4767480" y="1653480"/>
              <a:chExt cx="4011480" cy="360"/>
            </a:xfrm>
          </p:grpSpPr>
          <p:sp>
            <p:nvSpPr>
              <p:cNvPr id="511" name="Line 5"/>
              <p:cNvSpPr/>
              <p:nvPr/>
            </p:nvSpPr>
            <p:spPr>
              <a:xfrm>
                <a:off x="4767480" y="1653480"/>
                <a:ext cx="40114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4767480" y="1653480"/>
                <a:ext cx="4011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3" name="Object 6" descr=""/>
            <p:cNvPicPr/>
            <p:nvPr/>
          </p:nvPicPr>
          <p:blipFill>
            <a:blip r:embed="rId1"/>
            <a:stretch/>
          </p:blipFill>
          <p:spPr>
            <a:xfrm>
              <a:off x="4111560" y="5011920"/>
              <a:ext cx="503244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Object 7" descr=""/>
            <p:cNvPicPr/>
            <p:nvPr/>
          </p:nvPicPr>
          <p:blipFill>
            <a:blip r:embed="rId2"/>
            <a:stretch/>
          </p:blipFill>
          <p:spPr>
            <a:xfrm>
              <a:off x="5220000" y="1557360"/>
              <a:ext cx="2625840" cy="429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未知"/>
          <p:cNvSpPr/>
          <p:nvPr/>
        </p:nvSpPr>
        <p:spPr>
          <a:xfrm>
            <a:off x="6591240" y="1654200"/>
            <a:ext cx="73080" cy="38268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8" y="84"/>
                  <a:pt x="8" y="168"/>
                  <a:pt x="0" y="192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未知"/>
          <p:cNvSpPr/>
          <p:nvPr/>
        </p:nvSpPr>
        <p:spPr>
          <a:xfrm>
            <a:off x="6056280" y="2325600"/>
            <a:ext cx="534960" cy="3454560"/>
          </a:xfrm>
          <a:custGeom>
            <a:avLst/>
            <a:gdLst/>
            <a:ahLst/>
            <a:rect l="l" t="t" r="r" b="b"/>
            <a:pathLst>
              <a:path w="352" h="1728">
                <a:moveTo>
                  <a:pt x="352" y="0"/>
                </a:moveTo>
                <a:cubicBezTo>
                  <a:pt x="336" y="44"/>
                  <a:pt x="320" y="88"/>
                  <a:pt x="304" y="144"/>
                </a:cubicBezTo>
                <a:cubicBezTo>
                  <a:pt x="288" y="200"/>
                  <a:pt x="272" y="280"/>
                  <a:pt x="256" y="336"/>
                </a:cubicBezTo>
                <a:cubicBezTo>
                  <a:pt x="240" y="392"/>
                  <a:pt x="232" y="440"/>
                  <a:pt x="208" y="480"/>
                </a:cubicBezTo>
                <a:cubicBezTo>
                  <a:pt x="184" y="520"/>
                  <a:pt x="128" y="528"/>
                  <a:pt x="112" y="576"/>
                </a:cubicBezTo>
                <a:cubicBezTo>
                  <a:pt x="96" y="624"/>
                  <a:pt x="128" y="688"/>
                  <a:pt x="112" y="768"/>
                </a:cubicBezTo>
                <a:cubicBezTo>
                  <a:pt x="96" y="848"/>
                  <a:pt x="0" y="976"/>
                  <a:pt x="16" y="1056"/>
                </a:cubicBezTo>
                <a:cubicBezTo>
                  <a:pt x="32" y="1136"/>
                  <a:pt x="176" y="1192"/>
                  <a:pt x="208" y="1248"/>
                </a:cubicBezTo>
                <a:cubicBezTo>
                  <a:pt x="240" y="1304"/>
                  <a:pt x="216" y="1352"/>
                  <a:pt x="208" y="1392"/>
                </a:cubicBezTo>
                <a:cubicBezTo>
                  <a:pt x="200" y="1432"/>
                  <a:pt x="184" y="1456"/>
                  <a:pt x="160" y="1488"/>
                </a:cubicBezTo>
                <a:cubicBezTo>
                  <a:pt x="136" y="1520"/>
                  <a:pt x="72" y="1552"/>
                  <a:pt x="64" y="1584"/>
                </a:cubicBezTo>
                <a:cubicBezTo>
                  <a:pt x="56" y="1616"/>
                  <a:pt x="96" y="1656"/>
                  <a:pt x="112" y="1680"/>
                </a:cubicBezTo>
                <a:cubicBezTo>
                  <a:pt x="128" y="1704"/>
                  <a:pt x="144" y="1720"/>
                  <a:pt x="160" y="1728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未知"/>
          <p:cNvSpPr/>
          <p:nvPr/>
        </p:nvSpPr>
        <p:spPr>
          <a:xfrm>
            <a:off x="5788080" y="4435560"/>
            <a:ext cx="291960" cy="1247760"/>
          </a:xfrm>
          <a:custGeom>
            <a:avLst/>
            <a:gdLst/>
            <a:ahLst/>
            <a:rect l="l" t="t" r="r" b="b"/>
            <a:pathLst>
              <a:path w="192" h="624">
                <a:moveTo>
                  <a:pt x="192" y="0"/>
                </a:moveTo>
                <a:cubicBezTo>
                  <a:pt x="136" y="20"/>
                  <a:pt x="80" y="40"/>
                  <a:pt x="48" y="96"/>
                </a:cubicBezTo>
                <a:cubicBezTo>
                  <a:pt x="16" y="152"/>
                  <a:pt x="0" y="280"/>
                  <a:pt x="0" y="336"/>
                </a:cubicBezTo>
                <a:cubicBezTo>
                  <a:pt x="0" y="392"/>
                  <a:pt x="40" y="384"/>
                  <a:pt x="48" y="432"/>
                </a:cubicBezTo>
                <a:cubicBezTo>
                  <a:pt x="56" y="480"/>
                  <a:pt x="48" y="592"/>
                  <a:pt x="48" y="624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469800" y="1628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种方法行吗 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468360" y="24922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该怎么办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3"/>
          <p:cNvSpPr/>
          <p:nvPr/>
        </p:nvSpPr>
        <p:spPr>
          <a:xfrm>
            <a:off x="1956960" y="247680"/>
            <a:ext cx="54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现有人触电时又应该怎么办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395280" y="3357720"/>
            <a:ext cx="495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首先‗‗‗‗‗‗‗，然后进行抢救。绝对‗‗‗‗‗用手直接拉触电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3"/>
          <p:cNvSpPr/>
          <p:nvPr/>
        </p:nvSpPr>
        <p:spPr>
          <a:xfrm>
            <a:off x="2378520" y="335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宋体"/>
              </a:rPr>
              <a:t>切断电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4"/>
          <p:cNvSpPr/>
          <p:nvPr/>
        </p:nvSpPr>
        <p:spPr>
          <a:xfrm>
            <a:off x="3768120" y="386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宋体"/>
              </a:rPr>
              <a:t>不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676440" y="901800"/>
            <a:ext cx="7772400" cy="5102280"/>
            <a:chOff x="676440" y="901800"/>
            <a:chExt cx="7772400" cy="5102280"/>
          </a:xfrm>
        </p:grpSpPr>
        <p:pic>
          <p:nvPicPr>
            <p:cNvPr id="525" name="Text Box 2" descr=""/>
            <p:cNvPicPr/>
            <p:nvPr/>
          </p:nvPicPr>
          <p:blipFill>
            <a:blip r:embed="rId1"/>
            <a:stretch/>
          </p:blipFill>
          <p:spPr>
            <a:xfrm>
              <a:off x="676440" y="901800"/>
              <a:ext cx="77724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Text Box 4"/>
            <p:cNvSpPr/>
            <p:nvPr/>
          </p:nvSpPr>
          <p:spPr>
            <a:xfrm rot="10800000">
              <a:off x="684000" y="907920"/>
              <a:ext cx="7761240" cy="50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5"/>
          <p:cNvGrpSpPr/>
          <p:nvPr/>
        </p:nvGrpSpPr>
        <p:grpSpPr>
          <a:xfrm>
            <a:off x="1187280" y="404640"/>
            <a:ext cx="6750000" cy="838080"/>
            <a:chOff x="1187280" y="404640"/>
            <a:chExt cx="6750000" cy="838080"/>
          </a:xfrm>
        </p:grpSpPr>
        <p:sp>
          <p:nvSpPr>
            <p:cNvPr id="528" name="AutoShape 4"/>
            <p:cNvSpPr/>
            <p:nvPr/>
          </p:nvSpPr>
          <p:spPr>
            <a:xfrm>
              <a:off x="1187280" y="404640"/>
              <a:ext cx="6750000" cy="838080"/>
            </a:xfrm>
            <a:custGeom>
              <a:avLst/>
              <a:gdLst>
                <a:gd name="textAreaLeft" fmla="*/ 1687320 w 6750000"/>
                <a:gd name="textAreaRight" fmla="*/ 5062680 w 6750000"/>
                <a:gd name="textAreaTop" fmla="*/ 10476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3002400" y="642600"/>
              <a:ext cx="310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cc"/>
                  </a:solidFill>
                  <a:latin typeface="Arial"/>
                  <a:ea typeface="黑体"/>
                </a:rPr>
                <a:t>触电的急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0" name="Picture 6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754440" cy="29163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3887640" cy="29638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9"/>
          <p:cNvSpPr/>
          <p:nvPr/>
        </p:nvSpPr>
        <p:spPr>
          <a:xfrm>
            <a:off x="519120" y="4797360"/>
            <a:ext cx="83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结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触电的急救方法，首先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切断电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或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用绝缘棒挑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电线，绝对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不能用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直接拉触电者，必要时进行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人工呼吸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4960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防止触电事故的发生，你认为家庭用电过程中应注意哪些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WordArt 3"/>
          <p:cNvSpPr txBox="1"/>
          <p:nvPr/>
        </p:nvSpPr>
        <p:spPr>
          <a:xfrm>
            <a:off x="324000" y="1052640"/>
            <a:ext cx="201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交流讨论：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87280" y="3429000"/>
            <a:ext cx="85694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◆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不接触低压带电体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不靠近高压带电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◆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更换灯泡，搬动电器前应断开电源开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◆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不弄湿用电器，不损坏绝缘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◆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保险装置、插座、导线、家用电器等达到使用寿命应及时更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2949840" y="2708280"/>
            <a:ext cx="251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安全用电原则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2050920" y="26028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三、安全用电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4"/>
          <p:cNvSpPr/>
          <p:nvPr/>
        </p:nvSpPr>
        <p:spPr>
          <a:xfrm>
            <a:off x="468360" y="1557360"/>
            <a:ext cx="8207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谈谈自己家庭或学校有没有违反安全用电的地方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2050920" y="26028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三、安全用电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468360" y="4437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因电线短路而失火，能否立即用水灭火？为什么？应该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92160" y="2778120"/>
            <a:ext cx="8961480" cy="1295280"/>
            <a:chOff x="92160" y="2778120"/>
            <a:chExt cx="8961480" cy="1295280"/>
          </a:xfrm>
        </p:grpSpPr>
        <p:sp>
          <p:nvSpPr>
            <p:cNvPr id="543" name="Rectangle 5"/>
            <p:cNvSpPr/>
            <p:nvPr/>
          </p:nvSpPr>
          <p:spPr>
            <a:xfrm>
              <a:off x="92160" y="2778120"/>
              <a:ext cx="4351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6"/>
            <p:cNvSpPr/>
            <p:nvPr/>
          </p:nvSpPr>
          <p:spPr>
            <a:xfrm>
              <a:off x="92160" y="2778120"/>
              <a:ext cx="89614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0066cc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1" lang="zh-CN" sz="7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Text Box 10"/>
          <p:cNvSpPr/>
          <p:nvPr/>
        </p:nvSpPr>
        <p:spPr>
          <a:xfrm>
            <a:off x="395280" y="1052640"/>
            <a:ext cx="8497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考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雷雨天气，你在家里看电视，大人会要求你把电视关掉，特别是有室外天线的电视机，还特意要提醒你将室外天线拔掉，这是为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9" descr="f21e375343b9e3ba"/>
          <p:cNvPicPr/>
          <p:nvPr/>
        </p:nvPicPr>
        <p:blipFill>
          <a:blip r:embed="rId2"/>
          <a:stretch/>
        </p:blipFill>
        <p:spPr>
          <a:xfrm>
            <a:off x="5724360" y="2925720"/>
            <a:ext cx="3054600" cy="378936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2"/>
          <p:cNvSpPr/>
          <p:nvPr/>
        </p:nvSpPr>
        <p:spPr>
          <a:xfrm>
            <a:off x="2484360" y="11736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四、注意防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395280" y="3573360"/>
            <a:ext cx="527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教材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和教材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雷电是一种什么现象？有哪些危害？应该如何防雷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"/>
          <p:cNvPicPr/>
          <p:nvPr/>
        </p:nvPicPr>
        <p:blipFill>
          <a:blip r:embed="rId3"/>
          <a:stretch/>
        </p:blipFill>
        <p:spPr>
          <a:xfrm>
            <a:off x="5653080" y="2852640"/>
            <a:ext cx="301788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1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Object 4" descr=""/>
          <p:cNvPicPr/>
          <p:nvPr/>
        </p:nvPicPr>
        <p:blipFill>
          <a:blip r:embed="rId1"/>
          <a:stretch/>
        </p:blipFill>
        <p:spPr>
          <a:xfrm>
            <a:off x="6041880" y="1341360"/>
            <a:ext cx="3102120" cy="439272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2627280" y="26028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四、注意防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395280" y="1052640"/>
            <a:ext cx="5627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电是大气中一种剧烈的放电现象。云层之间、云层和大地之间的电压可达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百万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亿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放电时的电流可达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万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几万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产生很强的光和声。云层和大地之间的放电如果通过人体，能够立即致人死亡，如果通过树木、建筑物，巨大的热量和空气的振动都会使它们受到严重的破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ShockwaveFlash1" descr=""/>
          <p:cNvPicPr/>
          <p:nvPr/>
        </p:nvPicPr>
        <p:blipFill>
          <a:blip r:embed="rId1"/>
          <a:stretch/>
        </p:blipFill>
        <p:spPr>
          <a:xfrm>
            <a:off x="320760" y="262080"/>
            <a:ext cx="828360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5"/>
          <p:cNvPicPr/>
          <p:nvPr/>
        </p:nvPicPr>
        <p:blipFill>
          <a:blip r:embed="rId1"/>
          <a:stretch/>
        </p:blipFill>
        <p:spPr>
          <a:xfrm>
            <a:off x="4429080" y="3573360"/>
            <a:ext cx="4572000" cy="313380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5"/>
          <p:cNvSpPr/>
          <p:nvPr/>
        </p:nvSpPr>
        <p:spPr>
          <a:xfrm>
            <a:off x="2627280" y="26028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四、注意防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0" y="1052640"/>
            <a:ext cx="876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雷电可把建筑物摧毁，使易燃易爆物体燃烧或爆炸，使电器设备的绝缘击穿、烧毁，造成人畜伤亡等等。凡是在地面上突起的建筑或设施，都有遭受雷击的危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"/>
          <p:cNvSpPr/>
          <p:nvPr/>
        </p:nvSpPr>
        <p:spPr>
          <a:xfrm>
            <a:off x="719280" y="17208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应该留在室内，关好门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792000" y="23623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减少使用电话和手提电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71440" y="29718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切勿游泳或从事水上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609480" y="36576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不要站在山顶及空旷场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1262160" y="4267080"/>
            <a:ext cx="7272360" cy="11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5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应远离高大树木和桅杆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在空旷场地不宜打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487440" y="53341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6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不宜开摩托车、骑自行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1619280" y="1052640"/>
            <a:ext cx="57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在生活中如何防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2627280" y="26028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四、注意防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07844"/>
          <p:cNvPicPr/>
          <p:nvPr/>
        </p:nvPicPr>
        <p:blipFill>
          <a:blip r:embed="rId1"/>
          <a:stretch/>
        </p:blipFill>
        <p:spPr>
          <a:xfrm>
            <a:off x="3203640" y="1486080"/>
            <a:ext cx="2736720" cy="2376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3213780_154523018024_2"/>
          <p:cNvPicPr/>
          <p:nvPr/>
        </p:nvPicPr>
        <p:blipFill>
          <a:blip r:embed="rId2"/>
          <a:stretch/>
        </p:blipFill>
        <p:spPr>
          <a:xfrm>
            <a:off x="6084720" y="1413000"/>
            <a:ext cx="2808360" cy="2447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2009040747514125"/>
          <p:cNvPicPr/>
          <p:nvPr/>
        </p:nvPicPr>
        <p:blipFill>
          <a:blip r:embed="rId3"/>
          <a:stretch/>
        </p:blipFill>
        <p:spPr>
          <a:xfrm>
            <a:off x="685800" y="1413000"/>
            <a:ext cx="2340000" cy="23050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8"/>
          <p:cNvSpPr/>
          <p:nvPr/>
        </p:nvSpPr>
        <p:spPr>
          <a:xfrm>
            <a:off x="684360" y="117360"/>
            <a:ext cx="815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你们见过这些标志吗？你知道这些标志的意思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900000" y="4149720"/>
            <a:ext cx="683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为什么电压越高越危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755640" y="5157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为什么下雨时不能在大树下避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6"/>
          <p:cNvSpPr/>
          <p:nvPr/>
        </p:nvSpPr>
        <p:spPr>
          <a:xfrm>
            <a:off x="468360" y="1268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高大建筑物的顶部都有针状的金属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通过很粗的金属线与大地相连，可以防雷，叫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避雷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0" descr="2008829573974983"/>
          <p:cNvPicPr/>
          <p:nvPr/>
        </p:nvPicPr>
        <p:blipFill>
          <a:blip r:embed="rId1"/>
          <a:stretch/>
        </p:blipFill>
        <p:spPr>
          <a:xfrm>
            <a:off x="0" y="3716280"/>
            <a:ext cx="2971800" cy="27590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cp08b"/>
          <p:cNvPicPr/>
          <p:nvPr/>
        </p:nvPicPr>
        <p:blipFill>
          <a:blip r:embed="rId2"/>
          <a:stretch/>
        </p:blipFill>
        <p:spPr>
          <a:xfrm>
            <a:off x="6659640" y="3500280"/>
            <a:ext cx="1962000" cy="28576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201198104170"/>
          <p:cNvPicPr/>
          <p:nvPr/>
        </p:nvPicPr>
        <p:blipFill>
          <a:blip r:embed="rId3"/>
          <a:stretch/>
        </p:blipFill>
        <p:spPr>
          <a:xfrm>
            <a:off x="3276720" y="3573360"/>
            <a:ext cx="2743200" cy="289584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7"/>
          <p:cNvSpPr/>
          <p:nvPr/>
        </p:nvSpPr>
        <p:spPr>
          <a:xfrm>
            <a:off x="2627280" y="26028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四、注意防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9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4572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572" name="Group 3"/>
          <p:cNvGrpSpPr/>
          <p:nvPr/>
        </p:nvGrpSpPr>
        <p:grpSpPr>
          <a:xfrm>
            <a:off x="-22320" y="1031760"/>
            <a:ext cx="9131400" cy="5756400"/>
            <a:chOff x="-22320" y="1031760"/>
            <a:chExt cx="9131400" cy="5756400"/>
          </a:xfrm>
        </p:grpSpPr>
        <p:pic>
          <p:nvPicPr>
            <p:cNvPr id="573" name="Picture 12" descr=""/>
            <p:cNvPicPr/>
            <p:nvPr/>
          </p:nvPicPr>
          <p:blipFill>
            <a:blip r:embed="rId2"/>
            <a:stretch/>
          </p:blipFill>
          <p:spPr>
            <a:xfrm>
              <a:off x="-22320" y="1031760"/>
              <a:ext cx="9131400" cy="45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13"/>
            <p:cNvSpPr/>
            <p:nvPr/>
          </p:nvSpPr>
          <p:spPr>
            <a:xfrm>
              <a:off x="3073680" y="5756040"/>
              <a:ext cx="35416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74640" indent="-674640"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HY헤드라인M"/>
                  <a:ea typeface="HY헤드라인M"/>
                </a:rPr>
                <a:t>新式的避雷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Text Box 7"/>
          <p:cNvSpPr/>
          <p:nvPr/>
        </p:nvSpPr>
        <p:spPr>
          <a:xfrm>
            <a:off x="2627280" y="2602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四、注意防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611280" y="558972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我国古代建筑上的龙角形铁制装饰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9" descr="807421673133"/>
          <p:cNvPicPr/>
          <p:nvPr/>
        </p:nvPicPr>
        <p:blipFill>
          <a:blip r:embed="rId1"/>
          <a:stretch/>
        </p:blipFill>
        <p:spPr>
          <a:xfrm>
            <a:off x="2268360" y="1236600"/>
            <a:ext cx="4896000" cy="391788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4"/>
          <p:cNvSpPr/>
          <p:nvPr/>
        </p:nvSpPr>
        <p:spPr>
          <a:xfrm>
            <a:off x="2627280" y="26028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四、注意防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4"/>
          <p:cNvSpPr/>
          <p:nvPr/>
        </p:nvSpPr>
        <p:spPr>
          <a:xfrm>
            <a:off x="2627280" y="2602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四、注意防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pic_255822"/>
          <p:cNvPicPr/>
          <p:nvPr/>
        </p:nvPicPr>
        <p:blipFill>
          <a:blip r:embed="rId1"/>
          <a:stretch/>
        </p:blipFill>
        <p:spPr>
          <a:xfrm>
            <a:off x="5076720" y="1268280"/>
            <a:ext cx="3573720" cy="55897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8"/>
          <p:cNvPicPr/>
          <p:nvPr/>
        </p:nvPicPr>
        <p:blipFill>
          <a:blip r:embed="rId2"/>
          <a:stretch/>
        </p:blipFill>
        <p:spPr>
          <a:xfrm>
            <a:off x="684360" y="1341360"/>
            <a:ext cx="3958920" cy="29336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7"/>
          <p:cNvSpPr/>
          <p:nvPr/>
        </p:nvSpPr>
        <p:spPr>
          <a:xfrm>
            <a:off x="250920" y="4869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现代建筑物上的避雷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5"/>
          <p:cNvSpPr/>
          <p:nvPr/>
        </p:nvSpPr>
        <p:spPr>
          <a:xfrm>
            <a:off x="1066680" y="52578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高压输电铁塔最上面的两条防雷的导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8" descr="807605854202"/>
          <p:cNvPicPr/>
          <p:nvPr/>
        </p:nvPicPr>
        <p:blipFill>
          <a:blip r:embed="rId1"/>
          <a:stretch/>
        </p:blipFill>
        <p:spPr>
          <a:xfrm>
            <a:off x="1619280" y="1190520"/>
            <a:ext cx="5832360" cy="375120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5"/>
          <p:cNvSpPr/>
          <p:nvPr/>
        </p:nvSpPr>
        <p:spPr>
          <a:xfrm>
            <a:off x="2627280" y="26028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四、注意防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2195640" y="117360"/>
            <a:ext cx="3887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4640" indent="-67464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雷电的好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-455760" y="981000"/>
            <a:ext cx="956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4640" indent="-6746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生命起源的过程中，雷电起到了重要的作用。洪荒时期，火山喷发的大量气体，在紫外线、宇宙空间辐射的作用和强烈的</a:t>
            </a:r>
            <a:r>
              <a:rPr b="1" lang="zh-CN" sz="2400" spc="-1" strike="noStrike">
                <a:solidFill>
                  <a:srgbClr val="e40000"/>
                </a:solidFill>
                <a:latin typeface="黑体"/>
                <a:ea typeface="黑体"/>
              </a:rPr>
              <a:t>雷击下，产生了氨基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而使具有复制和繁殖能力的原始生命终于慢慢产生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e40000"/>
                </a:solidFill>
                <a:latin typeface="黑体"/>
                <a:ea typeface="黑体"/>
              </a:rPr>
              <a:t>雷电给人类带来了火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由于雷击造成森林起火，启发了我们的祖先学会用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，</a:t>
            </a:r>
            <a:r>
              <a:rPr b="1" lang="zh-CN" sz="2400" spc="-1" strike="noStrike">
                <a:solidFill>
                  <a:srgbClr val="e40000"/>
                </a:solidFill>
                <a:latin typeface="黑体"/>
                <a:ea typeface="黑体"/>
              </a:rPr>
              <a:t>雷电能净化环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雷电发生时，强烈的电、光化学作用，会使部分氧气发生化学反应，生成具有杀菌作用的臭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，</a:t>
            </a:r>
            <a:r>
              <a:rPr b="1" lang="zh-CN" sz="2400" spc="-1" strike="noStrike">
                <a:solidFill>
                  <a:srgbClr val="e40000"/>
                </a:solidFill>
                <a:latin typeface="黑体"/>
                <a:ea typeface="黑体"/>
              </a:rPr>
              <a:t>雷电能治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研究人员测试表明对气喘、烧伤、溃疡以及其他外伤的治疗有促进作用；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222120" y="74520"/>
            <a:ext cx="25495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4640" indent="-6746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知识拓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7" descr=""/>
          <p:cNvPicPr/>
          <p:nvPr/>
        </p:nvPicPr>
        <p:blipFill>
          <a:blip r:embed="rId1"/>
          <a:stretch/>
        </p:blipFill>
        <p:spPr>
          <a:xfrm>
            <a:off x="-38412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4"/>
          <p:cNvSpPr/>
          <p:nvPr/>
        </p:nvSpPr>
        <p:spPr>
          <a:xfrm>
            <a:off x="2987640" y="1197000"/>
            <a:ext cx="3456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4640" indent="-6746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盘点收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WordArt 5"/>
          <p:cNvSpPr txBox="1"/>
          <p:nvPr/>
        </p:nvSpPr>
        <p:spPr>
          <a:xfrm>
            <a:off x="324000" y="404640"/>
            <a:ext cx="2160360" cy="148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畅所欲言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0" y="2565360"/>
            <a:ext cx="8353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4640" indent="-6746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通过今天的学习，你学到了哪些知识？说出来和大家一起分享收获的喜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7"/>
          <p:cNvSpPr/>
          <p:nvPr/>
        </p:nvSpPr>
        <p:spPr>
          <a:xfrm>
            <a:off x="934920" y="5408640"/>
            <a:ext cx="22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急救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934920" y="3860640"/>
            <a:ext cx="29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安全用电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934920" y="2023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触电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5"/>
          <p:cNvGrpSpPr/>
          <p:nvPr/>
        </p:nvGrpSpPr>
        <p:grpSpPr>
          <a:xfrm>
            <a:off x="3357720" y="1494000"/>
            <a:ext cx="2202840" cy="1599840"/>
            <a:chOff x="3357720" y="1494000"/>
            <a:chExt cx="2202840" cy="1599840"/>
          </a:xfrm>
        </p:grpSpPr>
        <p:sp>
          <p:nvSpPr>
            <p:cNvPr id="597" name="Text Box 3"/>
            <p:cNvSpPr/>
            <p:nvPr/>
          </p:nvSpPr>
          <p:spPr>
            <a:xfrm>
              <a:off x="3581280" y="1494000"/>
              <a:ext cx="19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低压触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4"/>
            <p:cNvSpPr/>
            <p:nvPr/>
          </p:nvSpPr>
          <p:spPr>
            <a:xfrm>
              <a:off x="3581280" y="2573280"/>
              <a:ext cx="184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高压触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8"/>
            <p:cNvSpPr/>
            <p:nvPr/>
          </p:nvSpPr>
          <p:spPr>
            <a:xfrm>
              <a:off x="3357720" y="1807920"/>
              <a:ext cx="269640" cy="990360"/>
            </a:xfrm>
            <a:custGeom>
              <a:avLst/>
              <a:gdLst>
                <a:gd name="textAreaLeft" fmla="*/ 172440 w 269640"/>
                <a:gd name="textAreaRight" fmla="*/ 270000 w 26964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9"/>
          <p:cNvGrpSpPr/>
          <p:nvPr/>
        </p:nvGrpSpPr>
        <p:grpSpPr>
          <a:xfrm>
            <a:off x="5246640" y="1133640"/>
            <a:ext cx="2098800" cy="1117800"/>
            <a:chOff x="5246640" y="1133640"/>
            <a:chExt cx="2098800" cy="1117800"/>
          </a:xfrm>
        </p:grpSpPr>
        <p:sp>
          <p:nvSpPr>
            <p:cNvPr id="601" name="Text Box 5"/>
            <p:cNvSpPr/>
            <p:nvPr/>
          </p:nvSpPr>
          <p:spPr>
            <a:xfrm>
              <a:off x="5516640" y="1133640"/>
              <a:ext cx="1828800" cy="111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单线触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双线触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11"/>
            <p:cNvSpPr/>
            <p:nvPr/>
          </p:nvSpPr>
          <p:spPr>
            <a:xfrm>
              <a:off x="5246640" y="1494000"/>
              <a:ext cx="270000" cy="539640"/>
            </a:xfrm>
            <a:custGeom>
              <a:avLst/>
              <a:gdLst>
                <a:gd name="textAreaLeft" fmla="*/ 172440 w 270000"/>
                <a:gd name="textAreaRight" fmla="*/ 270360 w 27000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12"/>
          <p:cNvGrpSpPr/>
          <p:nvPr/>
        </p:nvGrpSpPr>
        <p:grpSpPr>
          <a:xfrm>
            <a:off x="5246640" y="2259000"/>
            <a:ext cx="2805120" cy="1117800"/>
            <a:chOff x="5246640" y="2259000"/>
            <a:chExt cx="2805120" cy="1117800"/>
          </a:xfrm>
        </p:grpSpPr>
        <p:sp>
          <p:nvSpPr>
            <p:cNvPr id="604" name="Text Box 6"/>
            <p:cNvSpPr/>
            <p:nvPr/>
          </p:nvSpPr>
          <p:spPr>
            <a:xfrm>
              <a:off x="5607000" y="2259000"/>
              <a:ext cx="2444760" cy="111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高压电弧触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跨步电压触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14"/>
            <p:cNvSpPr/>
            <p:nvPr/>
          </p:nvSpPr>
          <p:spPr>
            <a:xfrm>
              <a:off x="5246640" y="2619360"/>
              <a:ext cx="270000" cy="539640"/>
            </a:xfrm>
            <a:custGeom>
              <a:avLst/>
              <a:gdLst>
                <a:gd name="textAreaLeft" fmla="*/ 172440 w 270000"/>
                <a:gd name="textAreaRight" fmla="*/ 270360 w 27000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15"/>
          <p:cNvGrpSpPr/>
          <p:nvPr/>
        </p:nvGrpSpPr>
        <p:grpSpPr>
          <a:xfrm>
            <a:off x="3851280" y="3564000"/>
            <a:ext cx="3556080" cy="1117800"/>
            <a:chOff x="3851280" y="3564000"/>
            <a:chExt cx="3556080" cy="1117800"/>
          </a:xfrm>
        </p:grpSpPr>
        <p:sp>
          <p:nvSpPr>
            <p:cNvPr id="607" name="Text Box 9"/>
            <p:cNvSpPr/>
            <p:nvPr/>
          </p:nvSpPr>
          <p:spPr>
            <a:xfrm>
              <a:off x="4179960" y="3564000"/>
              <a:ext cx="3227400" cy="111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不靠近高压带电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不接触低压带电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17"/>
            <p:cNvSpPr/>
            <p:nvPr/>
          </p:nvSpPr>
          <p:spPr>
            <a:xfrm>
              <a:off x="3851280" y="3924360"/>
              <a:ext cx="270000" cy="539640"/>
            </a:xfrm>
            <a:custGeom>
              <a:avLst/>
              <a:gdLst>
                <a:gd name="textAreaLeft" fmla="*/ 172440 w 270000"/>
                <a:gd name="textAreaRight" fmla="*/ 270360 w 27000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18"/>
          <p:cNvGrpSpPr/>
          <p:nvPr/>
        </p:nvGrpSpPr>
        <p:grpSpPr>
          <a:xfrm>
            <a:off x="3166920" y="5083200"/>
            <a:ext cx="5834160" cy="1117800"/>
            <a:chOff x="3166920" y="5083200"/>
            <a:chExt cx="5834160" cy="1117800"/>
          </a:xfrm>
        </p:grpSpPr>
        <p:sp>
          <p:nvSpPr>
            <p:cNvPr id="610" name="Text Box 8"/>
            <p:cNvSpPr/>
            <p:nvPr/>
          </p:nvSpPr>
          <p:spPr>
            <a:xfrm>
              <a:off x="3436920" y="5083200"/>
              <a:ext cx="556416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切断电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用绝缘体将触电者与带电体分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20"/>
            <p:cNvSpPr/>
            <p:nvPr/>
          </p:nvSpPr>
          <p:spPr>
            <a:xfrm>
              <a:off x="3166920" y="5337360"/>
              <a:ext cx="252360" cy="711000"/>
            </a:xfrm>
            <a:custGeom>
              <a:avLst/>
              <a:gdLst>
                <a:gd name="textAreaLeft" fmla="*/ 161280 w 252360"/>
                <a:gd name="textAreaRight" fmla="*/ 252720 w 252360"/>
                <a:gd name="textAreaTop" fmla="*/ 18360 h 711000"/>
                <a:gd name="textAreaBottom" fmla="*/ 692640 h 71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21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613" name="圆角矩形 1" descr=""/>
            <p:cNvPicPr/>
            <p:nvPr/>
          </p:nvPicPr>
          <p:blipFill>
            <a:blip r:embed="rId1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 Box 23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5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42483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巩固提升：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、以下做法，正确的是（    ）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、用剪刀或绝缘柄破损的钳子剪带电的导线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、电线上晾衣服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、发现有人触电时应立即用手将触电者拉离带电体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、发现输电线的断头落在地上，不要靠近，更不要去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、下列说法不正确的是，（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  ）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、在雷雨天，不要到大树下避雨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、不要用湿布擦亮着的电灯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、移动电器时，应先使它脱离电源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、因输电线路短路引发火灾时，应立即泼水灭火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4361400" y="121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4790160" y="4119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" descr="B55 拷贝"/>
          <p:cNvPicPr/>
          <p:nvPr/>
        </p:nvPicPr>
        <p:blipFill>
          <a:blip r:embed="rId1"/>
          <a:stretch/>
        </p:blipFill>
        <p:spPr>
          <a:xfrm>
            <a:off x="324000" y="2637000"/>
            <a:ext cx="8569080" cy="27684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6"/>
          <p:cNvSpPr/>
          <p:nvPr/>
        </p:nvSpPr>
        <p:spPr>
          <a:xfrm>
            <a:off x="468360" y="836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中哪些做法能确保安全用电？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447840" y="5481720"/>
            <a:ext cx="86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            B             C           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7788960" y="7984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80880" y="304920"/>
            <a:ext cx="82296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故事：小红买电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红家里的电视遥控器的电池没电了，爸爸让小红赶紧到超市买两节电池，可小红磨蹭了半天也没行动，问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原因，她说她不敢，怕让电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电着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是导体，我要用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拿电池，触电了可怎么办呀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PE02043_"/>
          <p:cNvPicPr/>
          <p:nvPr/>
        </p:nvPicPr>
        <p:blipFill>
          <a:blip r:embed="rId1"/>
          <a:stretch/>
        </p:blipFill>
        <p:spPr>
          <a:xfrm>
            <a:off x="6827760" y="2708280"/>
            <a:ext cx="231624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江苏连云港）以下四图所反映的做法中，符合用电安全的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关和灯泡的连接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测电笔的使用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电视天线与电线接触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手接触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5724360" y="162864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4" descr="1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539640" y="2565360"/>
            <a:ext cx="7993080" cy="1687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4"/>
          <p:cNvSpPr/>
          <p:nvPr/>
        </p:nvSpPr>
        <p:spPr>
          <a:xfrm>
            <a:off x="468360" y="765000"/>
            <a:ext cx="84978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一个雷雨交加的日子里，某村民到大树底下躲雨，不幸被雷电击中造成重伤，此后村内谣言四起，说什么“魔鬼缠身”，什么“前世没有修行好”等等，家里人在众人面前抬不起头，不但不送病人到医院医治，反而求神拜佛，导致病人耽误治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文中所述的观点对吗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为了避免类似事故的发生，人们在高大建筑物上安装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如果你遇到这种雷雨天气情况，你的做法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1285920" y="3338640"/>
            <a:ext cx="23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2751120" y="412416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避雷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228600" y="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在高压输电线上的小鸟不会触电死亡的原因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鸟是绝缘体不会触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鸟能耐很高的电压不会触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高压线外包有一层绝缘性能很强的材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鸟只站在一根电线上两爪间的电压很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990720" y="13716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2052720" y="6206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5" descr="2005081018235040"/>
          <p:cNvPicPr/>
          <p:nvPr/>
        </p:nvPicPr>
        <p:blipFill>
          <a:blip r:embed="rId1"/>
          <a:stretch/>
        </p:blipFill>
        <p:spPr>
          <a:xfrm>
            <a:off x="2700360" y="3573360"/>
            <a:ext cx="4782960" cy="3041640"/>
          </a:xfrm>
          <a:prstGeom prst="rect">
            <a:avLst/>
          </a:prstGeom>
          <a:ln w="0">
            <a:noFill/>
          </a:ln>
        </p:spPr>
      </p:pic>
      <p:sp>
        <p:nvSpPr>
          <p:cNvPr id="634" name="文本框 8199"/>
          <p:cNvSpPr/>
          <p:nvPr/>
        </p:nvSpPr>
        <p:spPr>
          <a:xfrm>
            <a:off x="1362240" y="3262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108000" y="47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20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广东广州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所示的电路中，正常发光的三盏灯突然全部熄灭，经检查保险丝完好，用试电笔插进插座的两孔，氖管均发光。造成这一现象的原因是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插座发生短路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进户的火线断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进户的零线断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某盏电灯的灯丝断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4645080" y="2781360"/>
            <a:ext cx="4102920" cy="2950920"/>
            <a:chOff x="4645080" y="2781360"/>
            <a:chExt cx="4102920" cy="2950920"/>
          </a:xfrm>
        </p:grpSpPr>
        <p:grpSp>
          <p:nvGrpSpPr>
            <p:cNvPr id="637" name="Group 4"/>
            <p:cNvGrpSpPr/>
            <p:nvPr/>
          </p:nvGrpSpPr>
          <p:grpSpPr>
            <a:xfrm>
              <a:off x="4645080" y="2781360"/>
              <a:ext cx="4102920" cy="2336400"/>
              <a:chOff x="4645080" y="2781360"/>
              <a:chExt cx="4102920" cy="2336400"/>
            </a:xfrm>
          </p:grpSpPr>
          <p:grpSp>
            <p:nvGrpSpPr>
              <p:cNvPr id="638" name="Group 5"/>
              <p:cNvGrpSpPr/>
              <p:nvPr/>
            </p:nvGrpSpPr>
            <p:grpSpPr>
              <a:xfrm>
                <a:off x="5226120" y="3255120"/>
                <a:ext cx="3521880" cy="1862640"/>
                <a:chOff x="5226120" y="3255120"/>
                <a:chExt cx="3521880" cy="1862640"/>
              </a:xfrm>
            </p:grpSpPr>
            <p:grpSp>
              <p:nvGrpSpPr>
                <p:cNvPr id="639" name=""/>
                <p:cNvGrpSpPr/>
                <p:nvPr/>
              </p:nvGrpSpPr>
              <p:grpSpPr>
                <a:xfrm>
                  <a:off x="5262120" y="3338640"/>
                  <a:ext cx="3485880" cy="360"/>
                  <a:chOff x="5262120" y="3338640"/>
                  <a:chExt cx="3485880" cy="360"/>
                </a:xfrm>
              </p:grpSpPr>
              <p:sp>
                <p:nvSpPr>
                  <p:cNvPr id="640" name="Line 6"/>
                  <p:cNvSpPr/>
                  <p:nvPr/>
                </p:nvSpPr>
                <p:spPr>
                  <a:xfrm>
                    <a:off x="5262120" y="3338640"/>
                    <a:ext cx="34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 txBox="1"/>
                  <p:nvPr/>
                </p:nvSpPr>
                <p:spPr>
                  <a:xfrm>
                    <a:off x="5262120" y="3338640"/>
                    <a:ext cx="3485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5262120" y="3863160"/>
                  <a:ext cx="3485880" cy="360"/>
                  <a:chOff x="5262120" y="3863160"/>
                  <a:chExt cx="3485880" cy="360"/>
                </a:xfrm>
              </p:grpSpPr>
              <p:sp>
                <p:nvSpPr>
                  <p:cNvPr id="643" name="Line 7"/>
                  <p:cNvSpPr/>
                  <p:nvPr/>
                </p:nvSpPr>
                <p:spPr>
                  <a:xfrm>
                    <a:off x="5262120" y="3863160"/>
                    <a:ext cx="34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 txBox="1"/>
                  <p:nvPr/>
                </p:nvSpPr>
                <p:spPr>
                  <a:xfrm>
                    <a:off x="5262120" y="3863160"/>
                    <a:ext cx="3485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5" name="Rectangle 8"/>
                <p:cNvSpPr/>
                <p:nvPr/>
              </p:nvSpPr>
              <p:spPr>
                <a:xfrm>
                  <a:off x="5468040" y="3255120"/>
                  <a:ext cx="424800" cy="169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Oval 9"/>
                <p:cNvSpPr/>
                <p:nvPr/>
              </p:nvSpPr>
              <p:spPr>
                <a:xfrm>
                  <a:off x="5226120" y="3288600"/>
                  <a:ext cx="82080" cy="114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Oval 10"/>
                <p:cNvSpPr/>
                <p:nvPr/>
              </p:nvSpPr>
              <p:spPr>
                <a:xfrm>
                  <a:off x="5226120" y="3829680"/>
                  <a:ext cx="82080" cy="114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8" name="Group 11"/>
                <p:cNvGrpSpPr/>
                <p:nvPr/>
              </p:nvGrpSpPr>
              <p:grpSpPr>
                <a:xfrm>
                  <a:off x="6242760" y="3305160"/>
                  <a:ext cx="489600" cy="1812600"/>
                  <a:chOff x="6242760" y="3305160"/>
                  <a:chExt cx="489600" cy="1812600"/>
                </a:xfrm>
              </p:grpSpPr>
              <p:grpSp>
                <p:nvGrpSpPr>
                  <p:cNvPr id="649" name="Group 12"/>
                  <p:cNvGrpSpPr/>
                  <p:nvPr/>
                </p:nvGrpSpPr>
                <p:grpSpPr>
                  <a:xfrm>
                    <a:off x="6242760" y="3305160"/>
                    <a:ext cx="489600" cy="1605960"/>
                    <a:chOff x="6242760" y="3305160"/>
                    <a:chExt cx="489600" cy="1605960"/>
                  </a:xfrm>
                </p:grpSpPr>
                <p:sp>
                  <p:nvSpPr>
                    <p:cNvPr id="650" name="Oval 13"/>
                    <p:cNvSpPr/>
                    <p:nvPr/>
                  </p:nvSpPr>
                  <p:spPr>
                    <a:xfrm>
                      <a:off x="6242760" y="3305160"/>
                      <a:ext cx="54000" cy="75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未知"/>
                    <p:cNvSpPr/>
                    <p:nvPr/>
                  </p:nvSpPr>
                  <p:spPr>
                    <a:xfrm>
                      <a:off x="6266880" y="3338640"/>
                      <a:ext cx="435600" cy="15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0" h="936">
                          <a:moveTo>
                            <a:pt x="0" y="0"/>
                          </a:moveTo>
                          <a:lnTo>
                            <a:pt x="0" y="936"/>
                          </a:lnTo>
                          <a:lnTo>
                            <a:pt x="360" y="936"/>
                          </a:lnTo>
                          <a:lnTo>
                            <a:pt x="360" y="312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Oval 15"/>
                    <p:cNvSpPr/>
                    <p:nvPr/>
                  </p:nvSpPr>
                  <p:spPr>
                    <a:xfrm>
                      <a:off x="6678360" y="3829320"/>
                      <a:ext cx="54000" cy="75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3" name="Oval 16"/>
                  <p:cNvSpPr/>
                  <p:nvPr/>
                </p:nvSpPr>
                <p:spPr>
                  <a:xfrm>
                    <a:off x="6339600" y="4699440"/>
                    <a:ext cx="300960" cy="41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6448320" y="4793760"/>
                    <a:ext cx="360" cy="238320"/>
                    <a:chOff x="6448320" y="4793760"/>
                    <a:chExt cx="360" cy="238320"/>
                  </a:xfrm>
                </p:grpSpPr>
                <p:sp>
                  <p:nvSpPr>
                    <p:cNvPr id="655" name="Line 17"/>
                    <p:cNvSpPr/>
                    <p:nvPr/>
                  </p:nvSpPr>
                  <p:spPr>
                    <a:xfrm>
                      <a:off x="6448320" y="4793760"/>
                      <a:ext cx="0" cy="2383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 txBox="1"/>
                    <p:nvPr/>
                  </p:nvSpPr>
                  <p:spPr>
                    <a:xfrm>
                      <a:off x="6448320" y="4793760"/>
                      <a:ext cx="360" cy="238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7" name=""/>
                  <p:cNvGrpSpPr/>
                  <p:nvPr/>
                </p:nvGrpSpPr>
                <p:grpSpPr>
                  <a:xfrm>
                    <a:off x="6544800" y="4793760"/>
                    <a:ext cx="360" cy="238320"/>
                    <a:chOff x="6544800" y="4793760"/>
                    <a:chExt cx="360" cy="238320"/>
                  </a:xfrm>
                </p:grpSpPr>
                <p:sp>
                  <p:nvSpPr>
                    <p:cNvPr id="658" name="Line 18"/>
                    <p:cNvSpPr/>
                    <p:nvPr/>
                  </p:nvSpPr>
                  <p:spPr>
                    <a:xfrm>
                      <a:off x="6544800" y="4793760"/>
                      <a:ext cx="0" cy="2383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"/>
                    <p:cNvSpPr txBox="1"/>
                    <p:nvPr/>
                  </p:nvSpPr>
                  <p:spPr>
                    <a:xfrm>
                      <a:off x="6544800" y="4793760"/>
                      <a:ext cx="360" cy="238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0" name="Group 19"/>
                <p:cNvGrpSpPr/>
                <p:nvPr/>
              </p:nvGrpSpPr>
              <p:grpSpPr>
                <a:xfrm>
                  <a:off x="6872040" y="3295440"/>
                  <a:ext cx="489600" cy="1805400"/>
                  <a:chOff x="6872040" y="3295440"/>
                  <a:chExt cx="489600" cy="1805400"/>
                </a:xfrm>
              </p:grpSpPr>
              <p:grpSp>
                <p:nvGrpSpPr>
                  <p:cNvPr id="661" name="Group 20"/>
                  <p:cNvGrpSpPr/>
                  <p:nvPr/>
                </p:nvGrpSpPr>
                <p:grpSpPr>
                  <a:xfrm>
                    <a:off x="6872040" y="3295440"/>
                    <a:ext cx="489600" cy="1605960"/>
                    <a:chOff x="6872040" y="3295440"/>
                    <a:chExt cx="489600" cy="1605960"/>
                  </a:xfrm>
                </p:grpSpPr>
                <p:sp>
                  <p:nvSpPr>
                    <p:cNvPr id="662" name="Oval 21"/>
                    <p:cNvSpPr/>
                    <p:nvPr/>
                  </p:nvSpPr>
                  <p:spPr>
                    <a:xfrm>
                      <a:off x="6872040" y="3295440"/>
                      <a:ext cx="54000" cy="75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未知"/>
                    <p:cNvSpPr/>
                    <p:nvPr/>
                  </p:nvSpPr>
                  <p:spPr>
                    <a:xfrm>
                      <a:off x="6896160" y="3328920"/>
                      <a:ext cx="435600" cy="15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0" h="936">
                          <a:moveTo>
                            <a:pt x="0" y="0"/>
                          </a:moveTo>
                          <a:lnTo>
                            <a:pt x="0" y="936"/>
                          </a:lnTo>
                          <a:lnTo>
                            <a:pt x="360" y="936"/>
                          </a:lnTo>
                          <a:lnTo>
                            <a:pt x="360" y="312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Oval 23"/>
                    <p:cNvSpPr/>
                    <p:nvPr/>
                  </p:nvSpPr>
                  <p:spPr>
                    <a:xfrm>
                      <a:off x="7307640" y="3819600"/>
                      <a:ext cx="54000" cy="75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5" name="Group 24"/>
                  <p:cNvGrpSpPr/>
                  <p:nvPr/>
                </p:nvGrpSpPr>
                <p:grpSpPr>
                  <a:xfrm>
                    <a:off x="6956640" y="4682880"/>
                    <a:ext cx="300960" cy="417960"/>
                    <a:chOff x="6956640" y="4682880"/>
                    <a:chExt cx="300960" cy="417960"/>
                  </a:xfrm>
                </p:grpSpPr>
                <p:sp>
                  <p:nvSpPr>
                    <p:cNvPr id="666" name="Oval 25"/>
                    <p:cNvSpPr/>
                    <p:nvPr/>
                  </p:nvSpPr>
                  <p:spPr>
                    <a:xfrm>
                      <a:off x="6956640" y="4682880"/>
                      <a:ext cx="300960" cy="41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67" name="Group 26"/>
                    <p:cNvGrpSpPr/>
                    <p:nvPr/>
                  </p:nvGrpSpPr>
                  <p:grpSpPr>
                    <a:xfrm>
                      <a:off x="7013520" y="4781160"/>
                      <a:ext cx="188280" cy="217080"/>
                      <a:chOff x="7013520" y="4781160"/>
                      <a:chExt cx="188280" cy="217080"/>
                    </a:xfrm>
                  </p:grpSpPr>
                  <p:grpSp>
                    <p:nvGrpSpPr>
                      <p:cNvPr id="668" name=""/>
                      <p:cNvGrpSpPr/>
                      <p:nvPr/>
                    </p:nvGrpSpPr>
                    <p:grpSpPr>
                      <a:xfrm>
                        <a:off x="7013520" y="4781160"/>
                        <a:ext cx="187200" cy="216000"/>
                        <a:chOff x="7013520" y="4781160"/>
                        <a:chExt cx="187200" cy="216000"/>
                      </a:xfrm>
                    </p:grpSpPr>
                    <p:sp>
                      <p:nvSpPr>
                        <p:cNvPr id="669" name="Line 27"/>
                        <p:cNvSpPr/>
                        <p:nvPr/>
                      </p:nvSpPr>
                      <p:spPr>
                        <a:xfrm flipH="1">
                          <a:off x="7046640" y="4781160"/>
                          <a:ext cx="120960" cy="216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0" name=""/>
                        <p:cNvSpPr txBox="1"/>
                        <p:nvPr/>
                      </p:nvSpPr>
                      <p:spPr>
                        <a:xfrm rot="21000000">
                          <a:off x="7028640" y="4793400"/>
                          <a:ext cx="156240" cy="1915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71" name=""/>
                      <p:cNvGrpSpPr/>
                      <p:nvPr/>
                    </p:nvGrpSpPr>
                    <p:grpSpPr>
                      <a:xfrm>
                        <a:off x="7014600" y="4781880"/>
                        <a:ext cx="187200" cy="216360"/>
                        <a:chOff x="7014600" y="4781880"/>
                        <a:chExt cx="187200" cy="216360"/>
                      </a:xfrm>
                    </p:grpSpPr>
                    <p:sp>
                      <p:nvSpPr>
                        <p:cNvPr id="672" name="Line 28"/>
                        <p:cNvSpPr/>
                        <p:nvPr/>
                      </p:nvSpPr>
                      <p:spPr>
                        <a:xfrm flipH="1" flipV="1">
                          <a:off x="7047000" y="4781880"/>
                          <a:ext cx="120600" cy="216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3" name=""/>
                        <p:cNvSpPr txBox="1"/>
                        <p:nvPr/>
                      </p:nvSpPr>
                      <p:spPr>
                        <a:xfrm rot="11400000">
                          <a:off x="7029720" y="4794120"/>
                          <a:ext cx="156240" cy="191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674" name="Group 29"/>
                <p:cNvGrpSpPr/>
                <p:nvPr/>
              </p:nvGrpSpPr>
              <p:grpSpPr>
                <a:xfrm>
                  <a:off x="7538040" y="3295440"/>
                  <a:ext cx="489600" cy="1805400"/>
                  <a:chOff x="7538040" y="3295440"/>
                  <a:chExt cx="489600" cy="1805400"/>
                </a:xfrm>
              </p:grpSpPr>
              <p:grpSp>
                <p:nvGrpSpPr>
                  <p:cNvPr id="675" name="Group 30"/>
                  <p:cNvGrpSpPr/>
                  <p:nvPr/>
                </p:nvGrpSpPr>
                <p:grpSpPr>
                  <a:xfrm>
                    <a:off x="7538040" y="3295440"/>
                    <a:ext cx="489600" cy="1605960"/>
                    <a:chOff x="7538040" y="3295440"/>
                    <a:chExt cx="489600" cy="1605960"/>
                  </a:xfrm>
                </p:grpSpPr>
                <p:sp>
                  <p:nvSpPr>
                    <p:cNvPr id="676" name="Oval 31"/>
                    <p:cNvSpPr/>
                    <p:nvPr/>
                  </p:nvSpPr>
                  <p:spPr>
                    <a:xfrm>
                      <a:off x="7538040" y="3295440"/>
                      <a:ext cx="54000" cy="75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未知"/>
                    <p:cNvSpPr/>
                    <p:nvPr/>
                  </p:nvSpPr>
                  <p:spPr>
                    <a:xfrm>
                      <a:off x="7562160" y="3328920"/>
                      <a:ext cx="435600" cy="15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0" h="936">
                          <a:moveTo>
                            <a:pt x="0" y="0"/>
                          </a:moveTo>
                          <a:lnTo>
                            <a:pt x="0" y="936"/>
                          </a:lnTo>
                          <a:lnTo>
                            <a:pt x="360" y="936"/>
                          </a:lnTo>
                          <a:lnTo>
                            <a:pt x="360" y="312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Oval 33"/>
                    <p:cNvSpPr/>
                    <p:nvPr/>
                  </p:nvSpPr>
                  <p:spPr>
                    <a:xfrm>
                      <a:off x="7973640" y="3819600"/>
                      <a:ext cx="54000" cy="75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Group 34"/>
                  <p:cNvGrpSpPr/>
                  <p:nvPr/>
                </p:nvGrpSpPr>
                <p:grpSpPr>
                  <a:xfrm>
                    <a:off x="7622640" y="4682880"/>
                    <a:ext cx="300960" cy="417960"/>
                    <a:chOff x="7622640" y="4682880"/>
                    <a:chExt cx="300960" cy="417960"/>
                  </a:xfrm>
                </p:grpSpPr>
                <p:sp>
                  <p:nvSpPr>
                    <p:cNvPr id="680" name="Oval 35"/>
                    <p:cNvSpPr/>
                    <p:nvPr/>
                  </p:nvSpPr>
                  <p:spPr>
                    <a:xfrm>
                      <a:off x="7622640" y="4682880"/>
                      <a:ext cx="300960" cy="41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81" name="Group 36"/>
                    <p:cNvGrpSpPr/>
                    <p:nvPr/>
                  </p:nvGrpSpPr>
                  <p:grpSpPr>
                    <a:xfrm>
                      <a:off x="7679520" y="4781160"/>
                      <a:ext cx="188280" cy="217080"/>
                      <a:chOff x="7679520" y="4781160"/>
                      <a:chExt cx="188280" cy="217080"/>
                    </a:xfrm>
                  </p:grpSpPr>
                  <p:grpSp>
                    <p:nvGrpSpPr>
                      <p:cNvPr id="682" name=""/>
                      <p:cNvGrpSpPr/>
                      <p:nvPr/>
                    </p:nvGrpSpPr>
                    <p:grpSpPr>
                      <a:xfrm>
                        <a:off x="7679520" y="4781160"/>
                        <a:ext cx="187200" cy="216000"/>
                        <a:chOff x="7679520" y="4781160"/>
                        <a:chExt cx="187200" cy="216000"/>
                      </a:xfrm>
                    </p:grpSpPr>
                    <p:sp>
                      <p:nvSpPr>
                        <p:cNvPr id="683" name="Line 37"/>
                        <p:cNvSpPr/>
                        <p:nvPr/>
                      </p:nvSpPr>
                      <p:spPr>
                        <a:xfrm flipH="1">
                          <a:off x="7712640" y="4781160"/>
                          <a:ext cx="120960" cy="216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4" name=""/>
                        <p:cNvSpPr txBox="1"/>
                        <p:nvPr/>
                      </p:nvSpPr>
                      <p:spPr>
                        <a:xfrm rot="21000000">
                          <a:off x="7694640" y="4793400"/>
                          <a:ext cx="156240" cy="1915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85" name=""/>
                      <p:cNvGrpSpPr/>
                      <p:nvPr/>
                    </p:nvGrpSpPr>
                    <p:grpSpPr>
                      <a:xfrm>
                        <a:off x="7680600" y="4781880"/>
                        <a:ext cx="187200" cy="216360"/>
                        <a:chOff x="7680600" y="4781880"/>
                        <a:chExt cx="187200" cy="216360"/>
                      </a:xfrm>
                    </p:grpSpPr>
                    <p:sp>
                      <p:nvSpPr>
                        <p:cNvPr id="686" name="Line 38"/>
                        <p:cNvSpPr/>
                        <p:nvPr/>
                      </p:nvSpPr>
                      <p:spPr>
                        <a:xfrm flipH="1" flipV="1">
                          <a:off x="7713000" y="4781880"/>
                          <a:ext cx="120600" cy="216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7" name=""/>
                        <p:cNvSpPr txBox="1"/>
                        <p:nvPr/>
                      </p:nvSpPr>
                      <p:spPr>
                        <a:xfrm rot="11400000">
                          <a:off x="7695720" y="4794120"/>
                          <a:ext cx="156240" cy="191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688" name="Group 39"/>
                <p:cNvGrpSpPr/>
                <p:nvPr/>
              </p:nvGrpSpPr>
              <p:grpSpPr>
                <a:xfrm>
                  <a:off x="8179560" y="3295440"/>
                  <a:ext cx="489600" cy="1805400"/>
                  <a:chOff x="8179560" y="3295440"/>
                  <a:chExt cx="489600" cy="1805400"/>
                </a:xfrm>
              </p:grpSpPr>
              <p:grpSp>
                <p:nvGrpSpPr>
                  <p:cNvPr id="689" name="Group 40"/>
                  <p:cNvGrpSpPr/>
                  <p:nvPr/>
                </p:nvGrpSpPr>
                <p:grpSpPr>
                  <a:xfrm>
                    <a:off x="8179560" y="3295440"/>
                    <a:ext cx="489600" cy="1605960"/>
                    <a:chOff x="8179560" y="3295440"/>
                    <a:chExt cx="489600" cy="1605960"/>
                  </a:xfrm>
                </p:grpSpPr>
                <p:sp>
                  <p:nvSpPr>
                    <p:cNvPr id="690" name="Oval 41"/>
                    <p:cNvSpPr/>
                    <p:nvPr/>
                  </p:nvSpPr>
                  <p:spPr>
                    <a:xfrm>
                      <a:off x="8179560" y="3295440"/>
                      <a:ext cx="54000" cy="75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未知"/>
                    <p:cNvSpPr/>
                    <p:nvPr/>
                  </p:nvSpPr>
                  <p:spPr>
                    <a:xfrm>
                      <a:off x="8203680" y="3328920"/>
                      <a:ext cx="435600" cy="15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0" h="936">
                          <a:moveTo>
                            <a:pt x="0" y="0"/>
                          </a:moveTo>
                          <a:lnTo>
                            <a:pt x="0" y="936"/>
                          </a:lnTo>
                          <a:lnTo>
                            <a:pt x="360" y="936"/>
                          </a:lnTo>
                          <a:lnTo>
                            <a:pt x="360" y="312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Oval 43"/>
                    <p:cNvSpPr/>
                    <p:nvPr/>
                  </p:nvSpPr>
                  <p:spPr>
                    <a:xfrm>
                      <a:off x="8615160" y="3819600"/>
                      <a:ext cx="54000" cy="75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3" name="Group 44"/>
                  <p:cNvGrpSpPr/>
                  <p:nvPr/>
                </p:nvGrpSpPr>
                <p:grpSpPr>
                  <a:xfrm>
                    <a:off x="8264160" y="4682880"/>
                    <a:ext cx="300960" cy="417960"/>
                    <a:chOff x="8264160" y="4682880"/>
                    <a:chExt cx="300960" cy="417960"/>
                  </a:xfrm>
                </p:grpSpPr>
                <p:sp>
                  <p:nvSpPr>
                    <p:cNvPr id="694" name="Oval 45"/>
                    <p:cNvSpPr/>
                    <p:nvPr/>
                  </p:nvSpPr>
                  <p:spPr>
                    <a:xfrm>
                      <a:off x="8264160" y="4682880"/>
                      <a:ext cx="300960" cy="41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95" name="Group 46"/>
                    <p:cNvGrpSpPr/>
                    <p:nvPr/>
                  </p:nvGrpSpPr>
                  <p:grpSpPr>
                    <a:xfrm>
                      <a:off x="8321040" y="4781160"/>
                      <a:ext cx="188280" cy="217080"/>
                      <a:chOff x="8321040" y="4781160"/>
                      <a:chExt cx="188280" cy="217080"/>
                    </a:xfrm>
                  </p:grpSpPr>
                  <p:grpSp>
                    <p:nvGrpSpPr>
                      <p:cNvPr id="696" name=""/>
                      <p:cNvGrpSpPr/>
                      <p:nvPr/>
                    </p:nvGrpSpPr>
                    <p:grpSpPr>
                      <a:xfrm>
                        <a:off x="8321040" y="4781160"/>
                        <a:ext cx="187200" cy="216000"/>
                        <a:chOff x="8321040" y="4781160"/>
                        <a:chExt cx="187200" cy="216000"/>
                      </a:xfrm>
                    </p:grpSpPr>
                    <p:sp>
                      <p:nvSpPr>
                        <p:cNvPr id="697" name="Line 47"/>
                        <p:cNvSpPr/>
                        <p:nvPr/>
                      </p:nvSpPr>
                      <p:spPr>
                        <a:xfrm flipH="1">
                          <a:off x="8354160" y="4781160"/>
                          <a:ext cx="120960" cy="216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8" name=""/>
                        <p:cNvSpPr txBox="1"/>
                        <p:nvPr/>
                      </p:nvSpPr>
                      <p:spPr>
                        <a:xfrm rot="21000000">
                          <a:off x="8336160" y="4793400"/>
                          <a:ext cx="156240" cy="1915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99" name=""/>
                      <p:cNvGrpSpPr/>
                      <p:nvPr/>
                    </p:nvGrpSpPr>
                    <p:grpSpPr>
                      <a:xfrm>
                        <a:off x="8322120" y="4781880"/>
                        <a:ext cx="187200" cy="216360"/>
                        <a:chOff x="8322120" y="4781880"/>
                        <a:chExt cx="187200" cy="216360"/>
                      </a:xfrm>
                    </p:grpSpPr>
                    <p:sp>
                      <p:nvSpPr>
                        <p:cNvPr id="700" name="Line 48"/>
                        <p:cNvSpPr/>
                        <p:nvPr/>
                      </p:nvSpPr>
                      <p:spPr>
                        <a:xfrm flipH="1" flipV="1">
                          <a:off x="8354520" y="4781880"/>
                          <a:ext cx="120600" cy="216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1" name=""/>
                        <p:cNvSpPr txBox="1"/>
                        <p:nvPr/>
                      </p:nvSpPr>
                      <p:spPr>
                        <a:xfrm rot="11400000">
                          <a:off x="8337240" y="4794120"/>
                          <a:ext cx="156240" cy="191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702" name="Text Box 49"/>
              <p:cNvSpPr/>
              <p:nvPr/>
            </p:nvSpPr>
            <p:spPr>
              <a:xfrm>
                <a:off x="4645080" y="3026520"/>
                <a:ext cx="65340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</a:rPr>
                  <a:t>火线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Text Box 50"/>
              <p:cNvSpPr/>
              <p:nvPr/>
            </p:nvSpPr>
            <p:spPr>
              <a:xfrm>
                <a:off x="4705200" y="3618000"/>
                <a:ext cx="65376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</a:rPr>
                  <a:t>零线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Text Box 51"/>
              <p:cNvSpPr/>
              <p:nvPr/>
            </p:nvSpPr>
            <p:spPr>
              <a:xfrm>
                <a:off x="5443560" y="2781360"/>
                <a:ext cx="78948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</a:rPr>
                  <a:t>保险丝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Text Box 52"/>
            <p:cNvSpPr/>
            <p:nvPr/>
          </p:nvSpPr>
          <p:spPr>
            <a:xfrm>
              <a:off x="6884280" y="5208480"/>
              <a:ext cx="8715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Arial"/>
                </a:rPr>
                <a:t>图</a:t>
              </a:r>
              <a:r>
                <a:rPr b="0" lang="zh-CN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Text Box 53"/>
          <p:cNvSpPr/>
          <p:nvPr/>
        </p:nvSpPr>
        <p:spPr>
          <a:xfrm>
            <a:off x="5435640" y="1844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2"/>
          <p:cNvSpPr/>
          <p:nvPr/>
        </p:nvSpPr>
        <p:spPr>
          <a:xfrm>
            <a:off x="228600" y="0"/>
            <a:ext cx="8686800" cy="4207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河头村王某的洗衣机突然不转了，请来了本村的小刘，小刘虽不懂多少电学知识，但胆子大，敢动手。洗衣机锈迹斑斑，放在厨房一角，电源线的插头在不远墙上，由于家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黑体"/>
              </a:rPr>
              <a:t>没有安装三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插座，就换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黑体"/>
              </a:rPr>
              <a:t>二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，多年来倒也好使，啥事也没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刘拿来了工具，打开洗衣机，用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东摸西摸，嘴里说：“小意思，无非是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触不良。”王某心想：“小刘的确有胆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修洗衣机也不用断电。”突然，小刘身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颤，倒在洗衣机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王某吓坏了！大喊：“有人触电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们赶忙找来南屏卫生院丁医生，赶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现场，切断了电源，经抢救无效，触电身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1204920" y="4745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609480" y="55627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问题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2666880" y="5715000"/>
            <a:ext cx="556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阅读上面短文，根据安全用电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识，简要提出文中悲剧的原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9" descr="PE02002_"/>
          <p:cNvPicPr/>
          <p:nvPr/>
        </p:nvPicPr>
        <p:blipFill>
          <a:blip r:embed="rId1"/>
          <a:stretch/>
        </p:blipFill>
        <p:spPr>
          <a:xfrm>
            <a:off x="6877080" y="1989000"/>
            <a:ext cx="2147760" cy="2819520"/>
          </a:xfrm>
          <a:prstGeom prst="rect">
            <a:avLst/>
          </a:prstGeom>
          <a:ln w="0">
            <a:noFill/>
          </a:ln>
        </p:spPr>
      </p:pic>
      <p:sp>
        <p:nvSpPr>
          <p:cNvPr id="712" name="AutoShape 10">
            <a:hlinkClick r:id="" action="ppaction://hlinkshowjump?jump=previousslide"/>
          </p:cNvPr>
          <p:cNvSpPr/>
          <p:nvPr/>
        </p:nvSpPr>
        <p:spPr>
          <a:xfrm>
            <a:off x="853452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11">
            <a:hlinkClick r:id="" action="ppaction://hlinkshowjump?jump=nex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D1E1-FAB1-49D9-A167-B52283EDF6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4"/>
          <p:cNvSpPr/>
          <p:nvPr/>
        </p:nvSpPr>
        <p:spPr>
          <a:xfrm>
            <a:off x="611280" y="620640"/>
            <a:ext cx="81360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布置作业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调查生活中防止触电的方法。自己家里的用电器怎样防止触电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完成本节课后练习。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get?name=T1hSMjBgKT1RCvBVdK"/>
          <p:cNvPicPr/>
          <p:nvPr/>
        </p:nvPicPr>
        <p:blipFill>
          <a:blip r:embed="rId1"/>
          <a:stretch/>
        </p:blipFill>
        <p:spPr>
          <a:xfrm>
            <a:off x="684360" y="1125360"/>
            <a:ext cx="4539960" cy="4846680"/>
          </a:xfrm>
          <a:prstGeom prst="rect">
            <a:avLst/>
          </a:prstGeom>
          <a:ln w="0">
            <a:noFill/>
          </a:ln>
        </p:spPr>
      </p:pic>
      <p:sp>
        <p:nvSpPr>
          <p:cNvPr id="347" name="WordArt 3"/>
          <p:cNvSpPr txBox="1"/>
          <p:nvPr/>
        </p:nvSpPr>
        <p:spPr>
          <a:xfrm rot="5400000">
            <a:off x="4823640" y="2599920"/>
            <a:ext cx="4969080" cy="23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触电！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干电池1"/>
          <p:cNvPicPr/>
          <p:nvPr/>
        </p:nvPicPr>
        <p:blipFill>
          <a:blip r:embed="rId1"/>
          <a:stretch/>
        </p:blipFill>
        <p:spPr>
          <a:xfrm>
            <a:off x="468360" y="0"/>
            <a:ext cx="7343640" cy="67406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3"/>
          <p:cNvSpPr/>
          <p:nvPr/>
        </p:nvSpPr>
        <p:spPr>
          <a:xfrm>
            <a:off x="5386680" y="16002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电流很小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3962520" y="3200400"/>
            <a:ext cx="3962160" cy="2057400"/>
          </a:xfrm>
          <a:prstGeom prst="irregularSeal2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 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没问题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162000" y="44280"/>
          <a:ext cx="8766000" cy="6000840"/>
        </p:xfrm>
        <a:graphic>
          <a:graphicData uri="http://schemas.openxmlformats.org/drawingml/2006/table">
            <a:tbl>
              <a:tblPr/>
              <a:tblGrid>
                <a:gridCol w="1806480"/>
                <a:gridCol w="3503880"/>
                <a:gridCol w="3455640"/>
              </a:tblGrid>
              <a:tr h="55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电流</a:t>
                      </a: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m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交流电（如家庭电路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直流电（如电池 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手轻微颤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无感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手指强烈颤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无感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手部痉挛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感觉痒热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难以摆脱电极，能摆脱手指剧痛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热感觉增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手迅速麻痹，不能摆脱电极，剧痛，呼吸困难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热感觉大大增强，手部肌肉不强烈收缩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呼吸麻痹，心房震颤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强烈的热感觉，手部肌肉收缩、痉挛，呼吸困难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呼吸麻痹，延续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s</a:t>
                      </a: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心脏麻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呼吸麻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0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呼吸、心脏麻痹，肌体组织遭到电流的热破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Text Box 44"/>
          <p:cNvSpPr/>
          <p:nvPr/>
        </p:nvSpPr>
        <p:spPr>
          <a:xfrm>
            <a:off x="612720" y="61657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Black"/>
                <a:ea typeface="楷体_GB2312"/>
              </a:rPr>
              <a:t>通过这个表格，你了解了哪些知识？</a:t>
            </a:r>
            <a:r>
              <a:rPr b="0" i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395280" y="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想想议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395280" y="692280"/>
            <a:ext cx="8077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人体的电流达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m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只要很短时间就会使人窒息、心跳停止，发生触电事故。已知某人两手间的电阻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00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此时，刚好不小心两手抓到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6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源两极上，他会不会触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900000" y="5445000"/>
            <a:ext cx="71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安全电压为不高于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6V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电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5"/>
          <p:cNvGrpSpPr/>
          <p:nvPr/>
        </p:nvGrpSpPr>
        <p:grpSpPr>
          <a:xfrm>
            <a:off x="1839960" y="4294080"/>
            <a:ext cx="5250600" cy="997200"/>
            <a:chOff x="1839960" y="4294080"/>
            <a:chExt cx="5250600" cy="997200"/>
          </a:xfrm>
        </p:grpSpPr>
        <p:sp>
          <p:nvSpPr>
            <p:cNvPr id="357" name="Rectangle 7"/>
            <p:cNvSpPr/>
            <p:nvPr/>
          </p:nvSpPr>
          <p:spPr>
            <a:xfrm>
              <a:off x="1839960" y="4507560"/>
              <a:ext cx="525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=      =               =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.6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mA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＜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00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"/>
            <p:cNvGrpSpPr/>
            <p:nvPr/>
          </p:nvGrpSpPr>
          <p:grpSpPr>
            <a:xfrm>
              <a:off x="2239920" y="4294080"/>
              <a:ext cx="476280" cy="997200"/>
              <a:chOff x="2239920" y="4294080"/>
              <a:chExt cx="476280" cy="99720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2239920" y="4294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华文新魏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0"/>
              <p:cNvSpPr/>
              <p:nvPr/>
            </p:nvSpPr>
            <p:spPr>
              <a:xfrm>
                <a:off x="2289600" y="477072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华文新魏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2246040" y="4832640"/>
                <a:ext cx="470160" cy="360"/>
                <a:chOff x="2246040" y="4832640"/>
                <a:chExt cx="470160" cy="360"/>
              </a:xfrm>
            </p:grpSpPr>
            <p:sp>
              <p:nvSpPr>
                <p:cNvPr id="362" name="Line 11"/>
                <p:cNvSpPr/>
                <p:nvPr/>
              </p:nvSpPr>
              <p:spPr>
                <a:xfrm>
                  <a:off x="2246040" y="4832640"/>
                  <a:ext cx="470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 txBox="1"/>
                <p:nvPr/>
              </p:nvSpPr>
              <p:spPr>
                <a:xfrm>
                  <a:off x="2246040" y="4832640"/>
                  <a:ext cx="470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" name="Group 11"/>
            <p:cNvGrpSpPr/>
            <p:nvPr/>
          </p:nvGrpSpPr>
          <p:grpSpPr>
            <a:xfrm>
              <a:off x="3041280" y="4310640"/>
              <a:ext cx="1357560" cy="973440"/>
              <a:chOff x="3041280" y="4310640"/>
              <a:chExt cx="1357560" cy="973440"/>
            </a:xfrm>
          </p:grpSpPr>
          <p:sp>
            <p:nvSpPr>
              <p:cNvPr id="365" name="Rectangle 13"/>
              <p:cNvSpPr/>
              <p:nvPr/>
            </p:nvSpPr>
            <p:spPr>
              <a:xfrm>
                <a:off x="3274920" y="4310640"/>
                <a:ext cx="79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华文新魏"/>
                  </a:rPr>
                  <a:t>36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4"/>
              <p:cNvSpPr/>
              <p:nvPr/>
            </p:nvSpPr>
            <p:spPr>
              <a:xfrm>
                <a:off x="3041280" y="4763520"/>
                <a:ext cx="135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1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00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3075120" y="4825440"/>
                <a:ext cx="1177200" cy="360"/>
                <a:chOff x="3075120" y="4825440"/>
                <a:chExt cx="1177200" cy="360"/>
              </a:xfrm>
            </p:grpSpPr>
            <p:sp>
              <p:nvSpPr>
                <p:cNvPr id="368" name="Line 15"/>
                <p:cNvSpPr/>
                <p:nvPr/>
              </p:nvSpPr>
              <p:spPr>
                <a:xfrm>
                  <a:off x="3075120" y="4825440"/>
                  <a:ext cx="11772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 txBox="1"/>
                <p:nvPr/>
              </p:nvSpPr>
              <p:spPr>
                <a:xfrm>
                  <a:off x="3075120" y="4825440"/>
                  <a:ext cx="117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0" name="Rectangle 16"/>
          <p:cNvSpPr/>
          <p:nvPr/>
        </p:nvSpPr>
        <p:spPr>
          <a:xfrm>
            <a:off x="900000" y="34290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通过人体的电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1:29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19Z</dcterms:modified>
  <cp:revision>10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