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chimes.wav" ContentType="audio/x-wav"/>
  <Override PartName="/ppt/media/image9.gif" ContentType="image/gif"/>
  <Override PartName="/ppt/media/image11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6.png" ContentType="image/png"/>
  <Override PartName="/ppt/media/camera.wav" ContentType="audio/x-wav"/>
  <Override PartName="/ppt/media/cashreg.wav" ContentType="audio/x-wav"/>
  <Override PartName="/ppt/media/image13.png" ContentType="image/png"/>
  <Override PartName="/ppt/media/image12.jpeg" ContentType="image/jpeg"/>
  <Override PartName="/ppt/media/image7.gif" ContentType="image/gif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2EE-C1BF-4D68-9433-8B04A50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839-3D90-44DB-8796-2CA3968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762-E036-4557-8326-5F076600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E1E-B92E-4522-86DF-FB4A821F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0F81-A509-47B7-A80D-5C2329A5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6F1-8D2C-4D6A-BDD3-DF8B170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5C75-E513-472E-A205-1B846667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A1E-F2D7-4068-ABB9-68F6351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7D4F-C888-44FD-BB88-FB9FDA6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8C0B-2706-4492-B84A-5E70A61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9E7C-1A8C-4C57-88D5-F657EA7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332-BFB0-4708-B511-3BBF396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0317-5D41-4509-ADC1-B1A4B17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42F-8CD5-46D8-9968-6803868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003-F335-4A1A-A050-1C02803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E15-43D4-498E-BB88-A792E15A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EAFE-03C2-4748-93C0-4C91CFAC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4407-E773-41D4-8875-677AE9F6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A028F-D311-4058-A46A-521DF725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1701-50CF-4E73-9C6E-3095845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A034-5384-4B7E-83BD-ABFBD4E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846D-564C-4427-8F41-72C99ED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947-018E-4867-9E35-A55A6DC7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DF94-0369-4164-851D-16232098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C202-E447-4C39-B91E-C3A7ABC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5820-8D33-4278-BE4F-F17854E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993E-B76C-4A0C-AC7A-1BD67DE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F9E1-0E83-4FD0-83A6-6B932C2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291C-E571-4ED2-BFD9-63C46B6C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D161-33BE-4942-A0CA-DD73562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741-EC6F-444F-9E74-2C86A201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13F-43FF-4C95-BB99-1B212FD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270-DEDA-49BD-883D-0E36395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E39-B0D5-4303-AFB5-69A4584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699-1C56-4F32-BDF3-A3E0AB5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86D-5526-40B4-B2FE-DEE47A0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B41-7A53-4192-9075-5BABBBDA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785-CE47-42B4-8EF2-73B7AC8FA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439-9B2C-4A12-A525-D6603517C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hudie"/>
          <p:cNvPicPr/>
          <p:nvPr/>
        </p:nvPicPr>
        <p:blipFill>
          <a:blip r:embed="rId2"/>
          <a:stretch/>
        </p:blipFill>
        <p:spPr>
          <a:xfrm>
            <a:off x="7524720" y="249228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2"/>
          <p:cNvPicPr/>
          <p:nvPr/>
        </p:nvPicPr>
        <p:blipFill>
          <a:blip r:embed="rId3"/>
          <a:stretch/>
        </p:blipFill>
        <p:spPr>
          <a:xfrm>
            <a:off x="6443640" y="3213000"/>
            <a:ext cx="1257480" cy="571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55640" y="1701720"/>
            <a:ext cx="79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爸爸的花儿落了语文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551400" y="3981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林海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flowt2"/>
          <p:cNvPicPr/>
          <p:nvPr/>
        </p:nvPicPr>
        <p:blipFill>
          <a:blip r:embed="rId4"/>
          <a:stretch/>
        </p:blipFill>
        <p:spPr>
          <a:xfrm>
            <a:off x="6769080" y="3052800"/>
            <a:ext cx="1511280" cy="1884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822240" y="60404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6155"/>
          <p:cNvSpPr/>
          <p:nvPr/>
        </p:nvSpPr>
        <p:spPr>
          <a:xfrm>
            <a:off x="104472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990720" y="762120"/>
            <a:ext cx="78483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朗读课文，感知文章内容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概括故事情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品读细节，体会深沉的父爱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探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花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意蕴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33520" y="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课文，概括情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952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”                           回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62120" y="1676520"/>
            <a:ext cx="182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133720" y="1600200"/>
            <a:ext cx="167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夹竹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962520" y="1828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医院探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09680" y="2209680"/>
            <a:ext cx="1600200" cy="360"/>
            <a:chOff x="2209680" y="2209680"/>
            <a:chExt cx="1600200" cy="360"/>
          </a:xfrm>
        </p:grpSpPr>
        <p:sp>
          <p:nvSpPr>
            <p:cNvPr id="147" name="Line 17"/>
            <p:cNvSpPr/>
            <p:nvPr/>
          </p:nvSpPr>
          <p:spPr>
            <a:xfrm>
              <a:off x="2209680" y="220968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209680" y="2209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29200" y="2286000"/>
            <a:ext cx="762120" cy="360"/>
            <a:chOff x="5029200" y="2286000"/>
            <a:chExt cx="762120" cy="360"/>
          </a:xfrm>
        </p:grpSpPr>
        <p:sp>
          <p:nvSpPr>
            <p:cNvPr id="150" name="Line 19"/>
            <p:cNvSpPr/>
            <p:nvPr/>
          </p:nvSpPr>
          <p:spPr>
            <a:xfrm>
              <a:off x="5029200" y="2286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029200" y="22860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21"/>
          <p:cNvSpPr/>
          <p:nvPr/>
        </p:nvSpPr>
        <p:spPr>
          <a:xfrm>
            <a:off x="5943600" y="1828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六年前赖床受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3581280"/>
            <a:ext cx="1600200" cy="360"/>
            <a:chOff x="2209680" y="3581280"/>
            <a:chExt cx="1600200" cy="360"/>
          </a:xfrm>
        </p:grpSpPr>
        <p:sp>
          <p:nvSpPr>
            <p:cNvPr id="154" name="Line 22"/>
            <p:cNvSpPr/>
            <p:nvPr/>
          </p:nvSpPr>
          <p:spPr>
            <a:xfrm>
              <a:off x="2209680" y="358128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209680" y="35812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23"/>
          <p:cNvSpPr/>
          <p:nvPr/>
        </p:nvSpPr>
        <p:spPr>
          <a:xfrm>
            <a:off x="2209680" y="3048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礼堂钟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962520" y="3200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的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4038480" y="4114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爸爸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闯练，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到银行汇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33"/>
          <p:cNvSpPr/>
          <p:nvPr/>
        </p:nvSpPr>
        <p:spPr>
          <a:xfrm>
            <a:off x="3962520" y="1676520"/>
            <a:ext cx="3809880" cy="3504960"/>
          </a:xfrm>
          <a:prstGeom prst="upArrowCallout">
            <a:avLst>
              <a:gd name="adj1" fmla="val 26432"/>
              <a:gd name="adj2" fmla="val 22706"/>
              <a:gd name="adj3" fmla="val 0"/>
              <a:gd name="adj4" fmla="val 7863"/>
            </a:avLst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86400" y="3505320"/>
            <a:ext cx="533520" cy="360"/>
            <a:chOff x="5486400" y="3505320"/>
            <a:chExt cx="533520" cy="360"/>
          </a:xfrm>
        </p:grpSpPr>
        <p:sp>
          <p:nvSpPr>
            <p:cNvPr id="161" name="Line 37"/>
            <p:cNvSpPr/>
            <p:nvPr/>
          </p:nvSpPr>
          <p:spPr>
            <a:xfrm>
              <a:off x="5486400" y="35053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486400" y="3505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38"/>
          <p:cNvSpPr/>
          <p:nvPr/>
        </p:nvSpPr>
        <p:spPr>
          <a:xfrm>
            <a:off x="6385320" y="320040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爱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680" y="4343400"/>
            <a:ext cx="1600200" cy="360"/>
            <a:chOff x="2209680" y="4343400"/>
            <a:chExt cx="1600200" cy="360"/>
          </a:xfrm>
        </p:grpSpPr>
        <p:sp>
          <p:nvSpPr>
            <p:cNvPr id="165" name="Line 39"/>
            <p:cNvSpPr/>
            <p:nvPr/>
          </p:nvSpPr>
          <p:spPr>
            <a:xfrm>
              <a:off x="2209680" y="434340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209680" y="43434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40"/>
          <p:cNvSpPr/>
          <p:nvPr/>
        </p:nvSpPr>
        <p:spPr>
          <a:xfrm>
            <a:off x="2472840" y="373392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骊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2133720" y="5257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看见零落的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542480" y="525780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辞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自己已经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7288560" y="2666880"/>
            <a:ext cx="1155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插     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270036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projcto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2794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26520" y="80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究细节，体会父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38080" y="14479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长的道路上，爸爸施与了很多的影响。文中也有很多这样的细节。你能找出你认为最感人的一处，细品其中蕴涵的至亲至情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感触最深的句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能引起我联想的句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爸爸的一句话；爸爸的一个动作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的一件事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的花儿落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怎样理解？结合上下文来参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262728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371600" y="83808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含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实指爸爸种的夹竹桃等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象征爸爸的生命之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严厉和慈爱（借花的柔性来调和爸爸性格中的刚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爸爸病危时，象征对子女的关怀、鼓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爸爸的花儿虽然落了，但所结出的果实却是硕大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"/>
          <p:cNvSpPr/>
          <p:nvPr/>
        </p:nvSpPr>
        <p:spPr>
          <a:xfrm>
            <a:off x="1295280" y="2971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557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sea0121_m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8210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203480" y="32544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-304920" y="1523880"/>
            <a:ext cx="9448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拓展延伸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分组讨论，写一现场片段作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我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来到父亲的陵墓前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29E6-1E3E-465C-A591-822B19495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200312122224857786[1]"/>
          <p:cNvPicPr/>
          <p:nvPr/>
        </p:nvPicPr>
        <p:blipFill>
          <a:blip r:embed="rId1"/>
          <a:stretch/>
        </p:blipFill>
        <p:spPr>
          <a:xfrm>
            <a:off x="-10363320" y="-380880"/>
            <a:ext cx="19507320" cy="7467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380880" y="-152280"/>
            <a:ext cx="85345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父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老了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我们却长大了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是一只小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载着我们的和睦温馨和梦幻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风雨飘摇里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一桨一桨摇去岁月的艰难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小船破旧的时候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我们驶进了避风的港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是一辆牛车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载着我们的童年与少年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漫漫人生路上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一步一步碾开勤劳的诗篇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隶书"/>
              </a:rPr>
              <a:t>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index.mp3" descr=""/>
          <p:cNvPicPr/>
          <p:nvPr/>
        </p:nvPicPr>
        <p:blipFill>
          <a:blip r:embed="rId2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050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59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18Z</dcterms:modified>
  <cp:revision>1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