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5BE-512B-40F3-B7DD-25F1674A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68E-3DC5-4837-A17A-52C91D20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502-927F-422A-BD4C-13E6312D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ECE-45F9-4E4D-A43A-8283B5B1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5964-68D2-4CAC-A5DF-8ED33616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F388-FD29-4467-8B7A-7B72CEE8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A27B-8A16-4319-AEF1-C1ED8206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69F7-2BB2-452F-98E7-2A56EAF4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3E1B-505F-46B5-8520-1364F2FD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05A4-7055-47D4-97CF-9F6FBB43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46B1-15A8-4C84-B1F6-321DEBA5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8AB-CB4A-472D-BFB4-E30FFF35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C3DF-E0A7-44B4-8E16-C8A599D7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72EA-B1CB-40FF-A4FC-EAA460F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3804-21C2-4695-9B1A-BF333A55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BE95-D2F1-4245-A69E-C47EA393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EB49-A8E6-4BB0-956A-9514CDCD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E75-340F-4E81-90AF-6EB19E8C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B57-2C63-4523-A909-FC07A177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0A3-A421-4313-A09B-6B4F0DED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32B-4A20-481E-8BB3-6163B780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29E-A448-4C5A-9CCE-007F0D6E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240-0123-4CFA-861E-7D71521D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555-7E8E-4B79-B3FD-54CD3F1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8627-28D3-4F26-9981-E296ED8C53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032F-4521-47AA-AADD-D3D286A1C37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AA2C-816E-41FD-A15D-218689A12B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10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102" descr="c46f6c2671fe313e918f9d8d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84" name="~PP4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051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爸爸我爱你卡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5124" descr="98937f133313aae8a6ef3f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128" descr="Vector_illustration_of_Happy_family_Fapp_15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130" descr="Vector_illustration_of_Happy_family_Fapp_04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132" descr="Vector_illustration_of_Happy_family_Fapp_02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8037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134" descr="Vector_illustration_of_Happy_family_Fapp_34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136" descr="cartoon_vector_art_for_father_day_1680_53087_m"/>
          <p:cNvPicPr/>
          <p:nvPr/>
        </p:nvPicPr>
        <p:blipFill>
          <a:blip r:embed="rId6"/>
          <a:stretch/>
        </p:blipFill>
        <p:spPr>
          <a:xfrm>
            <a:off x="0" y="35053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138" descr="cartoon_vector_art_for_father_day_1680_53098_m"/>
          <p:cNvPicPr/>
          <p:nvPr/>
        </p:nvPicPr>
        <p:blipFill>
          <a:blip r:embed="rId7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140" descr="cartoon_vector_art_for_father_day_1680_52972_m"/>
          <p:cNvPicPr/>
          <p:nvPr/>
        </p:nvPicPr>
        <p:blipFill>
          <a:blip r:embed="rId8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144" descr="4_183509_c573730f3cc5af1"/>
          <p:cNvPicPr/>
          <p:nvPr/>
        </p:nvPicPr>
        <p:blipFill>
          <a:blip r:embed="rId9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142" descr="4_183509_29ac084e9ccd413"/>
          <p:cNvPicPr/>
          <p:nvPr/>
        </p:nvPicPr>
        <p:blipFill>
          <a:blip r:embed="rId10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46" descr="4_183509_34020d5908c076a"/>
          <p:cNvPicPr/>
          <p:nvPr/>
        </p:nvPicPr>
        <p:blipFill>
          <a:blip r:embed="rId11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148" descr="4_183509_202b639e6ba5a3c"/>
          <p:cNvPicPr/>
          <p:nvPr/>
        </p:nvPicPr>
        <p:blipFill>
          <a:blip r:embed="rId1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50" descr="4_183509_7a492a99815eb17"/>
          <p:cNvPicPr/>
          <p:nvPr/>
        </p:nvPicPr>
        <p:blipFill>
          <a:blip r:embed="rId13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154" descr="4_183509_4ad79a99da8ac99"/>
          <p:cNvPicPr/>
          <p:nvPr/>
        </p:nvPicPr>
        <p:blipFill>
          <a:blip r:embed="rId14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156" descr="Vector_illustration_of_Happy_family_E01-PSD-041"/>
          <p:cNvPicPr/>
          <p:nvPr/>
        </p:nvPicPr>
        <p:blipFill>
          <a:blip r:embed="rId15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5159"/>
          <p:cNvSpPr txBox="1"/>
          <p:nvPr/>
        </p:nvSpPr>
        <p:spPr>
          <a:xfrm>
            <a:off x="5486400" y="46483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黑体"/>
              </a:rPr>
              <a:t>爸 爸，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黑体"/>
              <a:ea typeface="黑体"/>
            </a:endParaRPr>
          </a:p>
        </p:txBody>
      </p:sp>
      <p:sp>
        <p:nvSpPr>
          <p:cNvPr id="103" name="矩形 5160"/>
          <p:cNvSpPr txBox="1"/>
          <p:nvPr/>
        </p:nvSpPr>
        <p:spPr>
          <a:xfrm>
            <a:off x="152280" y="12952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黑体"/>
              </a:rPr>
              <a:t>I LOVE YOU!</a:t>
            </a:r>
            <a:endParaRPr b="0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黑体"/>
              <a:ea typeface="黑体"/>
            </a:endParaRPr>
          </a:p>
        </p:txBody>
      </p:sp>
      <p:pic>
        <p:nvPicPr>
          <p:cNvPr id="104" name="~PP662.WAV" descr=""/>
          <p:cNvPicPr/>
          <p:nvPr/>
        </p:nvPicPr>
        <p:blipFill>
          <a:blip r:embed="rId16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6155"/>
          <p:cNvGrpSpPr/>
          <p:nvPr/>
        </p:nvGrpSpPr>
        <p:grpSpPr>
          <a:xfrm>
            <a:off x="0" y="0"/>
            <a:ext cx="9144000" cy="6846840"/>
            <a:chOff x="0" y="0"/>
            <a:chExt cx="9144000" cy="6846840"/>
          </a:xfrm>
        </p:grpSpPr>
        <p:pic>
          <p:nvPicPr>
            <p:cNvPr id="106" name="图片 6149" descr="6fe955fbf21bc5b49c51466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椭圆形标注 6153"/>
            <p:cNvSpPr/>
            <p:nvPr/>
          </p:nvSpPr>
          <p:spPr>
            <a:xfrm>
              <a:off x="3352680" y="5322960"/>
              <a:ext cx="1752840" cy="838080"/>
            </a:xfrm>
            <a:prstGeom prst="wedgeEllipseCallout">
              <a:avLst>
                <a:gd name="adj1" fmla="val -55615"/>
                <a:gd name="adj2" fmla="val -5549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我也要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形标注 6154"/>
            <p:cNvSpPr/>
            <p:nvPr/>
          </p:nvSpPr>
          <p:spPr>
            <a:xfrm>
              <a:off x="457200" y="2503440"/>
              <a:ext cx="1447920" cy="685800"/>
            </a:xfrm>
            <a:prstGeom prst="wedgeEllipseCallout">
              <a:avLst>
                <a:gd name="adj1" fmla="val 30263"/>
                <a:gd name="adj2" fmla="val 77314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好好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6151"/>
          <p:cNvSpPr txBox="1"/>
          <p:nvPr/>
        </p:nvSpPr>
        <p:spPr>
          <a:xfrm>
            <a:off x="4038480" y="350532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祝爸爸父亲节快乐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!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10" name="~PP671.WAV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198"/>
          <p:cNvSpPr/>
          <p:nvPr/>
        </p:nvSpPr>
        <p:spPr>
          <a:xfrm>
            <a:off x="990720" y="198108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7202" descr="98937f133313aae8a6ef3f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4572000" y="1371600"/>
            <a:ext cx="360" cy="5029200"/>
            <a:chOff x="4572000" y="1371600"/>
            <a:chExt cx="360" cy="5029200"/>
          </a:xfrm>
        </p:grpSpPr>
        <p:sp>
          <p:nvSpPr>
            <p:cNvPr id="114" name="直接连接符 7177"/>
            <p:cNvSpPr/>
            <p:nvPr/>
          </p:nvSpPr>
          <p:spPr>
            <a:xfrm>
              <a:off x="4572000" y="137160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572000" y="1371600"/>
              <a:ext cx="3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71600" y="304560"/>
            <a:ext cx="3200400" cy="1066680"/>
            <a:chOff x="1371600" y="304560"/>
            <a:chExt cx="3200400" cy="1066680"/>
          </a:xfrm>
        </p:grpSpPr>
        <p:sp>
          <p:nvSpPr>
            <p:cNvPr id="117" name="直接连接符 7179"/>
            <p:cNvSpPr/>
            <p:nvPr/>
          </p:nvSpPr>
          <p:spPr>
            <a:xfrm flipH="1" flipV="1">
              <a:off x="1371600" y="304560"/>
              <a:ext cx="320040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10800000">
              <a:off x="1371600" y="304200"/>
              <a:ext cx="320040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371600" y="5333760"/>
            <a:ext cx="3200400" cy="1066680"/>
            <a:chOff x="1371600" y="5333760"/>
            <a:chExt cx="3200400" cy="1066680"/>
          </a:xfrm>
        </p:grpSpPr>
        <p:sp>
          <p:nvSpPr>
            <p:cNvPr id="120" name="直接连接符 7180"/>
            <p:cNvSpPr/>
            <p:nvPr/>
          </p:nvSpPr>
          <p:spPr>
            <a:xfrm flipH="1" flipV="1">
              <a:off x="1371600" y="5333760"/>
              <a:ext cx="320040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10800000">
              <a:off x="1371600" y="5333760"/>
              <a:ext cx="320040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71600" y="304920"/>
            <a:ext cx="360" cy="5029200"/>
            <a:chOff x="1371600" y="304920"/>
            <a:chExt cx="360" cy="5029200"/>
          </a:xfrm>
        </p:grpSpPr>
        <p:sp>
          <p:nvSpPr>
            <p:cNvPr id="123" name="直接连接符 7182"/>
            <p:cNvSpPr/>
            <p:nvPr/>
          </p:nvSpPr>
          <p:spPr>
            <a:xfrm>
              <a:off x="1371600" y="30492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1371600" y="304920"/>
              <a:ext cx="3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572000" y="304560"/>
            <a:ext cx="3200400" cy="1066680"/>
            <a:chOff x="4572000" y="304560"/>
            <a:chExt cx="3200400" cy="1066680"/>
          </a:xfrm>
        </p:grpSpPr>
        <p:sp>
          <p:nvSpPr>
            <p:cNvPr id="126" name="直接连接符 7183"/>
            <p:cNvSpPr/>
            <p:nvPr/>
          </p:nvSpPr>
          <p:spPr>
            <a:xfrm flipV="1">
              <a:off x="4572000" y="304560"/>
              <a:ext cx="320040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10800000">
              <a:off x="4572000" y="304200"/>
              <a:ext cx="320040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2000" y="5333760"/>
            <a:ext cx="3200400" cy="1066680"/>
            <a:chOff x="4572000" y="5333760"/>
            <a:chExt cx="3200400" cy="1066680"/>
          </a:xfrm>
        </p:grpSpPr>
        <p:sp>
          <p:nvSpPr>
            <p:cNvPr id="129" name="直接连接符 7184"/>
            <p:cNvSpPr/>
            <p:nvPr/>
          </p:nvSpPr>
          <p:spPr>
            <a:xfrm flipV="1">
              <a:off x="4572000" y="5333760"/>
              <a:ext cx="320040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4572000" y="5333760"/>
              <a:ext cx="320040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772400" y="304920"/>
            <a:ext cx="360" cy="5029200"/>
            <a:chOff x="7772400" y="304920"/>
            <a:chExt cx="360" cy="5029200"/>
          </a:xfrm>
        </p:grpSpPr>
        <p:sp>
          <p:nvSpPr>
            <p:cNvPr id="132" name="直接连接符 7185"/>
            <p:cNvSpPr/>
            <p:nvPr/>
          </p:nvSpPr>
          <p:spPr>
            <a:xfrm>
              <a:off x="7772400" y="30492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7772400" y="304920"/>
              <a:ext cx="3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1371600"/>
            <a:ext cx="360" cy="5029200"/>
            <a:chOff x="4572000" y="1371600"/>
            <a:chExt cx="360" cy="5029200"/>
          </a:xfrm>
        </p:grpSpPr>
        <p:sp>
          <p:nvSpPr>
            <p:cNvPr id="135" name="直接连接符 7191"/>
            <p:cNvSpPr/>
            <p:nvPr/>
          </p:nvSpPr>
          <p:spPr>
            <a:xfrm>
              <a:off x="4572000" y="137160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572000" y="1371600"/>
              <a:ext cx="3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7204"/>
          <p:cNvGrpSpPr/>
          <p:nvPr/>
        </p:nvGrpSpPr>
        <p:grpSpPr>
          <a:xfrm>
            <a:off x="1371600" y="304920"/>
            <a:ext cx="6400800" cy="6095880"/>
            <a:chOff x="1371600" y="304920"/>
            <a:chExt cx="6400800" cy="6095880"/>
          </a:xfrm>
        </p:grpSpPr>
        <p:grpSp>
          <p:nvGrpSpPr>
            <p:cNvPr id="138" name="组合 7203"/>
            <p:cNvGrpSpPr/>
            <p:nvPr/>
          </p:nvGrpSpPr>
          <p:grpSpPr>
            <a:xfrm>
              <a:off x="1371600" y="304920"/>
              <a:ext cx="6400800" cy="6095880"/>
              <a:chOff x="1371600" y="304920"/>
              <a:chExt cx="6400800" cy="6095880"/>
            </a:xfrm>
          </p:grpSpPr>
          <p:sp>
            <p:nvSpPr>
              <p:cNvPr id="139" name="任意多边形 7188"/>
              <p:cNvSpPr/>
              <p:nvPr/>
            </p:nvSpPr>
            <p:spPr>
              <a:xfrm>
                <a:off x="1371600" y="304920"/>
                <a:ext cx="6400800" cy="6095880"/>
              </a:xfrm>
              <a:custGeom>
                <a:avLst/>
                <a:gdLst/>
                <a:ahLst/>
                <a:rect l="l" t="t" r="r" b="b"/>
                <a:pathLst>
                  <a:path w="4032" h="3840">
                    <a:moveTo>
                      <a:pt x="2016" y="672"/>
                    </a:moveTo>
                    <a:lnTo>
                      <a:pt x="0" y="0"/>
                    </a:lnTo>
                    <a:lnTo>
                      <a:pt x="0" y="3120"/>
                    </a:lnTo>
                    <a:lnTo>
                      <a:pt x="0" y="3168"/>
                    </a:lnTo>
                    <a:lnTo>
                      <a:pt x="2016" y="3840"/>
                    </a:lnTo>
                    <a:lnTo>
                      <a:pt x="4032" y="3168"/>
                    </a:lnTo>
                    <a:lnTo>
                      <a:pt x="4032" y="0"/>
                    </a:lnTo>
                    <a:lnTo>
                      <a:pt x="2016" y="67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流程图: 终止 7194"/>
              <p:cNvSpPr/>
              <p:nvPr/>
            </p:nvSpPr>
            <p:spPr>
              <a:xfrm>
                <a:off x="1447920" y="11430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亲爱的爸爸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文本框 7196"/>
              <p:cNvSpPr/>
              <p:nvPr/>
            </p:nvSpPr>
            <p:spPr>
              <a:xfrm>
                <a:off x="1676520" y="2209680"/>
                <a:ext cx="579096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你是雄鹰，我是小鸟， 你是大树，我是小草；你是我老爸，我是你那位特调      皮捣蛋的孩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您给了我一片蓝天，给了我一方沃土，  您是我生命里永远的太阳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祝父亲节快乐 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流程图: 终止 7197"/>
              <p:cNvSpPr/>
              <p:nvPr/>
            </p:nvSpPr>
            <p:spPr>
              <a:xfrm>
                <a:off x="5562720" y="38862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爱您的女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图片 7198" descr="1182169235247"/>
            <p:cNvPicPr/>
            <p:nvPr/>
          </p:nvPicPr>
          <p:blipFill>
            <a:blip r:embed="rId3"/>
            <a:stretch/>
          </p:blipFill>
          <p:spPr>
            <a:xfrm>
              <a:off x="1752480" y="3276720"/>
              <a:ext cx="2667240" cy="203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4572000" y="1371600"/>
            <a:ext cx="360" cy="5029200"/>
            <a:chOff x="4572000" y="1371600"/>
            <a:chExt cx="360" cy="5029200"/>
          </a:xfrm>
        </p:grpSpPr>
        <p:sp>
          <p:nvSpPr>
            <p:cNvPr id="145" name="直接连接符 7206"/>
            <p:cNvSpPr/>
            <p:nvPr/>
          </p:nvSpPr>
          <p:spPr>
            <a:xfrm>
              <a:off x="4572000" y="137160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572000" y="1371600"/>
              <a:ext cx="3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~PP3908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09F4-D6B8-4703-9C80-3A12CF8936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81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8196" descr="c46f6c2671fe313e918f9d8d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154" name="~PP1343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5T07:59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3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