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A9CE3-9F2D-4D3E-8122-A32C96AFB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41CD2-6D5F-4579-A65E-73B2F3042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FE328-822B-47A2-B020-2EF150766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E2781-E97D-46AE-B4E5-9E5FC5A95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1E5C81-B1EF-4DD9-AE60-469E5C0E8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2FC9-6A7B-4451-874E-CE37034FE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A0DD1-4854-4A2A-BE16-A4AE969EB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8170A-3AC0-4393-846A-77465A832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60A46-7AE7-4A30-816E-E9F0AE1DD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FEFB-46B7-4C42-91BE-F80995E8B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BE7A9-834C-4830-A2D7-5E82C8DE2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DA1AA-894D-480B-BF2C-4426071D0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AB043-E73F-44A7-AFE8-FC413CE98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E9CF9-B1E3-4CDD-BBA5-CCED1D9F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74DDC-81CC-4D8C-B82E-ADF5E97C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3C740-DB85-43B5-A471-423BE3009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2CB9C4-AC20-4A9B-A8CB-0C1967A5B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45421-3E4E-4D0D-9EB7-87889A2EDA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449A6-0169-4EE8-BDEC-2CCB8F2D9E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0"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3552C-7ABD-49D8-B3AB-6305BB029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8CFB2C-0CB8-45D9-AFD2-6899ADE60A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696C9E-E08D-447F-BFA2-033353FBB7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F5B5C-DBC2-4A09-A9E5-66E79CC85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157A0-01DD-4EF6-8C28-6A49457695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7"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C51A1-9411-4973-8CA2-125C1E760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CFF22-334B-42C0-9E08-62BF611C3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9F6A9-7A19-4BCA-BBD3-BBBEBF732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976C1-D78C-4CA6-A7A5-96362449F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88142-4431-4866-9788-D0BB911D6E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B89596-870B-4039-B75C-4669187A50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15A0-B024-4786-BF7B-02BFD215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B3A20-8D6A-4BC3-AE30-38A49E8BC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EB34-5686-4FDA-9A94-273D7128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CEE3-469B-4076-819B-E1DBA6748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06D9-DDC9-46A0-8BA0-72100C79E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E554-13DA-4FAC-B0BD-5B0893CB8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2BF0-8725-446D-BD38-8453D563AE61}"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97A6-6339-4288-ACB5-BDA3AC4BA8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B62D-9A5B-4E58-91A3-7C4F3B3F7D60}" type="datetime">
              <a:rPr b="0" lang="en-US" sz="1200" spc="-1" strike="noStrike">
                <a:solidFill>
                  <a:srgbClr val="898989"/>
                </a:solidFill>
                <a:latin typeface="Arial"/>
                <a:ea typeface="宋体"/>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AC56-F3C1-4706-A91A-4DC7D345F226}"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1458-C110-4A58-8EF0-3681BA952062}"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5D61-697F-42FC-A86A-39E5B3B9499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00400" y="304560"/>
            <a:ext cx="54864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ation Title</a:t>
            </a:r>
            <a:endParaRPr b="1" lang="en-US" sz="3200" spc="-1" strike="noStrike">
              <a:solidFill>
                <a:srgbClr val="000000"/>
              </a:solidFill>
              <a:latin typeface="Arial"/>
            </a:endParaRPr>
          </a:p>
        </p:txBody>
      </p:sp>
      <p:sp>
        <p:nvSpPr>
          <p:cNvPr id="124" name="PlaceHolder 2"/>
          <p:cNvSpPr>
            <a:spLocks noGrp="1"/>
          </p:cNvSpPr>
          <p:nvPr>
            <p:ph type="subTitle"/>
          </p:nvPr>
        </p:nvSpPr>
        <p:spPr>
          <a:xfrm>
            <a:off x="3429000" y="99036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tion Subtitle</a:t>
            </a:r>
            <a:endParaRPr b="0" lang="en-US" sz="3200" spc="-1" strike="noStrike">
              <a:solidFill>
                <a:srgbClr val="000000"/>
              </a:solidFill>
              <a:latin typeface="Arial"/>
            </a:endParaRPr>
          </a:p>
        </p:txBody>
      </p:sp>
      <p:sp>
        <p:nvSpPr>
          <p:cNvPr id="125" name="文本框 4099"/>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26" name="文本框 4100"/>
          <p:cNvSpPr/>
          <p:nvPr/>
        </p:nvSpPr>
        <p:spPr>
          <a:xfrm>
            <a:off x="2418840" y="1600200"/>
            <a:ext cx="445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冰球运动</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0520" y="990360"/>
            <a:ext cx="6782040" cy="513540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Your Text here</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ide Master</a:t>
            </a:r>
            <a:endParaRPr b="1" lang="en-US" sz="3200" spc="-1" strike="noStrike">
              <a:solidFill>
                <a:srgbClr val="000000"/>
              </a:solidFill>
              <a:latin typeface="Arial"/>
            </a:endParaRPr>
          </a:p>
        </p:txBody>
      </p:sp>
      <p:sp>
        <p:nvSpPr>
          <p:cNvPr id="129" name="文本框 5123"/>
          <p:cNvSpPr/>
          <p:nvPr/>
        </p:nvSpPr>
        <p:spPr>
          <a:xfrm>
            <a:off x="755640" y="134136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69696"/>
                </a:solidFill>
                <a:uFillTx/>
                <a:latin typeface="Calibri"/>
                <a:ea typeface="Calibri"/>
                <a:hlinkClick r:id="rId1"/>
              </a:rPr>
              <a:t>ppt</a:t>
            </a:r>
            <a:r>
              <a:rPr b="0" lang="zh-CN" sz="1600" spc="-1" strike="noStrike" u="sng">
                <a:solidFill>
                  <a:srgbClr val="969696"/>
                </a:solidFill>
                <a:uFillTx/>
                <a:latin typeface="Calibri"/>
                <a:ea typeface="Calibri"/>
                <a:hlinkClick r:id="rId2"/>
              </a:rPr>
              <a:t>模版免费下载</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CBFC-508F-4A0F-8FE1-02F0A8691F9D}"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t Master</a:t>
            </a:r>
            <a:endParaRPr b="1" lang="en-US" sz="3200" spc="-1" strike="noStrike">
              <a:solidFill>
                <a:srgbClr val="000000"/>
              </a:solidFill>
              <a:latin typeface="Arial"/>
            </a:endParaRPr>
          </a:p>
        </p:txBody>
      </p:sp>
      <p:sp>
        <p:nvSpPr>
          <p:cNvPr id="135" name=""/>
          <p:cNvSpPr txBox="1"/>
          <p:nvPr/>
        </p:nvSpPr>
        <p:spPr>
          <a:xfrm>
            <a:off x="2133360" y="1600200"/>
            <a:ext cx="655308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Text here</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幻灯片之家：www.eeppt.com</dc:creator>
  <dc:description>幻灯片之家：www.eeppt.com</dc:description>
  <cp:keywords>幻灯片之家：www.eeppt.com</cp:keywords>
  <dc:language>en-US</dc:language>
  <cp:lastModifiedBy>pc</cp:lastModifiedBy>
  <dcterms:modified xsi:type="dcterms:W3CDTF">2016-01-24T03:30:40Z</dcterms:modified>
  <cp:revision>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