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9D6-DE51-4BF2-819D-F0B87082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C189-7F33-400D-A657-C0DD50E8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A81-3C9B-4166-A1A8-7659F91B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B10-6060-4878-9016-6DE2B355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DD75-F3C3-4250-99F0-0C295C37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4B68-C5EB-4BA6-B1CE-BB04E86E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D9B1-9DC1-44E2-BCD0-5F9E9835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34F2-CCDE-45E3-BA68-3FDFF61F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7E13-249E-4092-B1EA-D7FDA8D5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20EA-1C8D-4B1B-ACC9-7BA7C1BA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9623-CB61-452A-9361-C85DFC84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83A3-7D61-4470-AC62-88C0CFEE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AEE6-D6A7-4C62-BA61-8E55148E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8C92-071C-4B84-A29D-088E2B99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CAD7-9169-4756-BB7A-599EFD18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D9B7-DF54-4D8F-BC7C-54F4C0E7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2247-E557-4E15-84D4-11B1A015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3FD36-C22C-412D-8B05-4BF39822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D0CB6-BC11-4EC0-944D-1ADD3BB6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02553-D48E-4302-89BE-E81DCAEE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15C4B-8671-4573-AC1D-C920AB45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E573B-F089-4A34-B42C-295A5AB6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580-09D6-4531-AE64-5BC8D26C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AB7F8-3D19-48F9-BB4B-5F36AA44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5BECC-2E64-44E0-B864-584D493D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64D09-1681-4823-B353-1A0FCF3E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69462-135F-4A12-A2B5-C3166246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56EBB-87A2-468A-8C35-30539742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7F924-F95F-4517-9D94-C68470AE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F98AA-CD17-4949-A225-48202CB1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4C193-9E49-483E-BDDA-2562F049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03DEA-248B-496A-978F-6FCC8A01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8A95F-7FDD-41CC-97C0-1216E2CE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3A08-F591-4360-B125-C081F6CF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2DE51-3EC2-4C4E-95A1-CBBECD41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A5564-53E1-4D52-B6BC-E1D4EFE4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29BD0-4ADA-4981-AC57-1404E390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71160-232D-4D7C-BC29-ED379D99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982BB-CD60-409B-86CC-60D075EC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35407-80E0-4278-9660-DF5268D1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4F49B-0434-4F06-85A3-2BBCFFE8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9F70C-952B-4148-8FE9-D0A4D234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6620A-40E9-4FB7-8E86-C0AE138C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059-F5BE-4EF4-AA4B-DB84427C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1ED-9827-4D52-954E-C811E4E5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A2A-7EDB-4AB2-A39B-15949CBC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6CD-756E-48BF-AE3C-69DBAB00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6D8-8E11-45CE-BD44-A9EF81CC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25"/>
          <p:cNvSpPr/>
          <p:nvPr/>
        </p:nvSpPr>
        <p:spPr>
          <a:xfrm>
            <a:off x="0" y="1440"/>
            <a:ext cx="9144000" cy="1417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2BDA-68E5-47C7-B7B9-E6133BDFDB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1031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菱形 1032"/>
          <p:cNvSpPr/>
          <p:nvPr/>
        </p:nvSpPr>
        <p:spPr>
          <a:xfrm>
            <a:off x="8102520" y="6346800"/>
            <a:ext cx="358920" cy="3589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菱形 1033"/>
          <p:cNvSpPr/>
          <p:nvPr/>
        </p:nvSpPr>
        <p:spPr>
          <a:xfrm>
            <a:off x="7985160" y="658800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菱形 1034"/>
          <p:cNvSpPr/>
          <p:nvPr/>
        </p:nvSpPr>
        <p:spPr>
          <a:xfrm>
            <a:off x="8339040" y="658800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菱形 1035"/>
          <p:cNvSpPr/>
          <p:nvPr/>
        </p:nvSpPr>
        <p:spPr>
          <a:xfrm>
            <a:off x="7978680" y="623736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菱形 1036"/>
          <p:cNvSpPr/>
          <p:nvPr/>
        </p:nvSpPr>
        <p:spPr>
          <a:xfrm>
            <a:off x="8339040" y="623556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073"/>
          <p:cNvSpPr/>
          <p:nvPr/>
        </p:nvSpPr>
        <p:spPr>
          <a:xfrm>
            <a:off x="0" y="-23760"/>
            <a:ext cx="9144000" cy="430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0741-588A-4E83-A08B-5320372372B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矩形 3079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菱形 3080"/>
          <p:cNvSpPr/>
          <p:nvPr/>
        </p:nvSpPr>
        <p:spPr>
          <a:xfrm>
            <a:off x="8102520" y="6346800"/>
            <a:ext cx="358920" cy="3589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菱形 3081"/>
          <p:cNvSpPr/>
          <p:nvPr/>
        </p:nvSpPr>
        <p:spPr>
          <a:xfrm>
            <a:off x="7985160" y="658800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菱形 3082"/>
          <p:cNvSpPr/>
          <p:nvPr/>
        </p:nvSpPr>
        <p:spPr>
          <a:xfrm>
            <a:off x="8339040" y="658800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菱形 3083"/>
          <p:cNvSpPr/>
          <p:nvPr/>
        </p:nvSpPr>
        <p:spPr>
          <a:xfrm>
            <a:off x="7978680" y="623736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菱形 3084"/>
          <p:cNvSpPr/>
          <p:nvPr/>
        </p:nvSpPr>
        <p:spPr>
          <a:xfrm>
            <a:off x="8339040" y="623556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4474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8953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343160" indent="-4478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790640" indent="-8953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790640" indent="-8953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790640" indent="-8953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864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2640" y="62449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488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ECB1-D0E4-4332-B07F-B8E86BE18B11}" type="slidenum">
              <a:rPr b="0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0164-DEAB-4BE2-9F81-CC8401F6DF0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4248-1ABC-42A1-858D-60AD0801FDB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049"/>
          <p:cNvSpPr/>
          <p:nvPr/>
        </p:nvSpPr>
        <p:spPr>
          <a:xfrm>
            <a:off x="-33480" y="0"/>
            <a:ext cx="9177480" cy="3886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菱形 2052"/>
          <p:cNvSpPr/>
          <p:nvPr/>
        </p:nvSpPr>
        <p:spPr>
          <a:xfrm>
            <a:off x="8102520" y="450720"/>
            <a:ext cx="646200" cy="6098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菱形 2053"/>
          <p:cNvSpPr/>
          <p:nvPr/>
        </p:nvSpPr>
        <p:spPr>
          <a:xfrm>
            <a:off x="7985160" y="685800"/>
            <a:ext cx="511200" cy="51120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菱形 2054"/>
          <p:cNvSpPr/>
          <p:nvPr/>
        </p:nvSpPr>
        <p:spPr>
          <a:xfrm>
            <a:off x="8354880" y="692280"/>
            <a:ext cx="511200" cy="5126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菱形 2055"/>
          <p:cNvSpPr/>
          <p:nvPr/>
        </p:nvSpPr>
        <p:spPr>
          <a:xfrm>
            <a:off x="7961400" y="301680"/>
            <a:ext cx="511200" cy="5126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菱形 2056"/>
          <p:cNvSpPr/>
          <p:nvPr/>
        </p:nvSpPr>
        <p:spPr>
          <a:xfrm>
            <a:off x="8339040" y="333360"/>
            <a:ext cx="513000" cy="51120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9880" y="1744560"/>
            <a:ext cx="8178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毕业答辩通用绿色背景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演讲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6147"/>
          <p:cNvSpPr/>
          <p:nvPr/>
        </p:nvSpPr>
        <p:spPr>
          <a:xfrm>
            <a:off x="3854520" y="4780080"/>
            <a:ext cx="14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6148"/>
          <p:cNvSpPr/>
          <p:nvPr/>
        </p:nvSpPr>
        <p:spPr>
          <a:xfrm>
            <a:off x="3900600" y="5207040"/>
            <a:ext cx="13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文本框 7169"/>
          <p:cNvSpPr/>
          <p:nvPr/>
        </p:nvSpPr>
        <p:spPr>
          <a:xfrm>
            <a:off x="2801880" y="934920"/>
            <a:ext cx="284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正五边形 7170"/>
          <p:cNvSpPr/>
          <p:nvPr/>
        </p:nvSpPr>
        <p:spPr>
          <a:xfrm>
            <a:off x="2744640" y="2143080"/>
            <a:ext cx="576360" cy="57636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579840" y="2711520"/>
            <a:ext cx="2303280" cy="360"/>
            <a:chOff x="3579840" y="2711520"/>
            <a:chExt cx="2303280" cy="360"/>
          </a:xfrm>
        </p:grpSpPr>
        <p:sp>
          <p:nvSpPr>
            <p:cNvPr id="230" name="直接连接符 7171"/>
            <p:cNvSpPr/>
            <p:nvPr/>
          </p:nvSpPr>
          <p:spPr>
            <a:xfrm>
              <a:off x="3579840" y="2711520"/>
              <a:ext cx="2303280" cy="0"/>
            </a:xfrm>
            <a:prstGeom prst="line">
              <a:avLst/>
            </a:prstGeom>
            <a:ln w="25560">
              <a:solidFill>
                <a:srgbClr val="99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3579840" y="2711520"/>
              <a:ext cx="23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正五边形 7172"/>
          <p:cNvSpPr/>
          <p:nvPr/>
        </p:nvSpPr>
        <p:spPr>
          <a:xfrm>
            <a:off x="2744640" y="2846520"/>
            <a:ext cx="576360" cy="576000"/>
          </a:xfrm>
          <a:prstGeom prst="pentagon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579840" y="3414600"/>
            <a:ext cx="2303280" cy="1800"/>
            <a:chOff x="3579840" y="3414600"/>
            <a:chExt cx="2303280" cy="1800"/>
          </a:xfrm>
        </p:grpSpPr>
        <p:sp>
          <p:nvSpPr>
            <p:cNvPr id="234" name="直接连接符 7173"/>
            <p:cNvSpPr/>
            <p:nvPr/>
          </p:nvSpPr>
          <p:spPr>
            <a:xfrm>
              <a:off x="3579840" y="3414600"/>
              <a:ext cx="2303280" cy="1800"/>
            </a:xfrm>
            <a:prstGeom prst="line">
              <a:avLst/>
            </a:prstGeom>
            <a:ln w="2556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3579840" y="3414600"/>
              <a:ext cx="2303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正五边形 7174"/>
          <p:cNvSpPr/>
          <p:nvPr/>
        </p:nvSpPr>
        <p:spPr>
          <a:xfrm>
            <a:off x="2736720" y="3533760"/>
            <a:ext cx="576360" cy="57780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595680" y="4094280"/>
            <a:ext cx="2303640" cy="1440"/>
            <a:chOff x="3595680" y="4094280"/>
            <a:chExt cx="2303640" cy="1440"/>
          </a:xfrm>
        </p:grpSpPr>
        <p:sp>
          <p:nvSpPr>
            <p:cNvPr id="238" name="直接连接符 7175"/>
            <p:cNvSpPr/>
            <p:nvPr/>
          </p:nvSpPr>
          <p:spPr>
            <a:xfrm>
              <a:off x="3595680" y="4094280"/>
              <a:ext cx="2303640" cy="1440"/>
            </a:xfrm>
            <a:prstGeom prst="line">
              <a:avLst/>
            </a:prstGeom>
            <a:ln w="25560">
              <a:solidFill>
                <a:srgbClr val="99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3595680" y="4094280"/>
              <a:ext cx="2303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正五边形 7176"/>
          <p:cNvSpPr/>
          <p:nvPr/>
        </p:nvSpPr>
        <p:spPr>
          <a:xfrm>
            <a:off x="2733840" y="4222800"/>
            <a:ext cx="576000" cy="577800"/>
          </a:xfrm>
          <a:prstGeom prst="pentagon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68680" y="4791240"/>
            <a:ext cx="2303640" cy="1440"/>
            <a:chOff x="3568680" y="4791240"/>
            <a:chExt cx="2303640" cy="1440"/>
          </a:xfrm>
        </p:grpSpPr>
        <p:sp>
          <p:nvSpPr>
            <p:cNvPr id="242" name="直接连接符 7177"/>
            <p:cNvSpPr/>
            <p:nvPr/>
          </p:nvSpPr>
          <p:spPr>
            <a:xfrm>
              <a:off x="3568680" y="4791240"/>
              <a:ext cx="2303640" cy="1440"/>
            </a:xfrm>
            <a:prstGeom prst="line">
              <a:avLst/>
            </a:prstGeom>
            <a:ln w="2556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3568680" y="4791240"/>
              <a:ext cx="2303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1 /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5736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正文内容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61960" y="838080"/>
            <a:ext cx="7777080" cy="360"/>
            <a:chOff x="561960" y="838080"/>
            <a:chExt cx="7777080" cy="360"/>
          </a:xfrm>
        </p:grpSpPr>
        <p:sp>
          <p:nvSpPr>
            <p:cNvPr id="247" name="直接连接符 8195"/>
            <p:cNvSpPr/>
            <p:nvPr/>
          </p:nvSpPr>
          <p:spPr>
            <a:xfrm>
              <a:off x="561960" y="838080"/>
              <a:ext cx="77770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561960" y="838080"/>
              <a:ext cx="777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文本框 8196"/>
          <p:cNvSpPr/>
          <p:nvPr/>
        </p:nvSpPr>
        <p:spPr>
          <a:xfrm>
            <a:off x="512640" y="882720"/>
            <a:ext cx="35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二级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719280" y="692280"/>
            <a:ext cx="1604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Arial"/>
                <a:ea typeface="微软雅黑"/>
              </a:rPr>
              <a:t>数据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内容占位符 9218" descr=""/>
          <p:cNvPicPr/>
          <p:nvPr/>
        </p:nvPicPr>
        <p:blipFill>
          <a:blip r:embed="rId1"/>
          <a:stretch/>
        </p:blipFill>
        <p:spPr>
          <a:xfrm>
            <a:off x="1403280" y="1701720"/>
            <a:ext cx="6203880" cy="3432240"/>
          </a:xfrm>
          <a:prstGeom prst="rect">
            <a:avLst/>
          </a:prstGeom>
          <a:ln w="0">
            <a:noFill/>
          </a:ln>
        </p:spPr>
      </p:pic>
      <p:sp>
        <p:nvSpPr>
          <p:cNvPr id="25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DA57-4BE4-40EF-9D07-93CE084A456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文本框 10241"/>
          <p:cNvSpPr/>
          <p:nvPr/>
        </p:nvSpPr>
        <p:spPr>
          <a:xfrm>
            <a:off x="2370240" y="2773440"/>
            <a:ext cx="387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cc00"/>
                </a:solidFill>
                <a:latin typeface="Arial"/>
                <a:ea typeface="微软雅黑"/>
              </a:rPr>
              <a:t>谢谢聆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154240" y="3870360"/>
            <a:ext cx="4913280" cy="360"/>
            <a:chOff x="2154240" y="3870360"/>
            <a:chExt cx="4913280" cy="360"/>
          </a:xfrm>
        </p:grpSpPr>
        <p:sp>
          <p:nvSpPr>
            <p:cNvPr id="259" name="直接连接符 10242"/>
            <p:cNvSpPr/>
            <p:nvPr/>
          </p:nvSpPr>
          <p:spPr>
            <a:xfrm flipH="1">
              <a:off x="2154240" y="3870360"/>
              <a:ext cx="4913280" cy="0"/>
            </a:xfrm>
            <a:prstGeom prst="line">
              <a:avLst/>
            </a:prstGeom>
            <a:ln w="255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2154240" y="3870360"/>
              <a:ext cx="491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10243"/>
          <p:cNvGrpSpPr/>
          <p:nvPr/>
        </p:nvGrpSpPr>
        <p:grpSpPr>
          <a:xfrm>
            <a:off x="5827680" y="1849320"/>
            <a:ext cx="1239840" cy="2054160"/>
            <a:chOff x="5827680" y="1849320"/>
            <a:chExt cx="1239840" cy="2054160"/>
          </a:xfrm>
        </p:grpSpPr>
        <p:grpSp>
          <p:nvGrpSpPr>
            <p:cNvPr id="262" name="组合 10244"/>
            <p:cNvGrpSpPr/>
            <p:nvPr/>
          </p:nvGrpSpPr>
          <p:grpSpPr>
            <a:xfrm>
              <a:off x="5827680" y="1849320"/>
              <a:ext cx="1239840" cy="2054160"/>
              <a:chOff x="5827680" y="1849320"/>
              <a:chExt cx="1239840" cy="2054160"/>
            </a:xfrm>
          </p:grpSpPr>
          <p:sp>
            <p:nvSpPr>
              <p:cNvPr id="263" name="椭圆 10245"/>
              <p:cNvSpPr/>
              <p:nvPr/>
            </p:nvSpPr>
            <p:spPr>
              <a:xfrm>
                <a:off x="6126480" y="1849320"/>
                <a:ext cx="644760" cy="6458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椭圆 10246"/>
              <p:cNvSpPr/>
              <p:nvPr/>
            </p:nvSpPr>
            <p:spPr>
              <a:xfrm>
                <a:off x="6243120" y="2378160"/>
                <a:ext cx="410040" cy="111636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椭圆 10247"/>
              <p:cNvSpPr/>
              <p:nvPr/>
            </p:nvSpPr>
            <p:spPr>
              <a:xfrm>
                <a:off x="6891840" y="2534040"/>
                <a:ext cx="175680" cy="1760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曲线 235"/>
              <p:cNvSpPr/>
              <p:nvPr/>
            </p:nvSpPr>
            <p:spPr>
              <a:xfrm rot="20520000">
                <a:off x="6515280" y="2658600"/>
                <a:ext cx="464040" cy="381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cubicBezTo>
                      <a:pt x="1394" y="18084"/>
                      <a:pt x="3963" y="7704"/>
                      <a:pt x="8286" y="3852"/>
                    </a:cubicBezTo>
                    <a:cubicBezTo>
                      <a:pt x="12609" y="0"/>
                      <a:pt x="18975" y="1530"/>
                      <a:pt x="21600" y="2321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曲线 238"/>
              <p:cNvSpPr/>
              <p:nvPr/>
            </p:nvSpPr>
            <p:spPr>
              <a:xfrm rot="660000">
                <a:off x="5915520" y="2459520"/>
                <a:ext cx="498240" cy="3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4212" y="3699"/>
                      <a:pt x="16289" y="11134"/>
                      <a:pt x="21600" y="21600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椭圆 10250"/>
              <p:cNvSpPr/>
              <p:nvPr/>
            </p:nvSpPr>
            <p:spPr>
              <a:xfrm>
                <a:off x="5827680" y="2305800"/>
                <a:ext cx="175680" cy="1760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6302160" y="3481200"/>
                <a:ext cx="111600" cy="234360"/>
                <a:chOff x="6302160" y="3481200"/>
                <a:chExt cx="111600" cy="234360"/>
              </a:xfrm>
            </p:grpSpPr>
            <p:sp>
              <p:nvSpPr>
                <p:cNvPr id="270" name="直接连接符 10251"/>
                <p:cNvSpPr/>
                <p:nvPr/>
              </p:nvSpPr>
              <p:spPr>
                <a:xfrm flipH="1">
                  <a:off x="6302160" y="3481200"/>
                  <a:ext cx="111600" cy="234360"/>
                </a:xfrm>
                <a:prstGeom prst="line">
                  <a:avLst/>
                </a:prstGeom>
                <a:ln w="507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 txBox="1"/>
                <p:nvPr/>
              </p:nvSpPr>
              <p:spPr>
                <a:xfrm>
                  <a:off x="6302160" y="3481200"/>
                  <a:ext cx="11160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501600" y="3467880"/>
                <a:ext cx="135360" cy="234720"/>
                <a:chOff x="6501600" y="3467880"/>
                <a:chExt cx="135360" cy="234720"/>
              </a:xfrm>
            </p:grpSpPr>
            <p:sp>
              <p:nvSpPr>
                <p:cNvPr id="273" name="直接连接符 10252"/>
                <p:cNvSpPr/>
                <p:nvPr/>
              </p:nvSpPr>
              <p:spPr>
                <a:xfrm>
                  <a:off x="6501600" y="3467880"/>
                  <a:ext cx="135360" cy="234720"/>
                </a:xfrm>
                <a:prstGeom prst="line">
                  <a:avLst/>
                </a:prstGeom>
                <a:ln w="507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 txBox="1"/>
                <p:nvPr/>
              </p:nvSpPr>
              <p:spPr>
                <a:xfrm>
                  <a:off x="6501600" y="3467880"/>
                  <a:ext cx="135360" cy="23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5" name="流程图: 延期 10253"/>
              <p:cNvSpPr/>
              <p:nvPr/>
            </p:nvSpPr>
            <p:spPr>
              <a:xfrm rot="6540000">
                <a:off x="6192720" y="3664800"/>
                <a:ext cx="176400" cy="23400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流程图: 延期 10254"/>
              <p:cNvSpPr/>
              <p:nvPr/>
            </p:nvSpPr>
            <p:spPr>
              <a:xfrm rot="4020000">
                <a:off x="6583320" y="3657960"/>
                <a:ext cx="176400" cy="23400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流程图: 延期 10255"/>
            <p:cNvSpPr/>
            <p:nvPr/>
          </p:nvSpPr>
          <p:spPr>
            <a:xfrm rot="6300000">
              <a:off x="6368760" y="2294280"/>
              <a:ext cx="97200" cy="9504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10256"/>
            <p:cNvSpPr/>
            <p:nvPr/>
          </p:nvSpPr>
          <p:spPr>
            <a:xfrm>
              <a:off x="6273360" y="2069640"/>
              <a:ext cx="7596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10257"/>
            <p:cNvSpPr/>
            <p:nvPr/>
          </p:nvSpPr>
          <p:spPr>
            <a:xfrm>
              <a:off x="6546600" y="2118960"/>
              <a:ext cx="75960" cy="74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2:32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