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E89-B119-4F66-AB51-D1FFD11B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DF4E-47AC-41D6-8016-15C6A777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E7DA-C425-4ADB-83C8-A74116DC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866A-D972-42E4-A565-ABF902BB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CB7B-A050-4D5F-B85A-9909DBB2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8B0A-AA2D-4E32-8EB9-0B4EFE9D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044D-65F9-452B-BC88-B62486B9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FEB2-387B-4FDA-BA2E-FA6C0A57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5B72-5671-4365-840A-20D3D831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7632-54EF-45CA-AC98-B923531D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C083-2677-407A-AFFB-1A7B14DA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171-C9AF-4A73-B310-D7F79D98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716A-C0AF-42A0-8C9B-AE38CC8A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7D32-47C0-41A7-B4BF-5B29C23D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65A1-3A2D-48A1-96C5-F26D66A3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A4C4-1402-40F8-9D1E-2A5EDC30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69D1-1710-4B17-8C56-9F24F9A4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AF3CB-BD53-4EF9-BE49-48797D65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C36D2-87C4-41E4-8C47-C95B06D9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C6503-F009-487D-91E0-A88A6793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1C3FB-017D-496B-A115-EFAF5E9C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CFB32-709B-425C-B17E-22235A07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9B59-5333-4CA9-B80A-F35353A7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376B9-984C-4A99-8C25-069CFB8C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86702-4FEF-4791-A61D-2A946D4E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D0CCC-B670-43F6-9A2C-3AD5D548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47EB9-4ECC-4C3D-9193-D6AAD1F7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1B9F4-9033-4FE3-B11C-DF5FC6B3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0C2AA-5020-4E6E-B733-E5EA5C20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2B39E-5C21-47D5-B73C-7F3E1D31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A43-027E-4F30-9849-BF0CE621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2C6C-7363-4E79-B44F-6066FA8A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9EFB-EB00-40C1-B5BC-3897DFCD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5979-5948-45D0-8F46-6E9A3F5F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44D-26B8-402F-93D0-A591FF79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BFE6-5FD2-49D3-BEFE-20E7F142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7F8B-2BC0-478C-95B4-1DBB2D6D84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科学内页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EFA5-0C08-405F-BC17-8FCA3E5DAC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889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D431-B14E-4326-8986-C5A05A36C994}" type="slidenum">
              <a:rPr b="0" lang="zh-CN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3"/>
          <p:cNvSpPr txBox="1"/>
          <p:nvPr/>
        </p:nvSpPr>
        <p:spPr>
          <a:xfrm>
            <a:off x="1654200" y="663480"/>
            <a:ext cx="5689440" cy="48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小学科学教科版四年级下册第二单元</a:t>
            </a:r>
            <a:endParaRPr b="1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23" name="标题 1"/>
          <p:cNvSpPr/>
          <p:nvPr/>
        </p:nvSpPr>
        <p:spPr>
          <a:xfrm>
            <a:off x="324000" y="1528920"/>
            <a:ext cx="792936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把种子散播到远处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896760" y="3308400"/>
            <a:ext cx="3602160" cy="22366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" descr=""/>
          <p:cNvPicPr/>
          <p:nvPr/>
        </p:nvPicPr>
        <p:blipFill>
          <a:blip r:embed="rId2"/>
          <a:stretch/>
        </p:blipFill>
        <p:spPr>
          <a:xfrm>
            <a:off x="4498920" y="2751120"/>
            <a:ext cx="3754440" cy="278784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5f5f5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285840" cy="1355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09680" y="260280"/>
            <a:ext cx="137880" cy="4809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68360" y="260280"/>
            <a:ext cx="139680" cy="4809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74680" y="528480"/>
            <a:ext cx="136440" cy="4734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31760" y="263520"/>
            <a:ext cx="141120" cy="469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409680" y="523800"/>
            <a:ext cx="137880" cy="4698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50920" y="5084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15515" y="3837"/>
                </a:moveTo>
                <a:lnTo>
                  <a:pt x="18091" y="6448"/>
                </a:lnTo>
                <a:lnTo>
                  <a:pt x="18091" y="4707"/>
                </a:lnTo>
                <a:lnTo>
                  <a:pt x="19867" y="4707"/>
                </a:lnTo>
                <a:lnTo>
                  <a:pt x="19867" y="8224"/>
                </a:lnTo>
                <a:lnTo>
                  <a:pt x="22478" y="10800"/>
                </a:lnTo>
                <a:lnTo>
                  <a:pt x="20824" y="10800"/>
                </a:lnTo>
                <a:lnTo>
                  <a:pt x="20824" y="17989"/>
                </a:lnTo>
                <a:lnTo>
                  <a:pt x="10206" y="17989"/>
                </a:lnTo>
                <a:lnTo>
                  <a:pt x="10206" y="10800"/>
                </a:lnTo>
                <a:lnTo>
                  <a:pt x="8552" y="10800"/>
                </a:lnTo>
                <a:close/>
              </a:path>
              <a:path fill="darkenLess" w="31030" h="21600">
                <a:moveTo>
                  <a:pt x="18091" y="6448"/>
                </a:moveTo>
                <a:lnTo>
                  <a:pt x="18091" y="4707"/>
                </a:lnTo>
                <a:lnTo>
                  <a:pt x="19867" y="4707"/>
                </a:lnTo>
                <a:lnTo>
                  <a:pt x="19867" y="8224"/>
                </a:lnTo>
                <a:close/>
              </a:path>
              <a:path fill="darkenLess" w="31030" h="21600">
                <a:moveTo>
                  <a:pt x="14592" y="14299"/>
                </a:moveTo>
                <a:lnTo>
                  <a:pt x="16437" y="14299"/>
                </a:lnTo>
                <a:lnTo>
                  <a:pt x="16437" y="17989"/>
                </a:lnTo>
                <a:lnTo>
                  <a:pt x="20824" y="17989"/>
                </a:lnTo>
                <a:lnTo>
                  <a:pt x="20824" y="10800"/>
                </a:lnTo>
                <a:lnTo>
                  <a:pt x="10206" y="10800"/>
                </a:lnTo>
                <a:lnTo>
                  <a:pt x="10206" y="17989"/>
                </a:lnTo>
                <a:lnTo>
                  <a:pt x="14592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8000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5" name="Picture 10" descr="2008-3-31 9-58-16_0011"/>
          <p:cNvPicPr/>
          <p:nvPr/>
        </p:nvPicPr>
        <p:blipFill>
          <a:blip r:embed="rId1"/>
          <a:srcRect l="0" t="0" r="0" b="-27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1"/>
          <p:cNvSpPr/>
          <p:nvPr/>
        </p:nvSpPr>
        <p:spPr>
          <a:xfrm>
            <a:off x="1371600" y="57150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水  传  播  种   子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0"/>
          <a:ext cx="9144000" cy="6781680"/>
        </p:xfrm>
        <a:graphic>
          <a:graphicData uri="http://schemas.openxmlformats.org/drawingml/2006/table">
            <a:tbl>
              <a:tblPr/>
              <a:tblGrid>
                <a:gridCol w="2743200"/>
                <a:gridCol w="640080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Text Box 22"/>
          <p:cNvSpPr/>
          <p:nvPr/>
        </p:nvSpPr>
        <p:spPr>
          <a:xfrm>
            <a:off x="179280" y="333360"/>
            <a:ext cx="25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传播方式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" name="Text Box 23"/>
          <p:cNvSpPr/>
          <p:nvPr/>
        </p:nvSpPr>
        <p:spPr>
          <a:xfrm>
            <a:off x="3505320" y="457200"/>
            <a:ext cx="495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植  物  名  称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3200400" y="19051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油菜、豌豆、凤仙花等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3276720" y="31240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苍耳、鬼针草、蒺藜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3124080" y="449568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柳树、蒲公英等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Text Box 27"/>
          <p:cNvSpPr/>
          <p:nvPr/>
        </p:nvSpPr>
        <p:spPr>
          <a:xfrm>
            <a:off x="3200400" y="57150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莲蓬、椰子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108000" y="170172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自体传播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Text Box 29"/>
          <p:cNvSpPr/>
          <p:nvPr/>
        </p:nvSpPr>
        <p:spPr>
          <a:xfrm>
            <a:off x="108000" y="4221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动物传播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6" name="Text Box 30"/>
          <p:cNvSpPr/>
          <p:nvPr/>
        </p:nvSpPr>
        <p:spPr>
          <a:xfrm>
            <a:off x="324000" y="31417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风传播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Text Box 31"/>
          <p:cNvSpPr/>
          <p:nvPr/>
        </p:nvSpPr>
        <p:spPr>
          <a:xfrm>
            <a:off x="324000" y="55180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水传播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16000" y="262080"/>
            <a:ext cx="85406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植物怎样传播种子</a:t>
            </a:r>
            <a:endParaRPr b="0" lang="en-US" sz="4000" spc="-1" strike="noStrike">
              <a:solidFill>
                <a:srgbClr val="686868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1486080"/>
          <a:ext cx="8815320" cy="4346280"/>
        </p:xfrm>
        <a:graphic>
          <a:graphicData uri="http://schemas.openxmlformats.org/drawingml/2006/table">
            <a:tbl>
              <a:tblPr/>
              <a:tblGrid>
                <a:gridCol w="2233440"/>
                <a:gridCol w="6581880"/>
              </a:tblGrid>
              <a:tr h="101088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传播方式</a:t>
                      </a:r>
                      <a:endParaRPr b="0" lang="en-US" sz="3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果实或种子的特点</a:t>
                      </a:r>
                      <a:endParaRPr b="0" lang="en-US" sz="3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风传播</a:t>
                      </a:r>
                      <a:endParaRPr b="0" lang="en-US" sz="3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果实轻小，有毛或翅</a:t>
                      </a:r>
                      <a:endParaRPr b="0" lang="en-US" sz="3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水传播</a:t>
                      </a:r>
                      <a:endParaRPr b="0" lang="en-US" sz="3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果实中有很多空气，能浮起来</a:t>
                      </a:r>
                      <a:endParaRPr b="0" lang="en-US" sz="3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动物传播</a:t>
                      </a:r>
                      <a:endParaRPr b="0" lang="en-US" sz="3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果实有钩刺，或美味多汁</a:t>
                      </a:r>
                      <a:endParaRPr b="0" lang="en-US" sz="3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自体传播</a:t>
                      </a:r>
                      <a:endParaRPr b="0" lang="en-US" sz="3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果皮干裂后会卷曲</a:t>
                      </a:r>
                      <a:endParaRPr b="0" lang="en-US" sz="36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文本框 8199"/>
          <p:cNvSpPr/>
          <p:nvPr/>
        </p:nvSpPr>
        <p:spPr>
          <a:xfrm>
            <a:off x="2463840" y="944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1607040" y="4035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拓展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066680" y="2229480"/>
            <a:ext cx="74678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种子成熟后，不散播到远处，都掉落在植物近旁，会产生怎样的情况 ？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83" name="Picture 5" descr="u=3008908131,1070995669&amp;fm=0&amp;gp=-16"/>
          <p:cNvPicPr/>
          <p:nvPr/>
        </p:nvPicPr>
        <p:blipFill>
          <a:blip r:embed="rId1"/>
          <a:stretch/>
        </p:blipFill>
        <p:spPr>
          <a:xfrm rot="1260000">
            <a:off x="6048000" y="4044960"/>
            <a:ext cx="21114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C61F-AB5B-4624-91E6-DEBAB41585CF}" type="slidenum">
              <a:rPr b="0" lang="zh-CN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3640" y="1269720"/>
            <a:ext cx="87850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送给同学们的科学家名言：</a:t>
            </a:r>
            <a:br>
              <a:rPr sz="3200"/>
            </a:b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     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人的天职在勇于探索真理。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---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哥白尼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波兰</a:t>
            </a: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) </a:t>
            </a:r>
            <a:endParaRPr b="0" lang="en-US" sz="4800" spc="-1" strike="noStrike">
              <a:solidFill>
                <a:srgbClr val="6868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2402d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2401d"/>
          <p:cNvPicPr/>
          <p:nvPr/>
        </p:nvPicPr>
        <p:blipFill>
          <a:blip r:embed="rId1"/>
          <a:stretch/>
        </p:blipFill>
        <p:spPr>
          <a:xfrm>
            <a:off x="0" y="1440"/>
            <a:ext cx="9144000" cy="5445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1619280" y="537372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弹射传播种子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57200" y="1371600"/>
            <a:ext cx="8229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果荚类植物的果实成熟后干燥而坚硬的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果皮在阳光的烘烤下，会自动爆裂，或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稍有外力，也会爆裂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57200" y="4495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自体传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弹射传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油菜、凤仙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等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鬼针草"/>
          <p:cNvPicPr/>
          <p:nvPr/>
        </p:nvPicPr>
        <p:blipFill>
          <a:blip r:embed="rId1"/>
          <a:stretch/>
        </p:blipFill>
        <p:spPr>
          <a:xfrm>
            <a:off x="0" y="2565360"/>
            <a:ext cx="4665600" cy="3600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115920" y="14670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鬼针草（粘连子）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4" name="图片 2" descr=""/>
          <p:cNvPicPr/>
          <p:nvPr/>
        </p:nvPicPr>
        <p:blipFill>
          <a:blip r:embed="rId2"/>
          <a:stretch/>
        </p:blipFill>
        <p:spPr>
          <a:xfrm>
            <a:off x="4417920" y="0"/>
            <a:ext cx="4753080" cy="35784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7094880" y="260280"/>
            <a:ext cx="8506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苍耳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动物传播</a:t>
            </a:r>
            <a:endParaRPr b="0" lang="en-US" sz="5400" spc="-1" strike="noStrike">
              <a:solidFill>
                <a:srgbClr val="686868"/>
              </a:solidFill>
              <a:latin typeface="Arial"/>
            </a:endParaRPr>
          </a:p>
        </p:txBody>
      </p:sp>
      <p:sp>
        <p:nvSpPr>
          <p:cNvPr id="137" name="内容占位符 2"/>
          <p:cNvSpPr/>
          <p:nvPr/>
        </p:nvSpPr>
        <p:spPr>
          <a:xfrm>
            <a:off x="584280" y="1727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57400">
              <a:lnSpc>
                <a:spcPct val="150000"/>
              </a:lnSpc>
              <a:spcBef>
                <a:spcPts val="1800"/>
              </a:spcBef>
              <a:buClr>
                <a:srgbClr val="686868"/>
              </a:buClr>
              <a:buSzPct val="85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有些种子的外面生有刺毛、倒钩，只要轻轻一碰，就会立即粘附到人的衣服或动物的毛、羽上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 marL="343080" indent="-257400">
              <a:lnSpc>
                <a:spcPct val="150000"/>
              </a:lnSpc>
              <a:spcBef>
                <a:spcPts val="1800"/>
              </a:spcBef>
              <a:buClr>
                <a:srgbClr val="686868"/>
              </a:buClr>
              <a:buSzPct val="85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如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苍耳、鬼针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 rot="397200">
            <a:off x="6119640" y="1906560"/>
            <a:ext cx="3459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0" name="Picture 3" descr="2008-3-31 9-56-01_0010"/>
          <p:cNvPicPr/>
          <p:nvPr/>
        </p:nvPicPr>
        <p:blipFill>
          <a:blip r:embed="rId1"/>
          <a:stretch/>
        </p:blipFill>
        <p:spPr>
          <a:xfrm>
            <a:off x="3635280" y="2997360"/>
            <a:ext cx="4964040" cy="3412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2008-3-31 9-56-01_0010"/>
          <p:cNvPicPr/>
          <p:nvPr/>
        </p:nvPicPr>
        <p:blipFill>
          <a:blip r:embed="rId2"/>
          <a:stretch/>
        </p:blipFill>
        <p:spPr>
          <a:xfrm>
            <a:off x="4716360" y="0"/>
            <a:ext cx="4508640" cy="3011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2008-3-31 9-56-01_0010"/>
          <p:cNvPicPr/>
          <p:nvPr/>
        </p:nvPicPr>
        <p:blipFill>
          <a:blip r:embed="rId3"/>
          <a:stretch/>
        </p:blipFill>
        <p:spPr>
          <a:xfrm>
            <a:off x="111240" y="0"/>
            <a:ext cx="4605120" cy="3124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5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动物传播种子</a:t>
            </a:r>
            <a:endParaRPr b="0" lang="en-US" sz="4800" spc="-1" strike="noStrike">
              <a:solidFill>
                <a:srgbClr val="6868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" descr=""/>
          <p:cNvPicPr/>
          <p:nvPr/>
        </p:nvPicPr>
        <p:blipFill>
          <a:blip r:embed="rId1"/>
          <a:stretch/>
        </p:blipFill>
        <p:spPr>
          <a:xfrm>
            <a:off x="4281480" y="2492280"/>
            <a:ext cx="4861080" cy="36450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7824600" y="693720"/>
            <a:ext cx="91152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松子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6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4289400" cy="3213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334800" y="300600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板栗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标题 1"/>
          <p:cNvSpPr/>
          <p:nvPr/>
        </p:nvSpPr>
        <p:spPr>
          <a:xfrm>
            <a:off x="-15840" y="4803840"/>
            <a:ext cx="453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动物传播种子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5" descr="2008-3-31 9-58-16_0011"/>
          <p:cNvPicPr/>
          <p:nvPr/>
        </p:nvPicPr>
        <p:blipFill>
          <a:blip r:embed="rId1"/>
          <a:stretch/>
        </p:blipFill>
        <p:spPr>
          <a:xfrm>
            <a:off x="34920" y="0"/>
            <a:ext cx="5437080" cy="3195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蒲公英"/>
          <p:cNvPicPr/>
          <p:nvPr/>
        </p:nvPicPr>
        <p:blipFill>
          <a:blip r:embed="rId2"/>
          <a:stretch/>
        </p:blipFill>
        <p:spPr>
          <a:xfrm>
            <a:off x="5472000" y="9360"/>
            <a:ext cx="3672000" cy="5451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3851280" y="3429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蒲公英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2" name="图片 1" descr=""/>
          <p:cNvPicPr/>
          <p:nvPr/>
        </p:nvPicPr>
        <p:blipFill>
          <a:blip r:embed="rId3"/>
          <a:stretch/>
        </p:blipFill>
        <p:spPr>
          <a:xfrm>
            <a:off x="15840" y="3195720"/>
            <a:ext cx="2851200" cy="25635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0" y="31957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槭树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4920" y="60480"/>
            <a:ext cx="28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蓟的果实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728800" y="17460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槭树的果实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405080" y="575316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风  传  播  种  子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3:3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48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