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WHOOSH.WAV" ContentType="audio/x-wav"/>
  <Override PartName="/ppt/media/image31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CAMERA.WAV" ContentType="audio/x-wav"/>
  <Override PartName="/ppt/media/image29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4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25.gif" ContentType="image/gif"/>
  <Override PartName="/ppt/media/image18.png" ContentType="image/png"/>
  <Override PartName="/ppt/media/image6.jpeg" ContentType="image/jpeg"/>
  <Override PartName="/ppt/media/image46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E31-884F-43A1-BE74-DD5E1365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29E-2137-4F0B-8F54-9D86FA7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36003-0EDB-416D-9F55-A8D14083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CBBD1-81F0-4A07-B892-59EEC05C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CCC68-8737-430F-B899-399B869C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3748A-F4EE-4729-A3C9-8305C6D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678B7-4CF3-4F10-986D-8E3DF7F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49518-5D3E-4A31-A63C-090FC6A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89682-BC7D-4F28-ABF8-5F3661D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017E9-6E19-40C0-86F1-E47A3E94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032C1-14F5-4088-A8E9-79E4C498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03D8A-F370-4670-B042-BF5F2C9A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159-681B-4A09-9A64-5A0735B0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26051-C25F-4A14-A8E7-38A93BE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E0AAF-A287-42DA-A4E9-135B5A9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2D31E-0695-45B3-8FDF-77D179A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725C9-FEA0-4DC1-94C4-9CC080C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52B87-7418-4FDC-A17C-BC9CAAAE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A0BD-91EB-4249-AA8E-5B7FBEA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7A959-CEBF-4C43-890D-8C129EF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16D32-B05E-4858-8F22-DA8CF8F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93A12-19A9-4C37-A6DA-237F5823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14175-663F-4CC5-83B4-CFF0ED72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E3B-95A5-4928-8B30-0C9D2C89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30C8B-34C9-4408-B1C6-DC2ABD39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70C0-48B0-49A8-B770-4BD8A15D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39DD-5D82-43F1-8005-3FE0FB45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258CE-1A14-4B90-8409-B6627CF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7FB7A-3D81-48E3-B76D-C522010D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281FC-FAAF-450B-9B6D-F076B3AE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C107-7BAB-448F-A9FD-F28704BA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F05D-C3DC-4E71-BB92-E84B152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03C5-22DD-4718-B917-1042882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91FA-9C8F-4E09-8115-EB9F20A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53A-E55E-42F0-A6ED-FC6B6AD6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4248D-2797-4A6E-A1F3-EA38806B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D8555-24F6-44E8-8A9E-AAA64F58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3628-8BD6-49B2-BE6D-490759A0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3508E-3C99-4DCF-AE06-E1FE17D5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F0E41-22B0-4E83-BEA3-6AA9806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34BC0-4ABE-4A7F-8DD2-BA71584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A6E1D-88DB-468A-84F2-A3019EB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95FE2-F489-410E-9CCB-30E58317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617EB-6DAF-44DF-8362-F8A7629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98865-E566-44CC-BC1B-23CB73B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FAAB-B27B-4FD2-804C-84E8E5D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32D5D-17A7-407E-B544-97D8935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A2D18-5B2B-4AF9-AF66-DE18738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C475-BFA6-4486-A123-93825D6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43751-1B85-4A59-A062-D60EE3FF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8D388-45D6-4C97-A5EE-DFECADD3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227F3-AFF4-4D0D-AD06-71F1B080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F8B4F-0FAA-4A87-990E-D61AB80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4C5BE-6BF8-49CF-AA76-3E1D18FA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FA36F-C9A5-4E50-B32C-41B6F647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50403-0308-4B8D-9A72-EF29035E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3D5-9956-4917-8BD1-1175499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058D1-7F80-4160-B0BC-0BE2A790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148E5-094C-48C2-86DE-C186EAB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2770E-280E-41B4-8D9A-7AAF1219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9B477-3327-4A4B-A288-987A161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75D02-3F2B-4EE3-A4D4-A0C6FD9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EC29C-08CA-496C-85D6-F65A4C26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72E81-2802-4AEC-A8BE-EC133616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C08EF-F5BD-41A5-958F-5CD9CE5A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C8719-9E98-40B1-A28A-07A24A4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51530-1B5E-4737-977B-95915DBA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D0E-23C2-4714-A53F-AA78E1C1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0B821-FEC8-4D1B-AD78-D70FD6A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26A44-B8D3-43FC-8812-D8AF484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5B1C4-8E2C-4A45-A827-98F91A33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55473-9C56-4B78-85C3-3D83C074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C44D8-4A9E-4B82-8764-19E4352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00C24-9652-4986-9076-18B78EC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B766B-A325-4C24-A664-317ACD50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76683-E630-4042-AC82-72C5D99C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04C67-21C7-4DA3-8804-2D7A38F9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E84B-91EC-4134-A251-930FA90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73B-0209-4637-B8B7-637881A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399-CE9E-4B58-A0B0-0914B01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A91-7CBA-462F-B4D2-E84EE2B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902B-3389-4D45-8DC8-E51C6E4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0EA1-5A07-4693-A47A-BC6DA7F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A5E1-BEBA-4CFC-A44F-07018CC9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5558-070C-44B7-96B0-E7192ED0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DDE-A9D4-41C2-B30A-0718556A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F5D0-209D-4265-9900-DC4992DB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CA45-4C83-4355-9C76-BD87D391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3914-3001-41E8-8E3F-7B28314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094E-B078-41F5-9A46-54745F54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0A0F-4BF1-482E-AFD9-09ABE38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8EB-8DB3-4F6E-AEBF-7C17D25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695A-2502-4ADC-B46B-D6C6DBB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CFBB-FCA4-4E14-ACCF-E8860D1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887E-DFB6-4220-AFC5-8B33E21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0F51-2C2A-42AF-849B-E4785C4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0DDB-2355-4114-BD95-146BD475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8A24-51E1-46C4-ABFB-311C2287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9080-AD7E-4D0A-B30E-AA6CB95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757A-C0F4-4B5C-A0D1-5B4D2ACE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C393-AA27-4DA4-AAC8-1E683683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25E4-4ABE-4F5F-BCDB-900F56F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CC2-CFE1-4511-8101-EA6C301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8360-E574-45B4-9ABF-ADDB374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7C5E-64BD-4F8F-8F04-E04A1D5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DFE7-3B9B-4EE0-AFA0-90DDE0B3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C621-D36B-4F45-A1E4-1AB30D8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BABB6-FF52-458D-87CB-6C477B7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AFBC-28C8-4E66-A126-7EF3AE8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E59E-B3EC-4E19-B8FA-D11D1EF2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5EA4-8D87-47D9-9CF7-7761FBB2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2D84-1968-4DA8-910D-E2CA9E4E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2E78-AF9C-4BB4-B470-E509E0E4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790-82E2-43B0-AA11-615300A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AE52-A78B-40E6-91F1-C3F06CF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1E82-D252-4D5A-A7EC-16EF8EE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21678-198A-404B-87DF-84AD2EC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3365-C566-4F32-9022-1C5DFE7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362D-FCC4-4421-B592-35E55103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720B-EB85-4755-A135-F7EFD73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E212-DA16-4C34-8E6F-1661101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E49A-DBFC-4555-B403-085A71F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BCF9-AA29-40D9-B400-CB9BD1A3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1050-6470-4E7A-936E-597E053D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7DD-AD25-467A-A626-CF20E76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D2F0-82DB-4008-8D54-7AAE151D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3774-18A8-4203-8396-52EBFBFD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64AE-7AD1-48A5-82A3-7CDCF75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33CB-2D7D-4F28-A879-3AE810FA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87E4-3C1E-49AB-915C-92DCBF6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810B-A6F6-462C-8550-67E3D64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6BA71-6CAF-4D7D-91A7-B042AC6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AAAC-DFCD-44B5-A21E-D09242C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4B47-20BD-4FDB-AC82-AF7EF7BD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C6B9-3D68-43D2-A21F-2AE5CD1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9E3-7F11-43E5-8483-9F2C985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B645-379F-4EDE-A18A-EA03455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F322-58C8-4120-BC5B-DC169B45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9F0E-43D6-4E52-BC9E-90961479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4DBB-C0E4-478D-B01F-D145E92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8CDC-72F5-4E3A-AE03-4E91A626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0705-60BC-4E86-93B0-B3AE574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2C72-6E74-412F-AEB4-91E7956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FCCF-50A7-46FA-8E2B-8B6409C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C0AD-280C-4EBE-A85B-39B7EBB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5526E-775A-4DC6-963A-FD24534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E50-D30C-4DF3-BC7A-43D1054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557A-8A08-410D-9BFE-E399D88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2884D-CBBB-42CF-AE2A-C45F908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2B33-9A43-45D9-B430-3B8DAB58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0BE9-7CCA-4882-82FB-2EC0AED9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90BD-EF2E-4CFF-B506-8C865B0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37971-1DBF-4D55-8FC0-80DAF442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BBEB-5211-4F1A-9660-57056168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3062-66C6-4518-BB73-5CEDE71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9F44-6BC3-417A-93C4-F0BE2113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98ED-0E9F-423E-98A0-533AB72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F79-FB0F-4F8E-AE38-9B13CC6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D697B-AE88-4009-861E-85A9C358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1954-7399-4288-B912-B23B387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73B1-7631-44D2-BB74-4B8AC5C6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B360C-1303-41D8-8C6D-8B8E198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470E-4FC1-4E60-8DC1-BC986FC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01828-DB6C-45DB-8CE1-BD27378A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30C92-A844-466A-9090-0F50FAD3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3812A-1B94-48CC-B6B6-B07E249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0FF3E-7ED2-4FDE-9DE5-F1A8D0F4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D5559-8D57-4D18-B74C-3FAE2845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300-D8F6-4761-B78E-CF3DCA123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1720"/>
            <a:ext cx="2427840" cy="2247840"/>
            <a:chOff x="7171200" y="-8172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1720"/>
              <a:ext cx="2427840" cy="2247840"/>
              <a:chOff x="7171200" y="-8172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1720"/>
                <a:ext cx="2427840" cy="2247840"/>
                <a:chOff x="7171200" y="-8172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08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0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412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72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248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83F2-7DEE-4BD6-8AC2-15C416EC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1EF2-CED4-4D3A-92C1-B589579B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E93-6836-4003-B8A9-246D90B7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318-F818-4501-A531-AB3FD892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045A-05A3-4AAA-8C1F-89C00F61C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12EE-4DA9-4E7E-B830-7089E48DC9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7600" y="4320360"/>
            <a:ext cx="977760" cy="1157400"/>
            <a:chOff x="7797600" y="4320360"/>
            <a:chExt cx="977760" cy="1157400"/>
          </a:xfrm>
        </p:grpSpPr>
        <p:sp>
          <p:nvSpPr>
            <p:cNvPr id="142" name="Freeform 19"/>
            <p:cNvSpPr/>
            <p:nvPr/>
          </p:nvSpPr>
          <p:spPr>
            <a:xfrm rot="7320000">
              <a:off x="7788600" y="4656600"/>
              <a:ext cx="9968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 rot="7320000">
              <a:off x="7764120" y="4635000"/>
              <a:ext cx="9936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 rot="7320000">
              <a:off x="7932240" y="4620960"/>
              <a:ext cx="6588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7600" y="4320360"/>
              <a:ext cx="977760" cy="1157400"/>
              <a:chOff x="7797600" y="4320360"/>
              <a:chExt cx="977760" cy="1157400"/>
            </a:xfrm>
          </p:grpSpPr>
          <p:sp>
            <p:nvSpPr>
              <p:cNvPr id="146" name="Freeform 23"/>
              <p:cNvSpPr/>
              <p:nvPr/>
            </p:nvSpPr>
            <p:spPr>
              <a:xfrm rot="7320000">
                <a:off x="7916760" y="5064120"/>
                <a:ext cx="9324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7320000">
                <a:off x="7758000" y="4652640"/>
                <a:ext cx="1056960" cy="4924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7320000">
                <a:off x="8039880" y="4763160"/>
                <a:ext cx="7477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7320000">
                <a:off x="8514360" y="4560840"/>
                <a:ext cx="99720" cy="186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7320000">
                <a:off x="8155080" y="4762440"/>
                <a:ext cx="30564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48C-08BE-42C2-9124-96D8F0A2B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5C1-8597-42F1-B036-3B290AA0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1D0B-A39F-43EB-97B6-3818A2ED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577A-02CE-4860-B4FF-4DB0B145F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25E-38D8-49F9-9A58-E8539DAE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0F24-5903-4B8A-B821-A78F0479F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CE9-5939-4D4F-83BE-6A1F8E2D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hyperlink" Target="307,16,&#24187;&#28783;&#29255; 16" TargetMode="External"/><Relationship Id="rId4" Type="http://schemas.openxmlformats.org/officeDocument/2006/relationships/hyperlink" Target="307,16,&#24187;&#28783;&#29255; 16" TargetMode="External"/><Relationship Id="rId5" Type="http://schemas.openxmlformats.org/officeDocument/2006/relationships/hyperlink" Target="307,16,&#24187;&#28783;&#29255; 16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3" descr=""/>
          <p:cNvPicPr/>
          <p:nvPr/>
        </p:nvPicPr>
        <p:blipFill>
          <a:blip r:embed="rId1"/>
          <a:stretch/>
        </p:blipFill>
        <p:spPr>
          <a:xfrm>
            <a:off x="4859280" y="3444840"/>
            <a:ext cx="2587680" cy="2586240"/>
          </a:xfrm>
          <a:prstGeom prst="rect">
            <a:avLst/>
          </a:prstGeom>
          <a:ln w="0">
            <a:noFill/>
          </a:ln>
        </p:spPr>
      </p:pic>
      <p:pic>
        <p:nvPicPr>
          <p:cNvPr id="646" name="WordArt 2" descr=""/>
          <p:cNvPicPr/>
          <p:nvPr/>
        </p:nvPicPr>
        <p:blipFill>
          <a:blip r:embed="rId2"/>
          <a:stretch/>
        </p:blipFill>
        <p:spPr>
          <a:xfrm>
            <a:off x="393840" y="836640"/>
            <a:ext cx="8353440" cy="22748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1" descr=""/>
          <p:cNvPicPr/>
          <p:nvPr/>
        </p:nvPicPr>
        <p:blipFill>
          <a:blip r:embed="rId3"/>
          <a:stretch/>
        </p:blipFill>
        <p:spPr>
          <a:xfrm>
            <a:off x="971640" y="3726000"/>
            <a:ext cx="3168720" cy="225576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250920" y="260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3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放置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刻度尺尽可能靠近被测物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能歪斜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0" y="2519280"/>
            <a:ext cx="4067280" cy="2854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4376520" cy="27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468360" y="404640"/>
            <a:ext cx="409896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4)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读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39640" y="13082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时视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垂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被测物和刻度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539640" y="2492280"/>
            <a:ext cx="7776720" cy="3096720"/>
            <a:chOff x="539640" y="2492280"/>
            <a:chExt cx="7776720" cy="3096720"/>
          </a:xfrm>
        </p:grpSpPr>
        <p:grpSp>
          <p:nvGrpSpPr>
            <p:cNvPr id="685" name="Group 5"/>
            <p:cNvGrpSpPr/>
            <p:nvPr/>
          </p:nvGrpSpPr>
          <p:grpSpPr>
            <a:xfrm>
              <a:off x="539640" y="2492280"/>
              <a:ext cx="7776720" cy="3096720"/>
              <a:chOff x="539640" y="2492280"/>
              <a:chExt cx="7776720" cy="3096720"/>
            </a:xfrm>
          </p:grpSpPr>
          <p:pic>
            <p:nvPicPr>
              <p:cNvPr id="686" name="Picture 6" descr=""/>
              <p:cNvPicPr/>
              <p:nvPr/>
            </p:nvPicPr>
            <p:blipFill>
              <a:blip r:embed="rId1"/>
              <a:srcRect l="0" t="0" r="0" b="-390"/>
              <a:stretch/>
            </p:blipFill>
            <p:spPr>
              <a:xfrm>
                <a:off x="539640" y="2492280"/>
                <a:ext cx="7776720" cy="309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0360" y="2492280"/>
                <a:ext cx="972000" cy="128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" name="Rectangle 8"/>
            <p:cNvSpPr/>
            <p:nvPr/>
          </p:nvSpPr>
          <p:spPr>
            <a:xfrm>
              <a:off x="1295280" y="2750040"/>
              <a:ext cx="1296000" cy="7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Rectangle 9"/>
            <p:cNvSpPr/>
            <p:nvPr/>
          </p:nvSpPr>
          <p:spPr>
            <a:xfrm>
              <a:off x="6156000" y="2621520"/>
              <a:ext cx="92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√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250920" y="99072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正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9811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81024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4" descr="1005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5"/>
          <p:cNvSpPr/>
          <p:nvPr/>
        </p:nvSpPr>
        <p:spPr>
          <a:xfrm>
            <a:off x="1476360" y="3333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请读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4"/>
          <p:cNvSpPr/>
          <p:nvPr/>
        </p:nvSpPr>
        <p:spPr>
          <a:xfrm>
            <a:off x="468360" y="2060640"/>
            <a:ext cx="4572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0" name="Group 5"/>
          <p:cNvGrpSpPr/>
          <p:nvPr/>
        </p:nvGrpSpPr>
        <p:grpSpPr>
          <a:xfrm>
            <a:off x="250920" y="2924280"/>
            <a:ext cx="8152920" cy="1218600"/>
            <a:chOff x="250920" y="2924280"/>
            <a:chExt cx="8152920" cy="1218600"/>
          </a:xfrm>
        </p:grpSpPr>
        <p:sp>
          <p:nvSpPr>
            <p:cNvPr id="701" name="Rectangle 6"/>
            <p:cNvSpPr/>
            <p:nvPr/>
          </p:nvSpPr>
          <p:spPr>
            <a:xfrm>
              <a:off x="250920" y="2924280"/>
              <a:ext cx="8152920" cy="121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794520" y="2924280"/>
              <a:ext cx="360" cy="261000"/>
              <a:chOff x="794520" y="2924280"/>
              <a:chExt cx="360" cy="261000"/>
            </a:xfrm>
          </p:grpSpPr>
          <p:sp>
            <p:nvSpPr>
              <p:cNvPr id="703" name="Line 7"/>
              <p:cNvSpPr/>
              <p:nvPr/>
            </p:nvSpPr>
            <p:spPr>
              <a:xfrm>
                <a:off x="7945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"/>
              <p:cNvSpPr txBox="1"/>
              <p:nvPr/>
            </p:nvSpPr>
            <p:spPr>
              <a:xfrm>
                <a:off x="7945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099160" y="2924280"/>
              <a:ext cx="360" cy="347760"/>
              <a:chOff x="2099160" y="2924280"/>
              <a:chExt cx="360" cy="347760"/>
            </a:xfrm>
          </p:grpSpPr>
          <p:sp>
            <p:nvSpPr>
              <p:cNvPr id="706" name="Line 8"/>
              <p:cNvSpPr/>
              <p:nvPr/>
            </p:nvSpPr>
            <p:spPr>
              <a:xfrm>
                <a:off x="2099160" y="29242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2099160" y="2924280"/>
                <a:ext cx="3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120680" y="2924280"/>
              <a:ext cx="360" cy="261000"/>
              <a:chOff x="1120680" y="2924280"/>
              <a:chExt cx="360" cy="261000"/>
            </a:xfrm>
          </p:grpSpPr>
          <p:sp>
            <p:nvSpPr>
              <p:cNvPr id="709" name="Line 9"/>
              <p:cNvSpPr/>
              <p:nvPr/>
            </p:nvSpPr>
            <p:spPr>
              <a:xfrm>
                <a:off x="11206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>
                <a:off x="11206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446840" y="2924280"/>
              <a:ext cx="360" cy="261000"/>
              <a:chOff x="1446840" y="2924280"/>
              <a:chExt cx="360" cy="261000"/>
            </a:xfrm>
          </p:grpSpPr>
          <p:sp>
            <p:nvSpPr>
              <p:cNvPr id="712" name="Line 10"/>
              <p:cNvSpPr/>
              <p:nvPr/>
            </p:nvSpPr>
            <p:spPr>
              <a:xfrm>
                <a:off x="14468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"/>
              <p:cNvSpPr txBox="1"/>
              <p:nvPr/>
            </p:nvSpPr>
            <p:spPr>
              <a:xfrm>
                <a:off x="14468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1773000" y="2924280"/>
              <a:ext cx="360" cy="261000"/>
              <a:chOff x="1773000" y="2924280"/>
              <a:chExt cx="360" cy="261000"/>
            </a:xfrm>
          </p:grpSpPr>
          <p:sp>
            <p:nvSpPr>
              <p:cNvPr id="715" name="Line 11"/>
              <p:cNvSpPr/>
              <p:nvPr/>
            </p:nvSpPr>
            <p:spPr>
              <a:xfrm>
                <a:off x="17730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"/>
              <p:cNvSpPr txBox="1"/>
              <p:nvPr/>
            </p:nvSpPr>
            <p:spPr>
              <a:xfrm>
                <a:off x="17730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425320" y="2924280"/>
              <a:ext cx="360" cy="261000"/>
              <a:chOff x="2425320" y="2924280"/>
              <a:chExt cx="360" cy="261000"/>
            </a:xfrm>
          </p:grpSpPr>
          <p:sp>
            <p:nvSpPr>
              <p:cNvPr id="718" name="Line 12"/>
              <p:cNvSpPr/>
              <p:nvPr/>
            </p:nvSpPr>
            <p:spPr>
              <a:xfrm>
                <a:off x="24253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24253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751480" y="2924280"/>
              <a:ext cx="360" cy="261000"/>
              <a:chOff x="2751480" y="2924280"/>
              <a:chExt cx="360" cy="261000"/>
            </a:xfrm>
          </p:grpSpPr>
          <p:sp>
            <p:nvSpPr>
              <p:cNvPr id="721" name="Line 13"/>
              <p:cNvSpPr/>
              <p:nvPr/>
            </p:nvSpPr>
            <p:spPr>
              <a:xfrm>
                <a:off x="27514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27514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077640" y="2924280"/>
              <a:ext cx="360" cy="261000"/>
              <a:chOff x="3077640" y="2924280"/>
              <a:chExt cx="360" cy="261000"/>
            </a:xfrm>
          </p:grpSpPr>
          <p:sp>
            <p:nvSpPr>
              <p:cNvPr id="724" name="Line 14"/>
              <p:cNvSpPr/>
              <p:nvPr/>
            </p:nvSpPr>
            <p:spPr>
              <a:xfrm>
                <a:off x="30776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30776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403800" y="2924280"/>
              <a:ext cx="360" cy="261000"/>
              <a:chOff x="3403800" y="2924280"/>
              <a:chExt cx="360" cy="261000"/>
            </a:xfrm>
          </p:grpSpPr>
          <p:sp>
            <p:nvSpPr>
              <p:cNvPr id="727" name="Line 15"/>
              <p:cNvSpPr/>
              <p:nvPr/>
            </p:nvSpPr>
            <p:spPr>
              <a:xfrm>
                <a:off x="34038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34038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468360" y="2924280"/>
              <a:ext cx="360" cy="696240"/>
              <a:chOff x="468360" y="2924280"/>
              <a:chExt cx="360" cy="696240"/>
            </a:xfrm>
          </p:grpSpPr>
          <p:sp>
            <p:nvSpPr>
              <p:cNvPr id="730" name="Line 16"/>
              <p:cNvSpPr/>
              <p:nvPr/>
            </p:nvSpPr>
            <p:spPr>
              <a:xfrm>
                <a:off x="46836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46836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3729600" y="2924280"/>
              <a:ext cx="360" cy="696240"/>
              <a:chOff x="3729600" y="2924280"/>
              <a:chExt cx="360" cy="696240"/>
            </a:xfrm>
          </p:grpSpPr>
          <p:sp>
            <p:nvSpPr>
              <p:cNvPr id="733" name="Line 17"/>
              <p:cNvSpPr/>
              <p:nvPr/>
            </p:nvSpPr>
            <p:spPr>
              <a:xfrm>
                <a:off x="372960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372960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055760" y="2924280"/>
              <a:ext cx="360" cy="261000"/>
              <a:chOff x="4055760" y="2924280"/>
              <a:chExt cx="360" cy="261000"/>
            </a:xfrm>
          </p:grpSpPr>
          <p:sp>
            <p:nvSpPr>
              <p:cNvPr id="736" name="Line 18"/>
              <p:cNvSpPr/>
              <p:nvPr/>
            </p:nvSpPr>
            <p:spPr>
              <a:xfrm>
                <a:off x="40557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"/>
              <p:cNvSpPr txBox="1"/>
              <p:nvPr/>
            </p:nvSpPr>
            <p:spPr>
              <a:xfrm>
                <a:off x="40557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360400" y="2924280"/>
              <a:ext cx="360" cy="347760"/>
              <a:chOff x="5360400" y="2924280"/>
              <a:chExt cx="360" cy="347760"/>
            </a:xfrm>
          </p:grpSpPr>
          <p:sp>
            <p:nvSpPr>
              <p:cNvPr id="739" name="Line 19"/>
              <p:cNvSpPr/>
              <p:nvPr/>
            </p:nvSpPr>
            <p:spPr>
              <a:xfrm>
                <a:off x="5360400" y="29242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"/>
              <p:cNvSpPr txBox="1"/>
              <p:nvPr/>
            </p:nvSpPr>
            <p:spPr>
              <a:xfrm>
                <a:off x="5360400" y="2924280"/>
                <a:ext cx="3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381920" y="2924280"/>
              <a:ext cx="360" cy="261000"/>
              <a:chOff x="4381920" y="2924280"/>
              <a:chExt cx="360" cy="261000"/>
            </a:xfrm>
          </p:grpSpPr>
          <p:sp>
            <p:nvSpPr>
              <p:cNvPr id="742" name="Line 20"/>
              <p:cNvSpPr/>
              <p:nvPr/>
            </p:nvSpPr>
            <p:spPr>
              <a:xfrm>
                <a:off x="43819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43819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708080" y="2924280"/>
              <a:ext cx="360" cy="261000"/>
              <a:chOff x="4708080" y="2924280"/>
              <a:chExt cx="360" cy="261000"/>
            </a:xfrm>
          </p:grpSpPr>
          <p:sp>
            <p:nvSpPr>
              <p:cNvPr id="745" name="Line 21"/>
              <p:cNvSpPr/>
              <p:nvPr/>
            </p:nvSpPr>
            <p:spPr>
              <a:xfrm>
                <a:off x="47080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47080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034240" y="2924280"/>
              <a:ext cx="360" cy="261000"/>
              <a:chOff x="5034240" y="2924280"/>
              <a:chExt cx="360" cy="261000"/>
            </a:xfrm>
          </p:grpSpPr>
          <p:sp>
            <p:nvSpPr>
              <p:cNvPr id="748" name="Line 22"/>
              <p:cNvSpPr/>
              <p:nvPr/>
            </p:nvSpPr>
            <p:spPr>
              <a:xfrm>
                <a:off x="50342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50342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5686560" y="2924280"/>
              <a:ext cx="360" cy="261000"/>
              <a:chOff x="5686560" y="2924280"/>
              <a:chExt cx="360" cy="261000"/>
            </a:xfrm>
          </p:grpSpPr>
          <p:sp>
            <p:nvSpPr>
              <p:cNvPr id="751" name="Line 23"/>
              <p:cNvSpPr/>
              <p:nvPr/>
            </p:nvSpPr>
            <p:spPr>
              <a:xfrm>
                <a:off x="56865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56865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012720" y="2924280"/>
              <a:ext cx="360" cy="261000"/>
              <a:chOff x="6012720" y="2924280"/>
              <a:chExt cx="360" cy="261000"/>
            </a:xfrm>
          </p:grpSpPr>
          <p:sp>
            <p:nvSpPr>
              <p:cNvPr id="754" name="Line 24"/>
              <p:cNvSpPr/>
              <p:nvPr/>
            </p:nvSpPr>
            <p:spPr>
              <a:xfrm>
                <a:off x="60127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60127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6338880" y="2924280"/>
              <a:ext cx="360" cy="261000"/>
              <a:chOff x="6338880" y="2924280"/>
              <a:chExt cx="360" cy="261000"/>
            </a:xfrm>
          </p:grpSpPr>
          <p:sp>
            <p:nvSpPr>
              <p:cNvPr id="757" name="Line 25"/>
              <p:cNvSpPr/>
              <p:nvPr/>
            </p:nvSpPr>
            <p:spPr>
              <a:xfrm>
                <a:off x="63388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63388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6665040" y="2924280"/>
              <a:ext cx="360" cy="261000"/>
              <a:chOff x="6665040" y="2924280"/>
              <a:chExt cx="360" cy="261000"/>
            </a:xfrm>
          </p:grpSpPr>
          <p:sp>
            <p:nvSpPr>
              <p:cNvPr id="760" name="Line 26"/>
              <p:cNvSpPr/>
              <p:nvPr/>
            </p:nvSpPr>
            <p:spPr>
              <a:xfrm>
                <a:off x="66650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66650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6990840" y="2924280"/>
              <a:ext cx="360" cy="696240"/>
              <a:chOff x="6990840" y="2924280"/>
              <a:chExt cx="360" cy="696240"/>
            </a:xfrm>
          </p:grpSpPr>
          <p:sp>
            <p:nvSpPr>
              <p:cNvPr id="763" name="Line 27"/>
              <p:cNvSpPr/>
              <p:nvPr/>
            </p:nvSpPr>
            <p:spPr>
              <a:xfrm>
                <a:off x="699084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699084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317000" y="2924280"/>
              <a:ext cx="360" cy="261000"/>
              <a:chOff x="7317000" y="2924280"/>
              <a:chExt cx="360" cy="261000"/>
            </a:xfrm>
          </p:grpSpPr>
          <p:sp>
            <p:nvSpPr>
              <p:cNvPr id="766" name="Line 28"/>
              <p:cNvSpPr/>
              <p:nvPr/>
            </p:nvSpPr>
            <p:spPr>
              <a:xfrm>
                <a:off x="73170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73170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643160" y="2924280"/>
              <a:ext cx="360" cy="261000"/>
              <a:chOff x="7643160" y="2924280"/>
              <a:chExt cx="360" cy="261000"/>
            </a:xfrm>
          </p:grpSpPr>
          <p:sp>
            <p:nvSpPr>
              <p:cNvPr id="769" name="Line 29"/>
              <p:cNvSpPr/>
              <p:nvPr/>
            </p:nvSpPr>
            <p:spPr>
              <a:xfrm>
                <a:off x="76431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76431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969320" y="2924280"/>
              <a:ext cx="360" cy="261000"/>
              <a:chOff x="7969320" y="2924280"/>
              <a:chExt cx="360" cy="261000"/>
            </a:xfrm>
          </p:grpSpPr>
          <p:sp>
            <p:nvSpPr>
              <p:cNvPr id="772" name="Line 30"/>
              <p:cNvSpPr/>
              <p:nvPr/>
            </p:nvSpPr>
            <p:spPr>
              <a:xfrm>
                <a:off x="79693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79693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74" name="Text Box 31"/>
          <p:cNvSpPr/>
          <p:nvPr/>
        </p:nvSpPr>
        <p:spPr>
          <a:xfrm>
            <a:off x="395280" y="765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记录测量结果既要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确值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还要注明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468360" y="41497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记录结果时要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395280" y="270828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包含两部分：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准确值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和一位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估计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468360" y="170028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时视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垂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被测物和刻度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3352680" y="609480"/>
            <a:ext cx="243864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读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9" name="Picture 6" descr="Q_011"/>
          <p:cNvPicPr/>
          <p:nvPr/>
        </p:nvPicPr>
        <p:blipFill>
          <a:blip r:embed="rId1"/>
          <a:stretch/>
        </p:blipFill>
        <p:spPr>
          <a:xfrm>
            <a:off x="6804000" y="260280"/>
            <a:ext cx="111924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长度测量的特殊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979640" y="98100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1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、辅助工具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圆、圆柱体的直径和圆锥体的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17524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4"/>
          <p:cNvGrpSpPr/>
          <p:nvPr/>
        </p:nvGrpSpPr>
        <p:grpSpPr>
          <a:xfrm>
            <a:off x="6400800" y="3276720"/>
            <a:ext cx="2114280" cy="2361960"/>
            <a:chOff x="6400800" y="3276720"/>
            <a:chExt cx="2114280" cy="2361960"/>
          </a:xfrm>
        </p:grpSpPr>
        <p:pic>
          <p:nvPicPr>
            <p:cNvPr id="784" name="Picture 5" descr=""/>
            <p:cNvPicPr/>
            <p:nvPr/>
          </p:nvPicPr>
          <p:blipFill>
            <a:blip r:embed="rId2"/>
            <a:stretch/>
          </p:blipFill>
          <p:spPr>
            <a:xfrm>
              <a:off x="6400800" y="3276720"/>
              <a:ext cx="21142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6"/>
            <p:cNvSpPr/>
            <p:nvPr/>
          </p:nvSpPr>
          <p:spPr>
            <a:xfrm>
              <a:off x="6400800" y="3276720"/>
              <a:ext cx="761760" cy="304560"/>
            </a:xfrm>
            <a:prstGeom prst="rect">
              <a:avLst/>
            </a:prstGeom>
            <a:solidFill>
              <a:srgbClr val="e3e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786" name="Picture 7" descr=""/>
          <p:cNvPicPr/>
          <p:nvPr/>
        </p:nvPicPr>
        <p:blipFill>
          <a:blip r:embed="rId3"/>
          <a:srcRect l="0" t="0" r="-189" b="0"/>
          <a:stretch/>
        </p:blipFill>
        <p:spPr>
          <a:xfrm>
            <a:off x="1295280" y="3886200"/>
            <a:ext cx="2895840" cy="121932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8"/>
          <p:cNvSpPr/>
          <p:nvPr/>
        </p:nvSpPr>
        <p:spPr>
          <a:xfrm>
            <a:off x="212400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76500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软线、轮子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较短的曲线，例如地图册上的铁路线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较长的曲线例如运动场的跑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38640" cy="2124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628720" cy="19908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2133360" cy="126360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6"/>
          <p:cNvSpPr/>
          <p:nvPr/>
        </p:nvSpPr>
        <p:spPr>
          <a:xfrm>
            <a:off x="212400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539640" y="1125360"/>
            <a:ext cx="7777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累计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纸厚，细丝直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248000" cy="29098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392720" cy="276372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5"/>
          <p:cNvSpPr/>
          <p:nvPr/>
        </p:nvSpPr>
        <p:spPr>
          <a:xfrm>
            <a:off x="226836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AutoShape 6"/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3" y="7493"/>
                </a:lnTo>
                <a:lnTo>
                  <a:pt x="11223" y="12828"/>
                </a:lnTo>
                <a:cubicBezTo>
                  <a:pt x="11223" y="13751"/>
                  <a:pt x="12024" y="14482"/>
                  <a:pt x="13059" y="14482"/>
                </a:cubicBezTo>
                <a:lnTo>
                  <a:pt x="14722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2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6" y="7493"/>
                </a:lnTo>
                <a:lnTo>
                  <a:pt x="20066" y="12828"/>
                </a:lnTo>
                <a:cubicBezTo>
                  <a:pt x="20066" y="15596"/>
                  <a:pt x="17490" y="18155"/>
                  <a:pt x="14722" y="18155"/>
                </a:cubicBezTo>
                <a:lnTo>
                  <a:pt x="13059" y="18155"/>
                </a:lnTo>
                <a:cubicBezTo>
                  <a:pt x="10292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6467400" y="6093000"/>
            <a:ext cx="1013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Verdana"/>
                <a:hlinkClick r:id="rId3"/>
              </a:rPr>
              <a:t>回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Verdana"/>
                <a:hlinkClick r:id="rId4"/>
              </a:rPr>
              <a:t>16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Verdana"/>
                <a:hlinkClick r:id="rId5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研究运动需先学会</a:t>
            </a:r>
            <a:r>
              <a:rPr b="1" lang="zh-CN" sz="4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长度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华文新魏"/>
              </a:rPr>
              <a:t>和</a:t>
            </a:r>
            <a:r>
              <a:rPr b="1" lang="zh-CN" sz="4400" spc="-1" strike="noStrike">
                <a:solidFill>
                  <a:srgbClr val="cc0000"/>
                </a:solidFill>
                <a:latin typeface="Arial Narrow"/>
                <a:ea typeface="华文新魏"/>
              </a:rPr>
              <a:t>时间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0" name="Picture 4" descr="F2003081814215004572"/>
          <p:cNvPicPr/>
          <p:nvPr/>
        </p:nvPicPr>
        <p:blipFill>
          <a:blip r:embed="rId1"/>
          <a:stretch/>
        </p:blipFill>
        <p:spPr>
          <a:xfrm>
            <a:off x="179280" y="2492280"/>
            <a:ext cx="4391280" cy="2895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r122011"/>
          <p:cNvPicPr/>
          <p:nvPr/>
        </p:nvPicPr>
        <p:blipFill>
          <a:blip r:embed="rId2"/>
          <a:stretch/>
        </p:blipFill>
        <p:spPr>
          <a:xfrm>
            <a:off x="4533840" y="2502000"/>
            <a:ext cx="3770280" cy="24238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"/>
          <p:cNvSpPr/>
          <p:nvPr/>
        </p:nvSpPr>
        <p:spPr>
          <a:xfrm>
            <a:off x="1109520" y="223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800"/>
                </a:solidFill>
                <a:latin typeface="Comic Sans MS"/>
                <a:ea typeface="华文新魏"/>
              </a:rPr>
              <a:t>创设情境引入新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9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、时间的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间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国际单位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主单位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符号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还有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时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h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分钟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mi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间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钟表，停表（秒表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027"/>
          <p:cNvPicPr/>
          <p:nvPr/>
        </p:nvPicPr>
        <p:blipFill>
          <a:blip r:embed="rId1"/>
          <a:srcRect l="0" t="0" r="0" b="-143"/>
          <a:stretch/>
        </p:blipFill>
        <p:spPr>
          <a:xfrm rot="1528200">
            <a:off x="3165120" y="907920"/>
            <a:ext cx="3711600" cy="47754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6"/>
          <p:cNvSpPr/>
          <p:nvPr/>
        </p:nvSpPr>
        <p:spPr>
          <a:xfrm>
            <a:off x="744480" y="5357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钟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4416480" y="5502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停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197000" y="2462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想想做做：说出分度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7" name="Group 10"/>
          <p:cNvGrpSpPr/>
          <p:nvPr/>
        </p:nvGrpSpPr>
        <p:grpSpPr>
          <a:xfrm>
            <a:off x="-421560" y="1052640"/>
            <a:ext cx="3697920" cy="3799800"/>
            <a:chOff x="-421560" y="1052640"/>
            <a:chExt cx="3697920" cy="3799800"/>
          </a:xfrm>
        </p:grpSpPr>
        <p:pic>
          <p:nvPicPr>
            <p:cNvPr id="808" name="Picture 5" descr="027"/>
            <p:cNvPicPr/>
            <p:nvPr/>
          </p:nvPicPr>
          <p:blipFill>
            <a:blip r:embed="rId2"/>
            <a:stretch/>
          </p:blipFill>
          <p:spPr>
            <a:xfrm>
              <a:off x="56160" y="1052640"/>
              <a:ext cx="3220200" cy="36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Rectangle 9"/>
            <p:cNvSpPr/>
            <p:nvPr/>
          </p:nvSpPr>
          <p:spPr>
            <a:xfrm rot="19871400">
              <a:off x="-179280" y="3656880"/>
              <a:ext cx="523080" cy="11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10" name="Picture 11" descr="027"/>
          <p:cNvPicPr/>
          <p:nvPr/>
        </p:nvPicPr>
        <p:blipFill>
          <a:blip r:embed="rId3"/>
          <a:stretch/>
        </p:blipFill>
        <p:spPr>
          <a:xfrm>
            <a:off x="6588000" y="620640"/>
            <a:ext cx="2556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停表读数问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针转一周，时间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；短针转一周，时间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表长针每走十次，才一秒，故其分度值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表长针每个位置对应的读数可能为两个值中的一个，至于究竟是哪个值，需要根据短针读数确定。两个值相差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4" descr=""/>
          <p:cNvPicPr/>
          <p:nvPr/>
        </p:nvPicPr>
        <p:blipFill>
          <a:blip r:embed="rId1"/>
          <a:stretch/>
        </p:blipFill>
        <p:spPr>
          <a:xfrm>
            <a:off x="2519280" y="-24300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7"/>
          <p:cNvSpPr/>
          <p:nvPr/>
        </p:nvSpPr>
        <p:spPr>
          <a:xfrm>
            <a:off x="-281880" y="333360"/>
            <a:ext cx="13993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短针读数大于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1372320" y="476280"/>
            <a:ext cx="1399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长针读数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或者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395280" y="5805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准确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8720" y="1029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想想议议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古人和现代人是如何测量时间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8" name="Picture 4" descr="027"/>
          <p:cNvPicPr/>
          <p:nvPr/>
        </p:nvPicPr>
        <p:blipFill>
          <a:blip r:embed="rId1"/>
          <a:stretch/>
        </p:blipFill>
        <p:spPr>
          <a:xfrm>
            <a:off x="0" y="1700280"/>
            <a:ext cx="4427640" cy="42735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01-沙漏(現自4下教具)"/>
          <p:cNvPicPr/>
          <p:nvPr/>
        </p:nvPicPr>
        <p:blipFill>
          <a:blip r:embed="rId2"/>
          <a:stretch/>
        </p:blipFill>
        <p:spPr>
          <a:xfrm>
            <a:off x="5867280" y="1528920"/>
            <a:ext cx="32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324000" y="189000"/>
            <a:ext cx="59767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四、测量的误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95280" y="1052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1</a:t>
            </a:r>
            <a:r>
              <a:rPr b="1" i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误差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测量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真实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差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324000" y="2708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测量工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华文新魏"/>
              </a:rPr>
              <a:t>测量方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的限制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测量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93840" y="350028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3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、减小误差的方法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395280" y="1916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误差的来源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611280" y="4221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多次测量取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平均值（重点，常用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使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改进测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79280" y="0"/>
            <a:ext cx="87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意：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误差不是错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测量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错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是由于不遵守测量仪器的使用规则、读数时粗心造成的，是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不该发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，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能够避免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误差是不能避免的，只能尽量减小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755640" y="371628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下列说法正确的是（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只要测量方法正确就不会有误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测量时误差是不可避免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选择精密的测量工具可以避免误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多次测量取平均值可以消除误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600200" y="76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858000" cy="423252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4">
            <a:hlinkClick r:id="rId2"/>
          </p:cNvPr>
          <p:cNvSpPr/>
          <p:nvPr/>
        </p:nvSpPr>
        <p:spPr>
          <a:xfrm>
            <a:off x="1835280" y="2492280"/>
            <a:ext cx="457200" cy="533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Rectangle 5">
            <a:hlinkClick r:id="rId3"/>
          </p:cNvPr>
          <p:cNvSpPr/>
          <p:nvPr/>
        </p:nvSpPr>
        <p:spPr>
          <a:xfrm>
            <a:off x="1835280" y="4365720"/>
            <a:ext cx="457200" cy="500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Rectangle 6">
            <a:hlinkClick r:id="rId4"/>
          </p:cNvPr>
          <p:cNvSpPr/>
          <p:nvPr/>
        </p:nvSpPr>
        <p:spPr>
          <a:xfrm>
            <a:off x="1908000" y="3429000"/>
            <a:ext cx="457200" cy="561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1258920" y="1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23640" y="333000"/>
            <a:ext cx="8373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们的感觉总是可靠的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要对物体的某些情况进行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定量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描述，必须采用科学的测量工具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温度计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时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天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2"/>
          <p:cNvSpPr/>
          <p:nvPr/>
        </p:nvSpPr>
        <p:spPr>
          <a:xfrm>
            <a:off x="39528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6" name="Picture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3912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2"/>
          <p:cNvSpPr/>
          <p:nvPr/>
        </p:nvSpPr>
        <p:spPr>
          <a:xfrm>
            <a:off x="250920" y="1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-89"/>
          <a:stretch/>
        </p:blipFill>
        <p:spPr>
          <a:xfrm>
            <a:off x="611280" y="765000"/>
            <a:ext cx="7921440" cy="4873680"/>
          </a:xfrm>
          <a:prstGeom prst="rect">
            <a:avLst/>
          </a:prstGeom>
          <a:ln w="0">
            <a:noFill/>
          </a:ln>
        </p:spPr>
      </p:pic>
      <p:sp>
        <p:nvSpPr>
          <p:cNvPr id="839" name="文本框 8194"/>
          <p:cNvSpPr/>
          <p:nvPr/>
        </p:nvSpPr>
        <p:spPr>
          <a:xfrm>
            <a:off x="1584360" y="6108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179280" y="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50280" cy="456552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7"/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3" y="7493"/>
                </a:lnTo>
                <a:lnTo>
                  <a:pt x="11223" y="12828"/>
                </a:lnTo>
                <a:cubicBezTo>
                  <a:pt x="11223" y="13751"/>
                  <a:pt x="12024" y="14482"/>
                  <a:pt x="13059" y="14482"/>
                </a:cubicBezTo>
                <a:lnTo>
                  <a:pt x="14722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2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6" y="7493"/>
                </a:lnTo>
                <a:lnTo>
                  <a:pt x="20066" y="12828"/>
                </a:lnTo>
                <a:cubicBezTo>
                  <a:pt x="20066" y="15596"/>
                  <a:pt x="17490" y="18155"/>
                  <a:pt x="14722" y="18155"/>
                </a:cubicBezTo>
                <a:lnTo>
                  <a:pt x="13059" y="18155"/>
                </a:lnTo>
                <a:cubicBezTo>
                  <a:pt x="10292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304920" y="15238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测量某物体长度，测量结果分别是：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5.0cm,25.1cm,25.12cm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5.3cm,26.4c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测量结果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是不合理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是不正确的，测量所使用刻度尺的分度度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1cm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物体的长度更接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25.1cm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564000" y="2637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5.12c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24000" y="3213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6.4c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68436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练习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6C7F-D0A7-46A8-818C-FBDAA408EE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一把学生的三角尺，测得一个物体的高度，共得五组数据如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7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6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44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 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8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9cm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有问题的数据是哪个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该物体高度比较正确的值应为多大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900000" y="620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国际单位制（</a:t>
            </a: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测量某个物理量时用来进行比较的标准量叫做单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国际单位制（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SI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际统一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、长度的测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07640" y="1341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长度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度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国际单位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基本单位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符号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还有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千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k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分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d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厘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c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毫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m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微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</a:t>
            </a:r>
            <a:r>
              <a:rPr b="1" lang="el-GR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μ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纳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nm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250920" y="333360"/>
            <a:ext cx="4897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同米的关系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468360" y="1996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468360" y="1341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468360" y="26067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500040" y="3292560"/>
            <a:ext cx="63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468360" y="3978360"/>
            <a:ext cx="71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00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4" name="Picture 8" descr=""/>
          <p:cNvPicPr/>
          <p:nvPr/>
        </p:nvPicPr>
        <p:blipFill>
          <a:blip r:embed="rId1"/>
          <a:stretch/>
        </p:blipFill>
        <p:spPr>
          <a:xfrm>
            <a:off x="7020000" y="2781360"/>
            <a:ext cx="1550880" cy="2333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9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1807920" cy="2286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322640" cy="26668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2209680" cy="1330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2"/>
          <p:cNvSpPr/>
          <p:nvPr/>
        </p:nvSpPr>
        <p:spPr>
          <a:xfrm>
            <a:off x="49320" y="5303880"/>
            <a:ext cx="909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资料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88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年规定：光在真空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9979248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分之一秒内通过的长度定义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574920" y="4533840"/>
            <a:ext cx="68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纳米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.00000000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" descr="029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2251080" y="2984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度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250920" y="1341360"/>
            <a:ext cx="489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1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选择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测量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需要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合适的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估测，然后选择量程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96872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468360" y="404640"/>
            <a:ext cx="64087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、刻度尺的使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476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2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观察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刻度尺的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零刻度线、量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和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分度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611280" y="2924280"/>
            <a:ext cx="7617960" cy="2472840"/>
            <a:chOff x="611280" y="2924280"/>
            <a:chExt cx="7617960" cy="2472840"/>
          </a:xfrm>
        </p:grpSpPr>
        <p:pic>
          <p:nvPicPr>
            <p:cNvPr id="6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924280"/>
              <a:ext cx="3741480" cy="24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5" descr=""/>
            <p:cNvPicPr/>
            <p:nvPr/>
          </p:nvPicPr>
          <p:blipFill>
            <a:blip r:embed="rId2"/>
            <a:srcRect l="0" t="0" r="0" b="-157"/>
            <a:stretch/>
          </p:blipFill>
          <p:spPr>
            <a:xfrm>
              <a:off x="4196160" y="2941920"/>
              <a:ext cx="4033080" cy="239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37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8e0a0000000000010250600207f7000400038000</vt:lpwstr>
  </property>
</Properties>
</file>