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1DF-FA32-42CB-9C32-34228FA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F66-E85C-4F94-8DEA-CFFE6A9C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F8CF6-ECD5-4944-AC4E-3C95491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657AB-8872-4277-A43D-880CA1FD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F6AC-A5E8-4D89-91DD-28FE6E5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E49E0-BE99-463C-91B5-CF291AB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0DAB1-C2BA-4D59-9D30-5350E5CB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84790-29B0-4E89-AAC2-D8C7F47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1EC3E-06AA-4B0C-AD7C-7975DA8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84EC6-B407-4F83-98CC-B5283456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823EE-C866-4689-85D3-84D5DF62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2D867-018E-4A10-8161-45DE607D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5D3-6BD3-4961-9861-540D4A09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B16DC-850C-490B-9668-41F5531E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70D15-BCB3-4918-B1B0-CC88914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68547-C9AA-48ED-9EDE-1FFBAA46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EFEE7-7E91-448F-9301-30A91A46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F6B15-A6EF-4A5D-802D-F3F45E88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A59B2-CA66-47AE-8BDB-BD37C963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C63FC-5F34-494F-A36D-1F374A64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CBFF-E830-4037-9C2D-002123A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811B4-6A57-4416-8EA3-270780AD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47068-427C-4061-B137-BCEFBF96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3B4-F89A-486E-A0BE-35BEA0D0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3C871-A4B3-4569-B2B5-95226F7D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4540-0A2C-439A-AF7A-7762DB9D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82AB7-3EA5-426E-B657-DBBEA36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0622E-A174-4F8D-8E11-14084F1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B15B-4F92-47C5-8336-FF5F8689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A2019-414E-4B35-84D7-4BD1F4AC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244F2-9ED7-4D1D-AA34-4E13DB71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56F9D-24ED-4213-90B1-94B3DD36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3379E-AF9C-469D-969B-E4182CE6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04E4-770E-4D97-A154-777ABC5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A6D-0329-49BC-AD6A-793D5C8E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A814B-71F2-439E-A116-E5B650A7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9882-0BB3-4BCD-B1CB-D9F44201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EF856-0915-4F9A-93ED-D26115FD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002A8-7D56-43F4-B1DE-4F380C04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5EA86-B5E3-48D1-B0AA-958CCB1E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66703-18F3-44E9-A8A3-ECADBDA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81186-AE37-429F-B710-E79618A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7F836-FF24-4800-8EA0-B0AE99B9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EAFFB-D386-46D2-BD48-40F0299F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74BAC-77DA-4B01-BF63-9690C53F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6FEF-9BFC-4405-B80E-AF39EED2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B8262-F9DD-4C6A-8093-AC77C133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EDEE7-A489-41C5-AD35-F6193C4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B34FA-CEAB-4755-BA5A-5BE78718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97F36-52FA-4F26-962A-5CE54F22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8E630-9367-4B7C-AE96-EAF18B72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EF3B2-5FCA-4F91-A556-065AAFF5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C17E2-0C1D-44EA-AFA9-E1386F15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46BC2-1762-4928-8CDE-BA18EB5B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EA360-738D-457A-A57F-CE2E46AF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7B782-04F3-4878-AC20-DE2D4FB2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053B-7476-412E-8DB6-F8849FD1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659AD-39D2-4CA9-AB71-A84D7E96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32CA2-50A4-47A9-8025-D786D7E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52352-1B20-4808-92B9-1C1F268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97F51-6E53-44B0-ACD0-CD09981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FC98A-D3FD-4098-A07B-589BE319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E1411-9BDF-4ABC-B666-3BE3503C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4B7F0-A664-4D85-ACAE-48235687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E41E3-AF3C-4788-91C3-27AA04C7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2C2F8-1362-45FE-B922-22F5ABC7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81176-BB32-4AC6-9A16-001F281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F190-B2A5-4803-878C-8C10F12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53C2D-18F8-4BC5-A95E-7E76B0F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002BC-5248-45D8-849E-9461251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AF490-5724-4F12-9639-309BE39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D8A04-4636-4B06-A596-0284016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F7F5E-180F-4E38-8A10-5666355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E3E06-63FA-4460-A37F-8A94E66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D28E2-679D-4138-BC2B-2EDFBB1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30B89-9182-42FA-BCFF-72E49107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2FE22-2723-4657-ADE7-F799F5E7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FD1BA-64C4-4EF4-89F2-B6FA1B4F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F27-BAB6-43CF-9EBA-64394927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19873-5B3D-4A44-80D3-B028D89E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A0FE3-EC8E-47EE-BB0D-96A212C8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9BD01-7186-4493-954F-A3AF32E6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DE82B-CCFB-4F9C-B1E5-DB0A023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BE89D-83BA-47BC-B44E-56A8D775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87EFC-65F3-4B7A-B8B6-9CC6C5F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01E14-377D-4332-86C3-00D6B501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C1544-E456-4234-BD43-1A6FBE0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BEA7D-6551-4DEE-99F3-7DAAB4E5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013B5-BAD7-4E10-A4BD-08B44663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A497-3743-4594-A499-F99B7327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CCCEB-F0AB-43D1-B3D6-F9AAE7E6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9EBE-B063-44C4-ADC0-8783DDB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34E-CF99-456B-99FC-12FD1F9D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E90C-E62F-4DD4-9342-8C798A6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DBA-1683-4B13-BC14-CB55765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5EE1-B564-4E18-94C5-ED799DEB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862-7ABB-4FA8-B56D-73BA42F8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A4B0-3123-48A6-B10B-32BEB03B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AD4E-39D8-4196-B59C-AEA6F5A1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BC92-89AA-4A99-B756-E3DC8146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2E82-AA33-4B8A-B295-04EBDF0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F8D1-D48E-402C-9361-43CB0C9E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EFE6-DA22-4A13-BC2C-F9465D43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BBB-7D44-43E8-9FA2-8845C688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688A-67D4-4A94-97A9-831584C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31F7-2AAF-41A6-840C-B1863E5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0CC1-0359-4306-BD5A-3E70C5F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4932-A6BB-4C5B-9E5F-7125F5B0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E84C-D8A5-4037-8BF4-6CC1443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AAEA-6044-4DC0-B921-875D4B39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7D59-467C-4E7B-B165-8366BE9E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4B42-F306-4451-9199-5E00AE1E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7E902-272A-451A-8CF0-F512B734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A1C7-CBDA-4D77-AC10-5D4FCCC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97C-0454-4D55-A587-D11EE6BD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3869-C9DC-41AC-AC63-3DFAFD0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150C-A6ED-453D-81E5-72628BA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F7C0-D38A-4337-896F-E1231762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97CC-D58D-4D6B-A41E-915638F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EE2DC-16E7-464D-AC5B-7FEA53A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36E0-89CE-4E7A-9654-58F4F01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75E3-68C6-4DD1-BC49-18F6DA6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C6FB7-464D-4AE1-A657-FF9E8DEF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7493-49EA-4A52-BAA0-63787784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70F4F-B053-4A45-9073-ECF305C5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FDB-72F7-4D65-AAA9-B0258C1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73B5-1110-477E-A644-AB78A7C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00CB-6985-4CE8-B1B8-69499BEE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E89E-6759-415A-9BE5-C6CF36D8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D10D-CA25-4ED6-BEC6-9BEB62E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9A2B-FBD0-4655-93E0-72C719F2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EFF2D-51D0-4FB8-941A-BBABB8AD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E083-B5D0-47C5-9B18-99801F47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2F84-E042-4425-A5C0-2D24AB0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CFB9-DAF1-4A9F-8669-2F5F5B39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3C9D-CA5F-4E20-9376-53F17BE6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8F5-7EDA-46E3-9230-62D5665B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5201-CD30-468C-8E1E-4E02F7B1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15A3-D7BA-498B-BF6C-05A94954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29CC-23FD-4672-9517-4D8A877A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7AF1-80B0-482C-9C75-26182D6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F1D4-64F9-4EA0-9DF2-A0F09D20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B857-2BD7-4EEA-98D1-CEFA0C8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E384-A313-47EE-8000-D8D80F6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90C7C-FDE1-48D7-B464-7201EC4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48F2E-390E-4A90-9FA6-C8FBFF57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7AAD-5DFA-4752-B5D3-D0DF930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165-BCEF-4241-BBD7-0EBDE5D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ACF3-CFEB-4594-82DF-1AE0927A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1480-9EE9-4A82-AB0F-4455035A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0646-57F0-4CC8-8065-044B8826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34FB8-9EC2-484F-98BE-0541777E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D25CF-C9A0-46A4-9E99-76A21B37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3A35F-6D34-406F-A742-918B8703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07D0-DB9E-49A4-B758-CABA2EDF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DA865-5C8E-47D6-AFFE-A565D1E3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85FA-AD39-4CDD-BC5A-27F18B42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4B9F9-CE1B-4C11-B384-2D9CEF2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16F-A37C-4432-A098-1490827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C53B9-0825-4E7F-AA15-29E602F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9882-B45F-4E79-A8B9-DEBDBF67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6C01-D6E2-45D7-97EB-3C6C5F44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8F09-49FE-48AC-AE4D-624598FE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9D15-839B-4120-8CBC-AA76A5F4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A4661-EC0D-47E3-B6F5-88C97240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5EF8D-7505-4DE3-A49C-A54BD57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79BCA-A8F2-409C-ABEF-59A5FA7C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805A-EF05-4187-BA5D-E1032C5E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9468-B247-4E95-AF3B-B00C28BF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2E1-7C90-4473-A330-2235B05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F9DC-14E7-4968-8093-DB6B3A1D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DAC9F-86A4-40CA-BAA7-091BC35D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EFAA-46C3-428C-8E08-B182E84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AD126-2824-44D9-B4F9-5CB9FDA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ADE64-1988-4E00-AF06-A60E471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F81FE-9F40-4A02-8101-A362C51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B514-6090-4BAE-AF4A-0800C3DF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A95E6-26A7-4A47-9746-4036707D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28EA6-5465-473E-A046-04373653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2F478-9437-48EB-B575-E538C18C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A7FE-97B5-478A-98E2-3D832D76AB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2062-2225-4F01-B690-95DCA3A32578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82A3-C6D7-467C-AE46-65BBC83AF420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0F23-7904-48D9-A137-AA60CE4EA4BE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C8C-C637-49D6-A297-5E45E3D79B0A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267-1653-4C3B-8E6B-A691CD35A97E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759000" y="6409800"/>
            <a:ext cx="1454760" cy="2584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C801-CEF9-49AD-8768-BEA8D8115E55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3535-A4E3-4F74-BFA2-EE2AF5BE12DE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1738-7133-4B17-BDA2-FC24821790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931-35DF-499C-B2B1-704CB01574AE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D34-F337-4B9E-916D-8FF9D7747FCC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A1E-4BDB-4396-A462-1E77A41DD41C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11A-9BF1-41EB-9532-814385196152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D07-AE8E-4A9F-AD39-E90E259DF86F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93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0000"/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FAC7-7E14-44C6-81CC-3AC83EBA7F93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鱼米之乡”——长江三角洲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3" name="矩形 1"/>
          <p:cNvSpPr/>
          <p:nvPr/>
        </p:nvSpPr>
        <p:spPr>
          <a:xfrm>
            <a:off x="3335760" y="6094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七章　南方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5" descr=""/>
          <p:cNvPicPr/>
          <p:nvPr/>
        </p:nvPicPr>
        <p:blipFill>
          <a:blip r:embed="rId2"/>
          <a:stretch/>
        </p:blipFill>
        <p:spPr>
          <a:xfrm>
            <a:off x="685800" y="3222720"/>
            <a:ext cx="2735280" cy="2739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6" descr=""/>
          <p:cNvPicPr/>
          <p:nvPr/>
        </p:nvPicPr>
        <p:blipFill>
          <a:blip r:embed="rId3"/>
          <a:stretch/>
        </p:blipFill>
        <p:spPr>
          <a:xfrm>
            <a:off x="3675240" y="3222720"/>
            <a:ext cx="4887720" cy="27478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"/>
          <p:cNvSpPr/>
          <p:nvPr/>
        </p:nvSpPr>
        <p:spPr>
          <a:xfrm>
            <a:off x="2015640" y="381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长江三角洲课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活动：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228600" y="1066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长江三角洲地区位于长江的下游地区。以长江地区为例，补充并归纳河流对区域发展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问号"/>
          <p:cNvPicPr/>
          <p:nvPr/>
        </p:nvPicPr>
        <p:blipFill>
          <a:blip r:embed="rId1"/>
          <a:stretch/>
        </p:blipFill>
        <p:spPr>
          <a:xfrm>
            <a:off x="6359400" y="0"/>
            <a:ext cx="2784600" cy="304812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5"/>
          <p:cNvSpPr/>
          <p:nvPr/>
        </p:nvSpPr>
        <p:spPr>
          <a:xfrm>
            <a:off x="228600" y="1905120"/>
            <a:ext cx="617220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流为长江三角洲地区提供灌溉水源，有利于农业的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228600" y="3200400"/>
            <a:ext cx="6934320" cy="914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流为长江三角洲地区提供便利的水路交通，有利于其对外联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" descr="图片1"/>
          <p:cNvPicPr/>
          <p:nvPr/>
        </p:nvPicPr>
        <p:blipFill>
          <a:blip r:embed="rId2"/>
          <a:stretch/>
        </p:blipFill>
        <p:spPr>
          <a:xfrm>
            <a:off x="838080" y="4154400"/>
            <a:ext cx="63248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捕鱼图"/>
          <p:cNvPicPr/>
          <p:nvPr/>
        </p:nvPicPr>
        <p:blipFill>
          <a:blip r:embed="rId1"/>
          <a:stretch/>
        </p:blipFill>
        <p:spPr>
          <a:xfrm>
            <a:off x="0" y="0"/>
            <a:ext cx="4952880" cy="28638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t洗菜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2887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三峡"/>
          <p:cNvPicPr/>
          <p:nvPr/>
        </p:nvPicPr>
        <p:blipFill>
          <a:blip r:embed="rId3"/>
          <a:stretch/>
        </p:blipFill>
        <p:spPr>
          <a:xfrm>
            <a:off x="0" y="342900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5"/>
          <p:cNvSpPr/>
          <p:nvPr/>
        </p:nvSpPr>
        <p:spPr>
          <a:xfrm>
            <a:off x="1600200" y="2895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淡水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5562720" y="28195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产、生活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1447920" y="3429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旅游景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8" descr="东方明珠"/>
          <p:cNvPicPr/>
          <p:nvPr/>
        </p:nvPicPr>
        <p:blipFill>
          <a:blip r:embed="rId4"/>
          <a:stretch/>
        </p:blipFill>
        <p:spPr>
          <a:xfrm>
            <a:off x="4800600" y="342900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9"/>
          <p:cNvSpPr/>
          <p:nvPr/>
        </p:nvSpPr>
        <p:spPr>
          <a:xfrm>
            <a:off x="6095880" y="3429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筑用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8198"/>
          <p:cNvSpPr/>
          <p:nvPr/>
        </p:nvSpPr>
        <p:spPr>
          <a:xfrm>
            <a:off x="2703600" y="2987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洪涝"/>
          <p:cNvPicPr/>
          <p:nvPr/>
        </p:nvPicPr>
        <p:blipFill>
          <a:blip r:embed="rId1"/>
          <a:stretch/>
        </p:blipFill>
        <p:spPr>
          <a:xfrm>
            <a:off x="304920" y="15238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" descr="黄浦江死猪"/>
          <p:cNvPicPr/>
          <p:nvPr/>
        </p:nvPicPr>
        <p:blipFill>
          <a:blip r:embed="rId2"/>
          <a:stretch/>
        </p:blipFill>
        <p:spPr>
          <a:xfrm>
            <a:off x="5334120" y="609480"/>
            <a:ext cx="3638520" cy="26672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4"/>
          <p:cNvSpPr/>
          <p:nvPr/>
        </p:nvSpPr>
        <p:spPr>
          <a:xfrm>
            <a:off x="609480" y="30492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990720" y="47242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洪涝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5867280" y="3352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黄浦江死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2"/>
          <p:cNvSpPr/>
          <p:nvPr/>
        </p:nvSpPr>
        <p:spPr>
          <a:xfrm>
            <a:off x="304920" y="2286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、成都平原位于长江的上游地区。阅读下面的图文资料，认识岷江对成都平原发展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1 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）说说岷江对成都平原农业发展的利和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696464"/>
                </a:solidFill>
                <a:latin typeface="Arial"/>
                <a:ea typeface="宋体"/>
              </a:rPr>
              <a:t>）说说都江堰对成都平原农业发展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" descr="2CLMJDUJI_NHQK_J2E9$N]J"/>
          <p:cNvPicPr/>
          <p:nvPr/>
        </p:nvPicPr>
        <p:blipFill>
          <a:blip r:embed="rId1"/>
          <a:stretch/>
        </p:blipFill>
        <p:spPr>
          <a:xfrm>
            <a:off x="762120" y="1822320"/>
            <a:ext cx="72388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3"/>
          <p:cNvSpPr/>
          <p:nvPr/>
        </p:nvSpPr>
        <p:spPr>
          <a:xfrm>
            <a:off x="304920" y="60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都江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1523880" y="533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6464"/>
                </a:solidFill>
                <a:latin typeface="Arial"/>
                <a:ea typeface="宋体"/>
              </a:rPr>
              <a:t>成都平原主要由岷江及其支流冲积而成，像一把扇子平铺在四川盆地的西部，地势由西北向东南倾斜。都江堰水利工程修于战国时期，有效的控制了岷江进入成都平原的灌溉水量，使岷江沿岸地区既有便利的水源，又免受水患灾害。由此成都平原成为“天府之国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184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457200" y="30492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）说说岷江对成都平原农业发展的利和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736080" y="27432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）说说都江堰对成都平原农业发展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447920" y="3505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6464"/>
                </a:solidFill>
                <a:latin typeface="Arial"/>
                <a:ea typeface="宋体"/>
              </a:rPr>
              <a:t>都江堰水利工程修于战国时期，有效的控制了岷江进入成都平原的灌溉水量，使岷江沿岸地区既有便利的水源，又免受水患灾害。由此成都平原成为“天府之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1143000" y="11430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：提供便利的水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弊：丰水期易造成洪涝灾害，淹没大片农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990720" y="1064520"/>
            <a:ext cx="8153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）位置：</a:t>
            </a: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长江的下游地区，濒临黄海，地处江海交汇之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范围：</a:t>
            </a: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上海市、江苏省南部、浙江省北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9b2d1f"/>
                </a:solidFill>
                <a:latin typeface="Arial"/>
                <a:ea typeface="宋体"/>
              </a:rPr>
              <a:t>气候：</a:t>
            </a: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亚热带季风气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1066680" y="4495680"/>
            <a:ext cx="496908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）得天独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自然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838080" y="1676520"/>
            <a:ext cx="360360" cy="36576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52280" y="152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知识脉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-453240" y="190512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江海交汇之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914400" y="304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9b2d1f"/>
                </a:solidFill>
                <a:latin typeface="宋体"/>
                <a:ea typeface="宋体"/>
              </a:rPr>
              <a:t>）鱼米之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3809880" y="251460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3733920" y="3048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大部分地区地势低平，河网密布，湖泊星罗，自古以来就是我国著名的“鱼米之乡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0"/>
          <p:cNvSpPr/>
          <p:nvPr/>
        </p:nvSpPr>
        <p:spPr>
          <a:xfrm>
            <a:off x="4267080" y="4419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依托长江干支流发达的水运，可以联系广大的内陆地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b2d1f"/>
                </a:solidFill>
                <a:latin typeface="Arial"/>
                <a:ea typeface="宋体"/>
              </a:rPr>
              <a:t>同时又是我国南北海上航运的中枢，并通过远洋航线通往世界的主要港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WordArt 2"/>
          <p:cNvSpPr txBox="1"/>
          <p:nvPr/>
        </p:nvSpPr>
        <p:spPr>
          <a:xfrm>
            <a:off x="304920" y="3049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练习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6" name="Picture 3" descr="01300000053621120408972555088"/>
          <p:cNvPicPr/>
          <p:nvPr/>
        </p:nvPicPr>
        <p:blipFill>
          <a:blip r:embed="rId1"/>
          <a:stretch/>
        </p:blipFill>
        <p:spPr>
          <a:xfrm>
            <a:off x="1066680" y="1828800"/>
            <a:ext cx="905040" cy="9525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1"/>
          <p:cNvPicPr/>
          <p:nvPr/>
        </p:nvPicPr>
        <p:blipFill>
          <a:blip r:embed="rId2"/>
          <a:stretch/>
        </p:blipFill>
        <p:spPr>
          <a:xfrm>
            <a:off x="2286000" y="1600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0"/>
          <p:cNvPicPr/>
          <p:nvPr/>
        </p:nvPicPr>
        <p:blipFill>
          <a:blip r:embed="rId3"/>
          <a:stretch/>
        </p:blipFill>
        <p:spPr>
          <a:xfrm>
            <a:off x="5410080" y="17524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8zwy"/>
          <p:cNvPicPr/>
          <p:nvPr/>
        </p:nvPicPr>
        <p:blipFill>
          <a:blip r:embed="rId4"/>
          <a:stretch/>
        </p:blipFill>
        <p:spPr>
          <a:xfrm>
            <a:off x="3809880" y="1752480"/>
            <a:ext cx="1143000" cy="104796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7"/>
          <p:cNvSpPr/>
          <p:nvPr/>
        </p:nvSpPr>
        <p:spPr>
          <a:xfrm>
            <a:off x="3330000" y="920160"/>
            <a:ext cx="14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图片哪一张是上海世博会的吉祥物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2514600" y="2666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4330080" y="266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"/>
          <p:cNvSpPr/>
          <p:nvPr/>
        </p:nvSpPr>
        <p:spPr>
          <a:xfrm>
            <a:off x="5842440" y="26661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1"/>
          <p:cNvSpPr/>
          <p:nvPr/>
        </p:nvSpPr>
        <p:spPr>
          <a:xfrm>
            <a:off x="533520" y="3048840"/>
            <a:ext cx="78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长江三角洲是驰名中外的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温带水果之乡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鱼米之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亚热带动物王国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革命旅游胜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长江三角洲地区地形的特征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表支离破碎，沟壑纵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面平坦广阔，一望无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势低平，湖泊河网密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地形以丘陵为主，平均海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米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1371600" y="26668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7241040" y="91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54100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6095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152280" y="3808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长江三角洲地区属于 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热带季风气候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亚热带季风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温带季风气候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温带海洋性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长江三角洲地区民居墙体高、房顶坡度大是为了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风防潮、利干排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于拆迁，适合游牧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寒保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房顶坡度大是为了防止冬天积雪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 我国长江以南地区与阿拉伯半岛纬度大致相同为什么我国江南是“鱼米之乡”，而阿拉伯半岛水资源匮乏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形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海陆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洋流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纬度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9625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46748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670572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8198"/>
          <p:cNvSpPr/>
          <p:nvPr/>
        </p:nvSpPr>
        <p:spPr>
          <a:xfrm>
            <a:off x="3135240" y="51688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533520" y="13356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于长江三角洲地区范围的描述正确的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上海市、福建省的北部及浙江的东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浙江省、杭州湾、舟山群岛以及江苏省东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上海市、江苏省南部和浙江省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主要包括上海市、江苏省中部与南部及安徽省东北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铁路不在长江三角洲地区的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京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沪杭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京九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京沪高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6705720" y="609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5943600" y="38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学习目标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、利用地图说明长江三角洲的位置、范围，并会分析该地区的地形、气候和便利的水运条件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4680" indent="-274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Perpetua"/>
              </a:rPr>
              <a:t>、以长江三角洲地区和成都平原为例，认识河流对区域发展的影响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临沂的小明同学来到“鱼米之乡”看到的景观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1"/>
          <p:cNvPicPr/>
          <p:nvPr/>
        </p:nvPicPr>
        <p:blipFill>
          <a:blip r:embed="rId1"/>
          <a:stretch/>
        </p:blipFill>
        <p:spPr>
          <a:xfrm>
            <a:off x="609480" y="83808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40"/>
          <p:cNvPicPr/>
          <p:nvPr/>
        </p:nvPicPr>
        <p:blipFill>
          <a:blip r:embed="rId2"/>
          <a:stretch/>
        </p:blipFill>
        <p:spPr>
          <a:xfrm>
            <a:off x="4648320" y="838080"/>
            <a:ext cx="3352680" cy="2229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周庄"/>
          <p:cNvPicPr/>
          <p:nvPr/>
        </p:nvPicPr>
        <p:blipFill>
          <a:blip r:embed="rId3"/>
          <a:stretch/>
        </p:blipFill>
        <p:spPr>
          <a:xfrm>
            <a:off x="609480" y="3809880"/>
            <a:ext cx="3353040" cy="24796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3"/>
          <p:cNvPicPr/>
          <p:nvPr/>
        </p:nvPicPr>
        <p:blipFill>
          <a:blip r:embed="rId4"/>
          <a:stretch/>
        </p:blipFill>
        <p:spPr>
          <a:xfrm>
            <a:off x="4572000" y="3733920"/>
            <a:ext cx="3505320" cy="25905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7"/>
          <p:cNvSpPr/>
          <p:nvPr/>
        </p:nvSpPr>
        <p:spPr>
          <a:xfrm>
            <a:off x="2133720" y="3048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60199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2057400" y="6172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6095880" y="6338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1"/>
          <p:cNvSpPr/>
          <p:nvPr/>
        </p:nvSpPr>
        <p:spPr>
          <a:xfrm>
            <a:off x="8077320" y="228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85D-3F50-472D-8954-74C2B3463C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228600" y="915120"/>
            <a:ext cx="426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读“长江三角洲地区分布图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回答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填出图中的地理事物的名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A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海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B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C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运河，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D______ 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河流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该地区的以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气候为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气候特点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_________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228600" y="5029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长江三角洲地区地形以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为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我国重要的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产区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粮食作物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由于这里河湖众多，也是我国重要的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产区。因而本区有“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________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美誉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6094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9051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5335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京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198108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长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19051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亚热带季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1143000" y="3124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夏季高温多雨，冬季温和湿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2895480" y="5029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1752480" y="5257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水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2286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淡水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31240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鱼米之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152280" y="3581280"/>
            <a:ext cx="3200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铁路干线名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EF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FG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15" descr="图片1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27372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16"/>
          <p:cNvSpPr/>
          <p:nvPr/>
        </p:nvSpPr>
        <p:spPr>
          <a:xfrm>
            <a:off x="12952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京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95280" y="4343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沪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印象鱼米之乡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61" name="Picture 3" descr="油菜田"/>
          <p:cNvPicPr/>
          <p:nvPr/>
        </p:nvPicPr>
        <p:blipFill>
          <a:blip r:embed="rId1"/>
          <a:stretch/>
        </p:blipFill>
        <p:spPr>
          <a:xfrm>
            <a:off x="304920" y="8380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272152_095811011653_2"/>
          <p:cNvPicPr/>
          <p:nvPr/>
        </p:nvPicPr>
        <p:blipFill>
          <a:blip r:embed="rId2"/>
          <a:stretch/>
        </p:blipFill>
        <p:spPr>
          <a:xfrm>
            <a:off x="4343400" y="3809880"/>
            <a:ext cx="4038480" cy="28018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京杭运河"/>
          <p:cNvPicPr/>
          <p:nvPr/>
        </p:nvPicPr>
        <p:blipFill>
          <a:blip r:embed="rId3"/>
          <a:stretch/>
        </p:blipFill>
        <p:spPr>
          <a:xfrm>
            <a:off x="4267080" y="838080"/>
            <a:ext cx="4038840" cy="2892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挖藕图"/>
          <p:cNvPicPr/>
          <p:nvPr/>
        </p:nvPicPr>
        <p:blipFill>
          <a:blip r:embed="rId4"/>
          <a:stretch/>
        </p:blipFill>
        <p:spPr>
          <a:xfrm>
            <a:off x="228600" y="38862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一、江海交汇之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66" name="Picture 3" descr="范围"/>
          <p:cNvPicPr/>
          <p:nvPr/>
        </p:nvPicPr>
        <p:blipFill>
          <a:blip r:embed="rId1"/>
          <a:stretch/>
        </p:blipFill>
        <p:spPr>
          <a:xfrm>
            <a:off x="3319560" y="1219320"/>
            <a:ext cx="5638680" cy="5562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4"/>
          <p:cNvSpPr/>
          <p:nvPr/>
        </p:nvSpPr>
        <p:spPr>
          <a:xfrm>
            <a:off x="457200" y="1676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范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609480" y="2666880"/>
            <a:ext cx="3505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市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省南部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省北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85800" y="2743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8580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江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6858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浙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长江沿江地带的地形"/>
          <p:cNvPicPr/>
          <p:nvPr/>
        </p:nvPicPr>
        <p:blipFill>
          <a:blip r:embed="rId1"/>
          <a:stretch/>
        </p:blipFill>
        <p:spPr>
          <a:xfrm>
            <a:off x="304920" y="828720"/>
            <a:ext cx="8839080" cy="550548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533520" y="228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"/>
          <p:cNvSpPr/>
          <p:nvPr/>
        </p:nvSpPr>
        <p:spPr>
          <a:xfrm>
            <a:off x="7315200" y="3124080"/>
            <a:ext cx="971640" cy="1295640"/>
          </a:xfrm>
          <a:custGeom>
            <a:avLst/>
            <a:gdLst/>
            <a:ahLst/>
            <a:rect l="l" t="t" r="r" b="b"/>
            <a:pathLst>
              <a:path w="612" h="816">
                <a:moveTo>
                  <a:pt x="612" y="792"/>
                </a:moveTo>
                <a:cubicBezTo>
                  <a:pt x="568" y="726"/>
                  <a:pt x="564" y="708"/>
                  <a:pt x="492" y="684"/>
                </a:cubicBezTo>
                <a:cubicBezTo>
                  <a:pt x="460" y="688"/>
                  <a:pt x="428" y="692"/>
                  <a:pt x="396" y="696"/>
                </a:cubicBezTo>
                <a:cubicBezTo>
                  <a:pt x="340" y="704"/>
                  <a:pt x="228" y="720"/>
                  <a:pt x="228" y="720"/>
                </a:cubicBezTo>
                <a:cubicBezTo>
                  <a:pt x="199" y="730"/>
                  <a:pt x="179" y="733"/>
                  <a:pt x="156" y="756"/>
                </a:cubicBezTo>
                <a:cubicBezTo>
                  <a:pt x="146" y="766"/>
                  <a:pt x="143" y="783"/>
                  <a:pt x="132" y="792"/>
                </a:cubicBezTo>
                <a:cubicBezTo>
                  <a:pt x="118" y="803"/>
                  <a:pt x="100" y="808"/>
                  <a:pt x="84" y="816"/>
                </a:cubicBezTo>
                <a:cubicBezTo>
                  <a:pt x="30" y="735"/>
                  <a:pt x="27" y="769"/>
                  <a:pt x="48" y="696"/>
                </a:cubicBezTo>
                <a:cubicBezTo>
                  <a:pt x="51" y="684"/>
                  <a:pt x="51" y="669"/>
                  <a:pt x="60" y="660"/>
                </a:cubicBezTo>
                <a:cubicBezTo>
                  <a:pt x="80" y="640"/>
                  <a:pt x="132" y="612"/>
                  <a:pt x="132" y="612"/>
                </a:cubicBezTo>
                <a:cubicBezTo>
                  <a:pt x="149" y="561"/>
                  <a:pt x="177" y="555"/>
                  <a:pt x="216" y="516"/>
                </a:cubicBezTo>
                <a:cubicBezTo>
                  <a:pt x="212" y="456"/>
                  <a:pt x="218" y="395"/>
                  <a:pt x="204" y="336"/>
                </a:cubicBezTo>
                <a:cubicBezTo>
                  <a:pt x="195" y="298"/>
                  <a:pt x="96" y="288"/>
                  <a:pt x="96" y="288"/>
                </a:cubicBezTo>
                <a:cubicBezTo>
                  <a:pt x="84" y="276"/>
                  <a:pt x="69" y="266"/>
                  <a:pt x="60" y="252"/>
                </a:cubicBezTo>
                <a:cubicBezTo>
                  <a:pt x="0" y="161"/>
                  <a:pt x="87" y="141"/>
                  <a:pt x="144" y="120"/>
                </a:cubicBezTo>
                <a:cubicBezTo>
                  <a:pt x="161" y="114"/>
                  <a:pt x="176" y="103"/>
                  <a:pt x="192" y="96"/>
                </a:cubicBezTo>
                <a:cubicBezTo>
                  <a:pt x="204" y="91"/>
                  <a:pt x="216" y="88"/>
                  <a:pt x="228" y="84"/>
                </a:cubicBezTo>
                <a:cubicBezTo>
                  <a:pt x="257" y="40"/>
                  <a:pt x="286" y="17"/>
                  <a:pt x="336" y="0"/>
                </a:cubicBezTo>
                <a:cubicBezTo>
                  <a:pt x="354" y="27"/>
                  <a:pt x="368" y="54"/>
                  <a:pt x="396" y="72"/>
                </a:cubicBezTo>
                <a:cubicBezTo>
                  <a:pt x="407" y="79"/>
                  <a:pt x="432" y="84"/>
                  <a:pt x="432" y="8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533520" y="2514600"/>
            <a:ext cx="7619760" cy="3475080"/>
            <a:chOff x="533520" y="2514600"/>
            <a:chExt cx="7619760" cy="3475080"/>
          </a:xfrm>
        </p:grpSpPr>
        <p:sp>
          <p:nvSpPr>
            <p:cNvPr id="676" name="Freeform 6"/>
            <p:cNvSpPr/>
            <p:nvPr/>
          </p:nvSpPr>
          <p:spPr>
            <a:xfrm>
              <a:off x="533520" y="2514600"/>
              <a:ext cx="7619760" cy="3063960"/>
            </a:xfrm>
            <a:custGeom>
              <a:avLst/>
              <a:gdLst/>
              <a:ahLst/>
              <a:rect l="l" t="t" r="r" b="b"/>
              <a:pathLst>
                <a:path w="4917" h="1930">
                  <a:moveTo>
                    <a:pt x="0" y="168"/>
                  </a:moveTo>
                  <a:cubicBezTo>
                    <a:pt x="18" y="141"/>
                    <a:pt x="22" y="115"/>
                    <a:pt x="40" y="88"/>
                  </a:cubicBezTo>
                  <a:cubicBezTo>
                    <a:pt x="43" y="51"/>
                    <a:pt x="62" y="44"/>
                    <a:pt x="72" y="8"/>
                  </a:cubicBezTo>
                  <a:cubicBezTo>
                    <a:pt x="74" y="0"/>
                    <a:pt x="118" y="26"/>
                    <a:pt x="126" y="29"/>
                  </a:cubicBezTo>
                  <a:cubicBezTo>
                    <a:pt x="135" y="33"/>
                    <a:pt x="103" y="20"/>
                    <a:pt x="111" y="26"/>
                  </a:cubicBezTo>
                  <a:cubicBezTo>
                    <a:pt x="118" y="31"/>
                    <a:pt x="131" y="28"/>
                    <a:pt x="138" y="32"/>
                  </a:cubicBezTo>
                  <a:cubicBezTo>
                    <a:pt x="155" y="41"/>
                    <a:pt x="143" y="23"/>
                    <a:pt x="160" y="32"/>
                  </a:cubicBezTo>
                  <a:cubicBezTo>
                    <a:pt x="212" y="58"/>
                    <a:pt x="243" y="62"/>
                    <a:pt x="282" y="89"/>
                  </a:cubicBezTo>
                  <a:cubicBezTo>
                    <a:pt x="315" y="100"/>
                    <a:pt x="315" y="81"/>
                    <a:pt x="360" y="74"/>
                  </a:cubicBezTo>
                  <a:cubicBezTo>
                    <a:pt x="383" y="76"/>
                    <a:pt x="391" y="105"/>
                    <a:pt x="423" y="101"/>
                  </a:cubicBezTo>
                  <a:cubicBezTo>
                    <a:pt x="455" y="97"/>
                    <a:pt x="509" y="55"/>
                    <a:pt x="552" y="48"/>
                  </a:cubicBezTo>
                  <a:cubicBezTo>
                    <a:pt x="595" y="51"/>
                    <a:pt x="638" y="49"/>
                    <a:pt x="680" y="56"/>
                  </a:cubicBezTo>
                  <a:cubicBezTo>
                    <a:pt x="716" y="62"/>
                    <a:pt x="715" y="133"/>
                    <a:pt x="747" y="149"/>
                  </a:cubicBezTo>
                  <a:cubicBezTo>
                    <a:pt x="767" y="159"/>
                    <a:pt x="822" y="222"/>
                    <a:pt x="843" y="227"/>
                  </a:cubicBezTo>
                  <a:cubicBezTo>
                    <a:pt x="900" y="313"/>
                    <a:pt x="953" y="311"/>
                    <a:pt x="992" y="408"/>
                  </a:cubicBezTo>
                  <a:cubicBezTo>
                    <a:pt x="1016" y="467"/>
                    <a:pt x="1044" y="500"/>
                    <a:pt x="1092" y="557"/>
                  </a:cubicBezTo>
                  <a:cubicBezTo>
                    <a:pt x="1113" y="596"/>
                    <a:pt x="1136" y="593"/>
                    <a:pt x="1149" y="632"/>
                  </a:cubicBezTo>
                  <a:cubicBezTo>
                    <a:pt x="1163" y="670"/>
                    <a:pt x="1171" y="748"/>
                    <a:pt x="1176" y="788"/>
                  </a:cubicBezTo>
                  <a:cubicBezTo>
                    <a:pt x="1184" y="827"/>
                    <a:pt x="1179" y="776"/>
                    <a:pt x="1182" y="875"/>
                  </a:cubicBezTo>
                  <a:cubicBezTo>
                    <a:pt x="1190" y="911"/>
                    <a:pt x="1213" y="968"/>
                    <a:pt x="1224" y="1004"/>
                  </a:cubicBezTo>
                  <a:cubicBezTo>
                    <a:pt x="1235" y="1040"/>
                    <a:pt x="1248" y="1059"/>
                    <a:pt x="1248" y="1091"/>
                  </a:cubicBezTo>
                  <a:cubicBezTo>
                    <a:pt x="1248" y="1123"/>
                    <a:pt x="1227" y="1147"/>
                    <a:pt x="1221" y="1196"/>
                  </a:cubicBezTo>
                  <a:cubicBezTo>
                    <a:pt x="1215" y="1245"/>
                    <a:pt x="1210" y="1338"/>
                    <a:pt x="1212" y="1385"/>
                  </a:cubicBezTo>
                  <a:cubicBezTo>
                    <a:pt x="1213" y="1408"/>
                    <a:pt x="1219" y="1458"/>
                    <a:pt x="1230" y="1478"/>
                  </a:cubicBezTo>
                  <a:cubicBezTo>
                    <a:pt x="1240" y="1511"/>
                    <a:pt x="1239" y="1579"/>
                    <a:pt x="1257" y="1610"/>
                  </a:cubicBezTo>
                  <a:cubicBezTo>
                    <a:pt x="1273" y="1646"/>
                    <a:pt x="1305" y="1698"/>
                    <a:pt x="1323" y="1694"/>
                  </a:cubicBezTo>
                  <a:cubicBezTo>
                    <a:pt x="1346" y="1664"/>
                    <a:pt x="1334" y="1604"/>
                    <a:pt x="1365" y="1583"/>
                  </a:cubicBezTo>
                  <a:cubicBezTo>
                    <a:pt x="1374" y="1572"/>
                    <a:pt x="1398" y="1577"/>
                    <a:pt x="1404" y="1613"/>
                  </a:cubicBezTo>
                  <a:cubicBezTo>
                    <a:pt x="1410" y="1633"/>
                    <a:pt x="1401" y="1678"/>
                    <a:pt x="1398" y="1703"/>
                  </a:cubicBezTo>
                  <a:cubicBezTo>
                    <a:pt x="1395" y="1728"/>
                    <a:pt x="1380" y="1742"/>
                    <a:pt x="1383" y="1766"/>
                  </a:cubicBezTo>
                  <a:cubicBezTo>
                    <a:pt x="1386" y="1790"/>
                    <a:pt x="1401" y="1833"/>
                    <a:pt x="1413" y="1847"/>
                  </a:cubicBezTo>
                  <a:cubicBezTo>
                    <a:pt x="1425" y="1867"/>
                    <a:pt x="1403" y="1852"/>
                    <a:pt x="1455" y="1853"/>
                  </a:cubicBezTo>
                  <a:cubicBezTo>
                    <a:pt x="1479" y="1850"/>
                    <a:pt x="1534" y="1834"/>
                    <a:pt x="1560" y="1829"/>
                  </a:cubicBezTo>
                  <a:cubicBezTo>
                    <a:pt x="1586" y="1824"/>
                    <a:pt x="1598" y="1815"/>
                    <a:pt x="1614" y="1820"/>
                  </a:cubicBezTo>
                  <a:cubicBezTo>
                    <a:pt x="1630" y="1825"/>
                    <a:pt x="1652" y="1845"/>
                    <a:pt x="1656" y="1862"/>
                  </a:cubicBezTo>
                  <a:cubicBezTo>
                    <a:pt x="1660" y="1879"/>
                    <a:pt x="1629" y="1921"/>
                    <a:pt x="1641" y="1925"/>
                  </a:cubicBezTo>
                  <a:cubicBezTo>
                    <a:pt x="1652" y="1930"/>
                    <a:pt x="1700" y="1893"/>
                    <a:pt x="1728" y="1889"/>
                  </a:cubicBezTo>
                  <a:cubicBezTo>
                    <a:pt x="1756" y="1885"/>
                    <a:pt x="1794" y="1904"/>
                    <a:pt x="1809" y="1901"/>
                  </a:cubicBezTo>
                  <a:cubicBezTo>
                    <a:pt x="1838" y="1891"/>
                    <a:pt x="1815" y="1891"/>
                    <a:pt x="1821" y="1871"/>
                  </a:cubicBezTo>
                  <a:cubicBezTo>
                    <a:pt x="1827" y="1851"/>
                    <a:pt x="1841" y="1806"/>
                    <a:pt x="1845" y="1781"/>
                  </a:cubicBezTo>
                  <a:cubicBezTo>
                    <a:pt x="1856" y="1757"/>
                    <a:pt x="1836" y="1745"/>
                    <a:pt x="1845" y="1721"/>
                  </a:cubicBezTo>
                  <a:cubicBezTo>
                    <a:pt x="1854" y="1697"/>
                    <a:pt x="1877" y="1670"/>
                    <a:pt x="1899" y="1637"/>
                  </a:cubicBezTo>
                  <a:cubicBezTo>
                    <a:pt x="1965" y="1588"/>
                    <a:pt x="1944" y="1600"/>
                    <a:pt x="1977" y="1523"/>
                  </a:cubicBezTo>
                  <a:cubicBezTo>
                    <a:pt x="2001" y="1490"/>
                    <a:pt x="2004" y="1462"/>
                    <a:pt x="2040" y="1430"/>
                  </a:cubicBezTo>
                  <a:cubicBezTo>
                    <a:pt x="2082" y="1410"/>
                    <a:pt x="2177" y="1412"/>
                    <a:pt x="2229" y="1403"/>
                  </a:cubicBezTo>
                  <a:cubicBezTo>
                    <a:pt x="2279" y="1391"/>
                    <a:pt x="2314" y="1390"/>
                    <a:pt x="2352" y="1376"/>
                  </a:cubicBezTo>
                  <a:cubicBezTo>
                    <a:pt x="2391" y="1359"/>
                    <a:pt x="2434" y="1323"/>
                    <a:pt x="2463" y="1301"/>
                  </a:cubicBezTo>
                  <a:cubicBezTo>
                    <a:pt x="2489" y="1294"/>
                    <a:pt x="2505" y="1256"/>
                    <a:pt x="2529" y="1244"/>
                  </a:cubicBezTo>
                  <a:cubicBezTo>
                    <a:pt x="2538" y="1240"/>
                    <a:pt x="2552" y="1233"/>
                    <a:pt x="2559" y="1226"/>
                  </a:cubicBezTo>
                  <a:cubicBezTo>
                    <a:pt x="2575" y="1210"/>
                    <a:pt x="2614" y="1233"/>
                    <a:pt x="2634" y="1226"/>
                  </a:cubicBezTo>
                  <a:cubicBezTo>
                    <a:pt x="2674" y="1231"/>
                    <a:pt x="2654" y="1184"/>
                    <a:pt x="2694" y="1190"/>
                  </a:cubicBezTo>
                  <a:cubicBezTo>
                    <a:pt x="2726" y="1195"/>
                    <a:pt x="2763" y="1115"/>
                    <a:pt x="2763" y="1115"/>
                  </a:cubicBezTo>
                  <a:cubicBezTo>
                    <a:pt x="2784" y="1090"/>
                    <a:pt x="2782" y="1050"/>
                    <a:pt x="2808" y="1028"/>
                  </a:cubicBezTo>
                  <a:cubicBezTo>
                    <a:pt x="2834" y="1006"/>
                    <a:pt x="2875" y="994"/>
                    <a:pt x="2919" y="986"/>
                  </a:cubicBezTo>
                  <a:cubicBezTo>
                    <a:pt x="2924" y="975"/>
                    <a:pt x="3060" y="983"/>
                    <a:pt x="3072" y="980"/>
                  </a:cubicBezTo>
                  <a:cubicBezTo>
                    <a:pt x="3096" y="975"/>
                    <a:pt x="3156" y="994"/>
                    <a:pt x="3195" y="989"/>
                  </a:cubicBezTo>
                  <a:cubicBezTo>
                    <a:pt x="3229" y="988"/>
                    <a:pt x="3246" y="996"/>
                    <a:pt x="3264" y="1016"/>
                  </a:cubicBezTo>
                  <a:cubicBezTo>
                    <a:pt x="3286" y="1036"/>
                    <a:pt x="3318" y="1076"/>
                    <a:pt x="3327" y="1106"/>
                  </a:cubicBezTo>
                  <a:cubicBezTo>
                    <a:pt x="3363" y="1103"/>
                    <a:pt x="3359" y="1114"/>
                    <a:pt x="3396" y="1100"/>
                  </a:cubicBezTo>
                  <a:cubicBezTo>
                    <a:pt x="3428" y="1116"/>
                    <a:pt x="3414" y="1088"/>
                    <a:pt x="3435" y="1109"/>
                  </a:cubicBezTo>
                  <a:cubicBezTo>
                    <a:pt x="3495" y="1133"/>
                    <a:pt x="3460" y="1107"/>
                    <a:pt x="3480" y="1130"/>
                  </a:cubicBezTo>
                  <a:cubicBezTo>
                    <a:pt x="3498" y="1150"/>
                    <a:pt x="3487" y="1220"/>
                    <a:pt x="3507" y="1238"/>
                  </a:cubicBezTo>
                  <a:cubicBezTo>
                    <a:pt x="3517" y="1247"/>
                    <a:pt x="3561" y="1247"/>
                    <a:pt x="3573" y="1253"/>
                  </a:cubicBezTo>
                  <a:cubicBezTo>
                    <a:pt x="3593" y="1262"/>
                    <a:pt x="3624" y="1256"/>
                    <a:pt x="3645" y="1259"/>
                  </a:cubicBezTo>
                  <a:cubicBezTo>
                    <a:pt x="3661" y="1264"/>
                    <a:pt x="3664" y="1230"/>
                    <a:pt x="3681" y="1232"/>
                  </a:cubicBezTo>
                  <a:cubicBezTo>
                    <a:pt x="3712" y="1235"/>
                    <a:pt x="3703" y="1220"/>
                    <a:pt x="3717" y="1202"/>
                  </a:cubicBezTo>
                  <a:cubicBezTo>
                    <a:pt x="3727" y="1189"/>
                    <a:pt x="3750" y="1163"/>
                    <a:pt x="3750" y="1124"/>
                  </a:cubicBezTo>
                  <a:cubicBezTo>
                    <a:pt x="3786" y="1106"/>
                    <a:pt x="3789" y="1052"/>
                    <a:pt x="3825" y="1034"/>
                  </a:cubicBezTo>
                  <a:cubicBezTo>
                    <a:pt x="3833" y="1023"/>
                    <a:pt x="3895" y="1073"/>
                    <a:pt x="3904" y="1064"/>
                  </a:cubicBezTo>
                  <a:cubicBezTo>
                    <a:pt x="3923" y="1070"/>
                    <a:pt x="3934" y="1076"/>
                    <a:pt x="3954" y="1094"/>
                  </a:cubicBezTo>
                  <a:cubicBezTo>
                    <a:pt x="3974" y="1112"/>
                    <a:pt x="3996" y="1158"/>
                    <a:pt x="4023" y="1172"/>
                  </a:cubicBezTo>
                  <a:cubicBezTo>
                    <a:pt x="4050" y="1184"/>
                    <a:pt x="4091" y="1179"/>
                    <a:pt x="4119" y="1178"/>
                  </a:cubicBezTo>
                  <a:cubicBezTo>
                    <a:pt x="4147" y="1177"/>
                    <a:pt x="4166" y="1185"/>
                    <a:pt x="4191" y="1166"/>
                  </a:cubicBezTo>
                  <a:cubicBezTo>
                    <a:pt x="4244" y="1163"/>
                    <a:pt x="4245" y="1103"/>
                    <a:pt x="4266" y="1064"/>
                  </a:cubicBezTo>
                  <a:cubicBezTo>
                    <a:pt x="4282" y="1063"/>
                    <a:pt x="4275" y="1025"/>
                    <a:pt x="4329" y="989"/>
                  </a:cubicBezTo>
                  <a:cubicBezTo>
                    <a:pt x="4343" y="975"/>
                    <a:pt x="4357" y="956"/>
                    <a:pt x="4362" y="938"/>
                  </a:cubicBezTo>
                  <a:cubicBezTo>
                    <a:pt x="4380" y="907"/>
                    <a:pt x="4467" y="836"/>
                    <a:pt x="4488" y="809"/>
                  </a:cubicBezTo>
                  <a:cubicBezTo>
                    <a:pt x="4509" y="782"/>
                    <a:pt x="4481" y="798"/>
                    <a:pt x="4488" y="776"/>
                  </a:cubicBezTo>
                  <a:cubicBezTo>
                    <a:pt x="4496" y="762"/>
                    <a:pt x="4498" y="695"/>
                    <a:pt x="4530" y="674"/>
                  </a:cubicBezTo>
                  <a:cubicBezTo>
                    <a:pt x="4560" y="651"/>
                    <a:pt x="4638" y="643"/>
                    <a:pt x="4671" y="638"/>
                  </a:cubicBezTo>
                  <a:cubicBezTo>
                    <a:pt x="4701" y="635"/>
                    <a:pt x="4716" y="636"/>
                    <a:pt x="4731" y="644"/>
                  </a:cubicBezTo>
                  <a:cubicBezTo>
                    <a:pt x="4746" y="652"/>
                    <a:pt x="4748" y="687"/>
                    <a:pt x="4761" y="689"/>
                  </a:cubicBezTo>
                  <a:cubicBezTo>
                    <a:pt x="4774" y="691"/>
                    <a:pt x="4786" y="655"/>
                    <a:pt x="4812" y="659"/>
                  </a:cubicBezTo>
                  <a:cubicBezTo>
                    <a:pt x="4838" y="663"/>
                    <a:pt x="4895" y="702"/>
                    <a:pt x="4917" y="713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3429720" y="3352680"/>
              <a:ext cx="450720" cy="1459080"/>
            </a:xfrm>
            <a:custGeom>
              <a:avLst/>
              <a:gdLst/>
              <a:ahLst/>
              <a:rect l="l" t="t" r="r" b="b"/>
              <a:pathLst>
                <a:path w="291" h="919">
                  <a:moveTo>
                    <a:pt x="129" y="0"/>
                  </a:moveTo>
                  <a:cubicBezTo>
                    <a:pt x="134" y="29"/>
                    <a:pt x="150" y="48"/>
                    <a:pt x="159" y="75"/>
                  </a:cubicBezTo>
                  <a:cubicBezTo>
                    <a:pt x="164" y="91"/>
                    <a:pt x="171" y="123"/>
                    <a:pt x="171" y="123"/>
                  </a:cubicBezTo>
                  <a:cubicBezTo>
                    <a:pt x="176" y="173"/>
                    <a:pt x="183" y="224"/>
                    <a:pt x="195" y="273"/>
                  </a:cubicBezTo>
                  <a:cubicBezTo>
                    <a:pt x="194" y="305"/>
                    <a:pt x="195" y="337"/>
                    <a:pt x="192" y="369"/>
                  </a:cubicBezTo>
                  <a:cubicBezTo>
                    <a:pt x="190" y="391"/>
                    <a:pt x="186" y="382"/>
                    <a:pt x="180" y="396"/>
                  </a:cubicBezTo>
                  <a:cubicBezTo>
                    <a:pt x="169" y="421"/>
                    <a:pt x="160" y="447"/>
                    <a:pt x="153" y="474"/>
                  </a:cubicBezTo>
                  <a:cubicBezTo>
                    <a:pt x="155" y="513"/>
                    <a:pt x="149" y="550"/>
                    <a:pt x="171" y="582"/>
                  </a:cubicBezTo>
                  <a:cubicBezTo>
                    <a:pt x="175" y="624"/>
                    <a:pt x="180" y="667"/>
                    <a:pt x="168" y="708"/>
                  </a:cubicBezTo>
                  <a:cubicBezTo>
                    <a:pt x="164" y="723"/>
                    <a:pt x="160" y="738"/>
                    <a:pt x="156" y="753"/>
                  </a:cubicBezTo>
                  <a:cubicBezTo>
                    <a:pt x="154" y="759"/>
                    <a:pt x="150" y="771"/>
                    <a:pt x="150" y="771"/>
                  </a:cubicBezTo>
                  <a:cubicBezTo>
                    <a:pt x="153" y="793"/>
                    <a:pt x="154" y="796"/>
                    <a:pt x="171" y="807"/>
                  </a:cubicBezTo>
                  <a:cubicBezTo>
                    <a:pt x="178" y="817"/>
                    <a:pt x="183" y="821"/>
                    <a:pt x="195" y="825"/>
                  </a:cubicBezTo>
                  <a:cubicBezTo>
                    <a:pt x="204" y="834"/>
                    <a:pt x="215" y="839"/>
                    <a:pt x="222" y="849"/>
                  </a:cubicBezTo>
                  <a:cubicBezTo>
                    <a:pt x="247" y="881"/>
                    <a:pt x="223" y="856"/>
                    <a:pt x="243" y="876"/>
                  </a:cubicBezTo>
                  <a:cubicBezTo>
                    <a:pt x="247" y="888"/>
                    <a:pt x="261" y="900"/>
                    <a:pt x="273" y="906"/>
                  </a:cubicBezTo>
                  <a:cubicBezTo>
                    <a:pt x="276" y="907"/>
                    <a:pt x="279" y="908"/>
                    <a:pt x="282" y="909"/>
                  </a:cubicBezTo>
                  <a:cubicBezTo>
                    <a:pt x="285" y="911"/>
                    <a:pt x="291" y="919"/>
                    <a:pt x="291" y="915"/>
                  </a:cubicBezTo>
                  <a:cubicBezTo>
                    <a:pt x="291" y="911"/>
                    <a:pt x="285" y="909"/>
                    <a:pt x="282" y="906"/>
                  </a:cubicBezTo>
                  <a:cubicBezTo>
                    <a:pt x="267" y="894"/>
                    <a:pt x="251" y="887"/>
                    <a:pt x="237" y="873"/>
                  </a:cubicBezTo>
                  <a:cubicBezTo>
                    <a:pt x="224" y="834"/>
                    <a:pt x="193" y="812"/>
                    <a:pt x="162" y="786"/>
                  </a:cubicBezTo>
                  <a:cubicBezTo>
                    <a:pt x="152" y="778"/>
                    <a:pt x="148" y="769"/>
                    <a:pt x="138" y="762"/>
                  </a:cubicBezTo>
                  <a:cubicBezTo>
                    <a:pt x="126" y="743"/>
                    <a:pt x="124" y="721"/>
                    <a:pt x="108" y="705"/>
                  </a:cubicBezTo>
                  <a:cubicBezTo>
                    <a:pt x="101" y="685"/>
                    <a:pt x="111" y="707"/>
                    <a:pt x="96" y="690"/>
                  </a:cubicBezTo>
                  <a:cubicBezTo>
                    <a:pt x="81" y="672"/>
                    <a:pt x="88" y="668"/>
                    <a:pt x="66" y="654"/>
                  </a:cubicBezTo>
                  <a:cubicBezTo>
                    <a:pt x="51" y="644"/>
                    <a:pt x="37" y="637"/>
                    <a:pt x="24" y="624"/>
                  </a:cubicBezTo>
                  <a:cubicBezTo>
                    <a:pt x="16" y="601"/>
                    <a:pt x="24" y="576"/>
                    <a:pt x="27" y="552"/>
                  </a:cubicBezTo>
                  <a:cubicBezTo>
                    <a:pt x="23" y="527"/>
                    <a:pt x="17" y="515"/>
                    <a:pt x="0" y="49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"/>
            <p:cNvSpPr/>
            <p:nvPr/>
          </p:nvSpPr>
          <p:spPr>
            <a:xfrm>
              <a:off x="4178160" y="4495680"/>
              <a:ext cx="760680" cy="11667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279" y="0"/>
                  </a:moveTo>
                  <a:cubicBezTo>
                    <a:pt x="283" y="38"/>
                    <a:pt x="293" y="46"/>
                    <a:pt x="327" y="57"/>
                  </a:cubicBezTo>
                  <a:cubicBezTo>
                    <a:pt x="345" y="75"/>
                    <a:pt x="366" y="72"/>
                    <a:pt x="387" y="81"/>
                  </a:cubicBezTo>
                  <a:cubicBezTo>
                    <a:pt x="402" y="88"/>
                    <a:pt x="416" y="98"/>
                    <a:pt x="429" y="108"/>
                  </a:cubicBezTo>
                  <a:cubicBezTo>
                    <a:pt x="440" y="142"/>
                    <a:pt x="461" y="172"/>
                    <a:pt x="480" y="201"/>
                  </a:cubicBezTo>
                  <a:cubicBezTo>
                    <a:pt x="486" y="226"/>
                    <a:pt x="491" y="233"/>
                    <a:pt x="483" y="261"/>
                  </a:cubicBezTo>
                  <a:cubicBezTo>
                    <a:pt x="480" y="271"/>
                    <a:pt x="465" y="288"/>
                    <a:pt x="465" y="288"/>
                  </a:cubicBezTo>
                  <a:cubicBezTo>
                    <a:pt x="461" y="304"/>
                    <a:pt x="465" y="333"/>
                    <a:pt x="453" y="345"/>
                  </a:cubicBezTo>
                  <a:cubicBezTo>
                    <a:pt x="435" y="363"/>
                    <a:pt x="406" y="388"/>
                    <a:pt x="384" y="399"/>
                  </a:cubicBezTo>
                  <a:cubicBezTo>
                    <a:pt x="369" y="421"/>
                    <a:pt x="341" y="421"/>
                    <a:pt x="321" y="435"/>
                  </a:cubicBezTo>
                  <a:cubicBezTo>
                    <a:pt x="307" y="445"/>
                    <a:pt x="315" y="440"/>
                    <a:pt x="294" y="447"/>
                  </a:cubicBezTo>
                  <a:cubicBezTo>
                    <a:pt x="291" y="448"/>
                    <a:pt x="285" y="450"/>
                    <a:pt x="285" y="450"/>
                  </a:cubicBezTo>
                  <a:cubicBezTo>
                    <a:pt x="272" y="463"/>
                    <a:pt x="259" y="472"/>
                    <a:pt x="252" y="489"/>
                  </a:cubicBezTo>
                  <a:cubicBezTo>
                    <a:pt x="246" y="503"/>
                    <a:pt x="241" y="528"/>
                    <a:pt x="228" y="537"/>
                  </a:cubicBezTo>
                  <a:cubicBezTo>
                    <a:pt x="209" y="550"/>
                    <a:pt x="193" y="569"/>
                    <a:pt x="177" y="585"/>
                  </a:cubicBezTo>
                  <a:cubicBezTo>
                    <a:pt x="168" y="594"/>
                    <a:pt x="156" y="597"/>
                    <a:pt x="147" y="606"/>
                  </a:cubicBezTo>
                  <a:cubicBezTo>
                    <a:pt x="142" y="622"/>
                    <a:pt x="117" y="644"/>
                    <a:pt x="102" y="654"/>
                  </a:cubicBezTo>
                  <a:cubicBezTo>
                    <a:pt x="97" y="661"/>
                    <a:pt x="60" y="721"/>
                    <a:pt x="54" y="726"/>
                  </a:cubicBezTo>
                  <a:cubicBezTo>
                    <a:pt x="42" y="735"/>
                    <a:pt x="9" y="732"/>
                    <a:pt x="0" y="73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9"/>
            <p:cNvSpPr/>
            <p:nvPr/>
          </p:nvSpPr>
          <p:spPr>
            <a:xfrm>
              <a:off x="5010480" y="3433680"/>
              <a:ext cx="1441080" cy="793800"/>
            </a:xfrm>
            <a:custGeom>
              <a:avLst/>
              <a:gdLst/>
              <a:ahLst/>
              <a:rect l="l" t="t" r="r" b="b"/>
              <a:pathLst>
                <a:path w="930" h="500">
                  <a:moveTo>
                    <a:pt x="930" y="455"/>
                  </a:moveTo>
                  <a:cubicBezTo>
                    <a:pt x="920" y="452"/>
                    <a:pt x="900" y="446"/>
                    <a:pt x="900" y="446"/>
                  </a:cubicBezTo>
                  <a:cubicBezTo>
                    <a:pt x="884" y="447"/>
                    <a:pt x="868" y="446"/>
                    <a:pt x="852" y="449"/>
                  </a:cubicBezTo>
                  <a:cubicBezTo>
                    <a:pt x="839" y="451"/>
                    <a:pt x="827" y="473"/>
                    <a:pt x="816" y="479"/>
                  </a:cubicBezTo>
                  <a:cubicBezTo>
                    <a:pt x="810" y="482"/>
                    <a:pt x="797" y="498"/>
                    <a:pt x="789" y="500"/>
                  </a:cubicBezTo>
                  <a:cubicBezTo>
                    <a:pt x="765" y="499"/>
                    <a:pt x="738" y="489"/>
                    <a:pt x="714" y="485"/>
                  </a:cubicBezTo>
                  <a:cubicBezTo>
                    <a:pt x="694" y="482"/>
                    <a:pt x="686" y="457"/>
                    <a:pt x="678" y="443"/>
                  </a:cubicBezTo>
                  <a:cubicBezTo>
                    <a:pt x="661" y="413"/>
                    <a:pt x="656" y="394"/>
                    <a:pt x="645" y="362"/>
                  </a:cubicBezTo>
                  <a:cubicBezTo>
                    <a:pt x="643" y="333"/>
                    <a:pt x="654" y="306"/>
                    <a:pt x="630" y="290"/>
                  </a:cubicBezTo>
                  <a:cubicBezTo>
                    <a:pt x="622" y="278"/>
                    <a:pt x="613" y="264"/>
                    <a:pt x="606" y="251"/>
                  </a:cubicBezTo>
                  <a:cubicBezTo>
                    <a:pt x="594" y="227"/>
                    <a:pt x="590" y="197"/>
                    <a:pt x="567" y="182"/>
                  </a:cubicBezTo>
                  <a:cubicBezTo>
                    <a:pt x="561" y="173"/>
                    <a:pt x="560" y="170"/>
                    <a:pt x="549" y="164"/>
                  </a:cubicBezTo>
                  <a:cubicBezTo>
                    <a:pt x="543" y="161"/>
                    <a:pt x="531" y="158"/>
                    <a:pt x="531" y="158"/>
                  </a:cubicBezTo>
                  <a:cubicBezTo>
                    <a:pt x="514" y="141"/>
                    <a:pt x="454" y="87"/>
                    <a:pt x="429" y="83"/>
                  </a:cubicBezTo>
                  <a:cubicBezTo>
                    <a:pt x="416" y="81"/>
                    <a:pt x="403" y="76"/>
                    <a:pt x="390" y="74"/>
                  </a:cubicBezTo>
                  <a:cubicBezTo>
                    <a:pt x="374" y="71"/>
                    <a:pt x="354" y="53"/>
                    <a:pt x="354" y="53"/>
                  </a:cubicBezTo>
                  <a:cubicBezTo>
                    <a:pt x="343" y="47"/>
                    <a:pt x="327" y="47"/>
                    <a:pt x="315" y="44"/>
                  </a:cubicBezTo>
                  <a:cubicBezTo>
                    <a:pt x="297" y="32"/>
                    <a:pt x="273" y="32"/>
                    <a:pt x="252" y="29"/>
                  </a:cubicBezTo>
                  <a:cubicBezTo>
                    <a:pt x="238" y="23"/>
                    <a:pt x="233" y="12"/>
                    <a:pt x="222" y="8"/>
                  </a:cubicBezTo>
                  <a:cubicBezTo>
                    <a:pt x="211" y="4"/>
                    <a:pt x="200" y="5"/>
                    <a:pt x="186" y="5"/>
                  </a:cubicBezTo>
                  <a:cubicBezTo>
                    <a:pt x="170" y="2"/>
                    <a:pt x="135" y="5"/>
                    <a:pt x="135" y="5"/>
                  </a:cubicBezTo>
                  <a:cubicBezTo>
                    <a:pt x="119" y="0"/>
                    <a:pt x="99" y="52"/>
                    <a:pt x="84" y="56"/>
                  </a:cubicBezTo>
                  <a:cubicBezTo>
                    <a:pt x="58" y="74"/>
                    <a:pt x="16" y="52"/>
                    <a:pt x="0" y="53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0"/>
            <p:cNvSpPr/>
            <p:nvPr/>
          </p:nvSpPr>
          <p:spPr>
            <a:xfrm>
              <a:off x="5882760" y="4527720"/>
              <a:ext cx="31464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75" y="0"/>
                  </a:moveTo>
                  <a:cubicBezTo>
                    <a:pt x="160" y="23"/>
                    <a:pt x="154" y="18"/>
                    <a:pt x="136" y="36"/>
                  </a:cubicBezTo>
                  <a:cubicBezTo>
                    <a:pt x="135" y="54"/>
                    <a:pt x="139" y="73"/>
                    <a:pt x="133" y="90"/>
                  </a:cubicBezTo>
                  <a:cubicBezTo>
                    <a:pt x="131" y="96"/>
                    <a:pt x="120" y="92"/>
                    <a:pt x="115" y="96"/>
                  </a:cubicBezTo>
                  <a:cubicBezTo>
                    <a:pt x="71" y="125"/>
                    <a:pt x="73" y="123"/>
                    <a:pt x="10" y="126"/>
                  </a:cubicBezTo>
                  <a:cubicBezTo>
                    <a:pt x="0" y="155"/>
                    <a:pt x="17" y="160"/>
                    <a:pt x="40" y="168"/>
                  </a:cubicBezTo>
                  <a:cubicBezTo>
                    <a:pt x="109" y="165"/>
                    <a:pt x="105" y="171"/>
                    <a:pt x="151" y="141"/>
                  </a:cubicBezTo>
                  <a:cubicBezTo>
                    <a:pt x="165" y="120"/>
                    <a:pt x="160" y="124"/>
                    <a:pt x="187" y="117"/>
                  </a:cubicBezTo>
                  <a:cubicBezTo>
                    <a:pt x="196" y="99"/>
                    <a:pt x="192" y="109"/>
                    <a:pt x="199" y="87"/>
                  </a:cubicBezTo>
                  <a:cubicBezTo>
                    <a:pt x="200" y="84"/>
                    <a:pt x="202" y="78"/>
                    <a:pt x="202" y="78"/>
                  </a:cubicBezTo>
                  <a:cubicBezTo>
                    <a:pt x="201" y="60"/>
                    <a:pt x="203" y="42"/>
                    <a:pt x="199" y="24"/>
                  </a:cubicBezTo>
                  <a:cubicBezTo>
                    <a:pt x="197" y="16"/>
                    <a:pt x="167" y="8"/>
                    <a:pt x="175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1"/>
            <p:cNvSpPr/>
            <p:nvPr/>
          </p:nvSpPr>
          <p:spPr>
            <a:xfrm>
              <a:off x="5665680" y="4797360"/>
              <a:ext cx="525240" cy="1192320"/>
            </a:xfrm>
            <a:custGeom>
              <a:avLst/>
              <a:gdLst/>
              <a:ahLst/>
              <a:rect l="l" t="t" r="r" b="b"/>
              <a:pathLst>
                <a:path w="339" h="751">
                  <a:moveTo>
                    <a:pt x="0" y="103"/>
                  </a:moveTo>
                  <a:cubicBezTo>
                    <a:pt x="15" y="96"/>
                    <a:pt x="22" y="85"/>
                    <a:pt x="36" y="76"/>
                  </a:cubicBezTo>
                  <a:cubicBezTo>
                    <a:pt x="45" y="70"/>
                    <a:pt x="75" y="61"/>
                    <a:pt x="87" y="58"/>
                  </a:cubicBezTo>
                  <a:cubicBezTo>
                    <a:pt x="105" y="46"/>
                    <a:pt x="129" y="45"/>
                    <a:pt x="150" y="43"/>
                  </a:cubicBezTo>
                  <a:cubicBezTo>
                    <a:pt x="169" y="37"/>
                    <a:pt x="190" y="36"/>
                    <a:pt x="210" y="31"/>
                  </a:cubicBezTo>
                  <a:cubicBezTo>
                    <a:pt x="222" y="28"/>
                    <a:pt x="231" y="22"/>
                    <a:pt x="243" y="19"/>
                  </a:cubicBezTo>
                  <a:cubicBezTo>
                    <a:pt x="248" y="3"/>
                    <a:pt x="237" y="0"/>
                    <a:pt x="252" y="7"/>
                  </a:cubicBezTo>
                  <a:cubicBezTo>
                    <a:pt x="265" y="32"/>
                    <a:pt x="302" y="51"/>
                    <a:pt x="309" y="79"/>
                  </a:cubicBezTo>
                  <a:cubicBezTo>
                    <a:pt x="319" y="100"/>
                    <a:pt x="287" y="126"/>
                    <a:pt x="291" y="148"/>
                  </a:cubicBezTo>
                  <a:cubicBezTo>
                    <a:pt x="296" y="168"/>
                    <a:pt x="338" y="177"/>
                    <a:pt x="339" y="202"/>
                  </a:cubicBezTo>
                  <a:cubicBezTo>
                    <a:pt x="334" y="236"/>
                    <a:pt x="322" y="276"/>
                    <a:pt x="297" y="301"/>
                  </a:cubicBezTo>
                  <a:cubicBezTo>
                    <a:pt x="289" y="322"/>
                    <a:pt x="283" y="324"/>
                    <a:pt x="282" y="334"/>
                  </a:cubicBezTo>
                  <a:cubicBezTo>
                    <a:pt x="281" y="344"/>
                    <a:pt x="298" y="348"/>
                    <a:pt x="288" y="364"/>
                  </a:cubicBezTo>
                  <a:cubicBezTo>
                    <a:pt x="279" y="377"/>
                    <a:pt x="249" y="424"/>
                    <a:pt x="225" y="433"/>
                  </a:cubicBezTo>
                  <a:cubicBezTo>
                    <a:pt x="201" y="442"/>
                    <a:pt x="161" y="418"/>
                    <a:pt x="141" y="421"/>
                  </a:cubicBezTo>
                  <a:cubicBezTo>
                    <a:pt x="128" y="424"/>
                    <a:pt x="108" y="438"/>
                    <a:pt x="102" y="451"/>
                  </a:cubicBezTo>
                  <a:cubicBezTo>
                    <a:pt x="99" y="457"/>
                    <a:pt x="108" y="460"/>
                    <a:pt x="108" y="460"/>
                  </a:cubicBezTo>
                  <a:cubicBezTo>
                    <a:pt x="108" y="466"/>
                    <a:pt x="85" y="454"/>
                    <a:pt x="84" y="502"/>
                  </a:cubicBezTo>
                  <a:cubicBezTo>
                    <a:pt x="83" y="523"/>
                    <a:pt x="95" y="563"/>
                    <a:pt x="102" y="586"/>
                  </a:cubicBezTo>
                  <a:cubicBezTo>
                    <a:pt x="109" y="609"/>
                    <a:pt x="126" y="616"/>
                    <a:pt x="126" y="643"/>
                  </a:cubicBezTo>
                  <a:cubicBezTo>
                    <a:pt x="126" y="670"/>
                    <a:pt x="107" y="729"/>
                    <a:pt x="102" y="751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2"/>
            <p:cNvSpPr/>
            <p:nvPr/>
          </p:nvSpPr>
          <p:spPr>
            <a:xfrm>
              <a:off x="6888240" y="4384800"/>
              <a:ext cx="275760" cy="396720"/>
            </a:xfrm>
            <a:custGeom>
              <a:avLst/>
              <a:gdLst/>
              <a:ahLst/>
              <a:rect l="l" t="t" r="r" b="b"/>
              <a:pathLst>
                <a:path w="178" h="250">
                  <a:moveTo>
                    <a:pt x="57" y="0"/>
                  </a:moveTo>
                  <a:cubicBezTo>
                    <a:pt x="45" y="4"/>
                    <a:pt x="42" y="12"/>
                    <a:pt x="33" y="21"/>
                  </a:cubicBezTo>
                  <a:cubicBezTo>
                    <a:pt x="24" y="48"/>
                    <a:pt x="16" y="75"/>
                    <a:pt x="9" y="102"/>
                  </a:cubicBezTo>
                  <a:cubicBezTo>
                    <a:pt x="0" y="138"/>
                    <a:pt x="13" y="116"/>
                    <a:pt x="0" y="135"/>
                  </a:cubicBezTo>
                  <a:cubicBezTo>
                    <a:pt x="4" y="154"/>
                    <a:pt x="9" y="157"/>
                    <a:pt x="27" y="162"/>
                  </a:cubicBezTo>
                  <a:cubicBezTo>
                    <a:pt x="42" y="173"/>
                    <a:pt x="61" y="200"/>
                    <a:pt x="72" y="216"/>
                  </a:cubicBezTo>
                  <a:cubicBezTo>
                    <a:pt x="74" y="226"/>
                    <a:pt x="72" y="238"/>
                    <a:pt x="78" y="246"/>
                  </a:cubicBezTo>
                  <a:cubicBezTo>
                    <a:pt x="81" y="250"/>
                    <a:pt x="88" y="244"/>
                    <a:pt x="90" y="240"/>
                  </a:cubicBezTo>
                  <a:cubicBezTo>
                    <a:pt x="94" y="233"/>
                    <a:pt x="94" y="224"/>
                    <a:pt x="96" y="216"/>
                  </a:cubicBezTo>
                  <a:cubicBezTo>
                    <a:pt x="96" y="215"/>
                    <a:pt x="128" y="203"/>
                    <a:pt x="135" y="198"/>
                  </a:cubicBezTo>
                  <a:cubicBezTo>
                    <a:pt x="138" y="188"/>
                    <a:pt x="136" y="177"/>
                    <a:pt x="141" y="168"/>
                  </a:cubicBezTo>
                  <a:cubicBezTo>
                    <a:pt x="145" y="162"/>
                    <a:pt x="159" y="156"/>
                    <a:pt x="159" y="156"/>
                  </a:cubicBezTo>
                  <a:cubicBezTo>
                    <a:pt x="162" y="149"/>
                    <a:pt x="178" y="136"/>
                    <a:pt x="177" y="129"/>
                  </a:cubicBezTo>
                  <a:cubicBezTo>
                    <a:pt x="176" y="122"/>
                    <a:pt x="170" y="110"/>
                    <a:pt x="153" y="111"/>
                  </a:cubicBezTo>
                  <a:cubicBezTo>
                    <a:pt x="105" y="78"/>
                    <a:pt x="103" y="126"/>
                    <a:pt x="75" y="135"/>
                  </a:cubicBezTo>
                  <a:cubicBezTo>
                    <a:pt x="56" y="97"/>
                    <a:pt x="75" y="138"/>
                    <a:pt x="63" y="42"/>
                  </a:cubicBezTo>
                  <a:cubicBezTo>
                    <a:pt x="62" y="35"/>
                    <a:pt x="57" y="21"/>
                    <a:pt x="51" y="15"/>
                  </a:cubicBezTo>
                  <a:cubicBezTo>
                    <a:pt x="48" y="12"/>
                    <a:pt x="41" y="12"/>
                    <a:pt x="42" y="9"/>
                  </a:cubicBezTo>
                  <a:cubicBezTo>
                    <a:pt x="44" y="4"/>
                    <a:pt x="52" y="3"/>
                    <a:pt x="57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"/>
            <p:cNvSpPr/>
            <p:nvPr/>
          </p:nvSpPr>
          <p:spPr>
            <a:xfrm>
              <a:off x="6446880" y="4684680"/>
              <a:ext cx="497160" cy="847800"/>
            </a:xfrm>
            <a:custGeom>
              <a:avLst/>
              <a:gdLst/>
              <a:ahLst/>
              <a:rect l="l" t="t" r="r" b="b"/>
              <a:pathLst>
                <a:path w="321" h="534">
                  <a:moveTo>
                    <a:pt x="321" y="0"/>
                  </a:moveTo>
                  <a:cubicBezTo>
                    <a:pt x="287" y="23"/>
                    <a:pt x="293" y="61"/>
                    <a:pt x="267" y="87"/>
                  </a:cubicBezTo>
                  <a:cubicBezTo>
                    <a:pt x="261" y="105"/>
                    <a:pt x="250" y="103"/>
                    <a:pt x="231" y="105"/>
                  </a:cubicBezTo>
                  <a:cubicBezTo>
                    <a:pt x="212" y="111"/>
                    <a:pt x="204" y="126"/>
                    <a:pt x="186" y="132"/>
                  </a:cubicBezTo>
                  <a:cubicBezTo>
                    <a:pt x="148" y="146"/>
                    <a:pt x="103" y="148"/>
                    <a:pt x="63" y="150"/>
                  </a:cubicBezTo>
                  <a:cubicBezTo>
                    <a:pt x="57" y="151"/>
                    <a:pt x="51" y="152"/>
                    <a:pt x="45" y="153"/>
                  </a:cubicBezTo>
                  <a:cubicBezTo>
                    <a:pt x="39" y="155"/>
                    <a:pt x="27" y="159"/>
                    <a:pt x="27" y="159"/>
                  </a:cubicBezTo>
                  <a:cubicBezTo>
                    <a:pt x="27" y="158"/>
                    <a:pt x="36" y="153"/>
                    <a:pt x="45" y="152"/>
                  </a:cubicBezTo>
                  <a:cubicBezTo>
                    <a:pt x="54" y="151"/>
                    <a:pt x="62" y="151"/>
                    <a:pt x="78" y="150"/>
                  </a:cubicBezTo>
                  <a:cubicBezTo>
                    <a:pt x="99" y="147"/>
                    <a:pt x="120" y="146"/>
                    <a:pt x="141" y="144"/>
                  </a:cubicBezTo>
                  <a:cubicBezTo>
                    <a:pt x="155" y="139"/>
                    <a:pt x="173" y="139"/>
                    <a:pt x="185" y="131"/>
                  </a:cubicBezTo>
                  <a:cubicBezTo>
                    <a:pt x="190" y="127"/>
                    <a:pt x="202" y="126"/>
                    <a:pt x="207" y="122"/>
                  </a:cubicBezTo>
                  <a:cubicBezTo>
                    <a:pt x="212" y="120"/>
                    <a:pt x="209" y="115"/>
                    <a:pt x="216" y="111"/>
                  </a:cubicBezTo>
                  <a:cubicBezTo>
                    <a:pt x="224" y="107"/>
                    <a:pt x="248" y="103"/>
                    <a:pt x="258" y="99"/>
                  </a:cubicBezTo>
                  <a:cubicBezTo>
                    <a:pt x="268" y="95"/>
                    <a:pt x="271" y="82"/>
                    <a:pt x="273" y="90"/>
                  </a:cubicBezTo>
                  <a:cubicBezTo>
                    <a:pt x="279" y="113"/>
                    <a:pt x="281" y="116"/>
                    <a:pt x="273" y="150"/>
                  </a:cubicBezTo>
                  <a:cubicBezTo>
                    <a:pt x="272" y="153"/>
                    <a:pt x="245" y="171"/>
                    <a:pt x="240" y="183"/>
                  </a:cubicBezTo>
                  <a:cubicBezTo>
                    <a:pt x="237" y="190"/>
                    <a:pt x="232" y="210"/>
                    <a:pt x="231" y="210"/>
                  </a:cubicBezTo>
                  <a:cubicBezTo>
                    <a:pt x="215" y="213"/>
                    <a:pt x="202" y="217"/>
                    <a:pt x="186" y="219"/>
                  </a:cubicBezTo>
                  <a:cubicBezTo>
                    <a:pt x="152" y="230"/>
                    <a:pt x="122" y="239"/>
                    <a:pt x="87" y="243"/>
                  </a:cubicBezTo>
                  <a:cubicBezTo>
                    <a:pt x="66" y="248"/>
                    <a:pt x="70" y="246"/>
                    <a:pt x="60" y="248"/>
                  </a:cubicBezTo>
                  <a:cubicBezTo>
                    <a:pt x="50" y="250"/>
                    <a:pt x="34" y="250"/>
                    <a:pt x="24" y="255"/>
                  </a:cubicBezTo>
                  <a:cubicBezTo>
                    <a:pt x="14" y="262"/>
                    <a:pt x="7" y="269"/>
                    <a:pt x="0" y="279"/>
                  </a:cubicBezTo>
                  <a:cubicBezTo>
                    <a:pt x="0" y="280"/>
                    <a:pt x="8" y="270"/>
                    <a:pt x="14" y="266"/>
                  </a:cubicBezTo>
                  <a:cubicBezTo>
                    <a:pt x="20" y="262"/>
                    <a:pt x="21" y="259"/>
                    <a:pt x="36" y="255"/>
                  </a:cubicBezTo>
                  <a:cubicBezTo>
                    <a:pt x="49" y="242"/>
                    <a:pt x="83" y="243"/>
                    <a:pt x="102" y="242"/>
                  </a:cubicBezTo>
                  <a:cubicBezTo>
                    <a:pt x="121" y="236"/>
                    <a:pt x="135" y="240"/>
                    <a:pt x="153" y="228"/>
                  </a:cubicBezTo>
                  <a:cubicBezTo>
                    <a:pt x="159" y="224"/>
                    <a:pt x="168" y="229"/>
                    <a:pt x="174" y="225"/>
                  </a:cubicBezTo>
                  <a:cubicBezTo>
                    <a:pt x="177" y="223"/>
                    <a:pt x="183" y="219"/>
                    <a:pt x="183" y="219"/>
                  </a:cubicBezTo>
                  <a:cubicBezTo>
                    <a:pt x="194" y="220"/>
                    <a:pt x="207" y="216"/>
                    <a:pt x="216" y="222"/>
                  </a:cubicBezTo>
                  <a:cubicBezTo>
                    <a:pt x="217" y="222"/>
                    <a:pt x="212" y="249"/>
                    <a:pt x="210" y="252"/>
                  </a:cubicBezTo>
                  <a:cubicBezTo>
                    <a:pt x="195" y="282"/>
                    <a:pt x="193" y="306"/>
                    <a:pt x="185" y="339"/>
                  </a:cubicBezTo>
                  <a:cubicBezTo>
                    <a:pt x="184" y="350"/>
                    <a:pt x="183" y="367"/>
                    <a:pt x="180" y="378"/>
                  </a:cubicBezTo>
                  <a:cubicBezTo>
                    <a:pt x="179" y="382"/>
                    <a:pt x="150" y="383"/>
                    <a:pt x="147" y="384"/>
                  </a:cubicBezTo>
                  <a:cubicBezTo>
                    <a:pt x="126" y="389"/>
                    <a:pt x="118" y="394"/>
                    <a:pt x="93" y="396"/>
                  </a:cubicBezTo>
                  <a:cubicBezTo>
                    <a:pt x="32" y="409"/>
                    <a:pt x="90" y="401"/>
                    <a:pt x="105" y="399"/>
                  </a:cubicBezTo>
                  <a:cubicBezTo>
                    <a:pt x="111" y="397"/>
                    <a:pt x="117" y="395"/>
                    <a:pt x="123" y="393"/>
                  </a:cubicBezTo>
                  <a:cubicBezTo>
                    <a:pt x="131" y="390"/>
                    <a:pt x="147" y="387"/>
                    <a:pt x="147" y="387"/>
                  </a:cubicBezTo>
                  <a:cubicBezTo>
                    <a:pt x="153" y="388"/>
                    <a:pt x="181" y="371"/>
                    <a:pt x="183" y="377"/>
                  </a:cubicBezTo>
                  <a:cubicBezTo>
                    <a:pt x="191" y="397"/>
                    <a:pt x="164" y="393"/>
                    <a:pt x="152" y="473"/>
                  </a:cubicBezTo>
                  <a:cubicBezTo>
                    <a:pt x="154" y="493"/>
                    <a:pt x="150" y="514"/>
                    <a:pt x="150" y="53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AutoShape 14"/>
          <p:cNvSpPr/>
          <p:nvPr/>
        </p:nvSpPr>
        <p:spPr>
          <a:xfrm>
            <a:off x="6858000" y="4343400"/>
            <a:ext cx="228600" cy="2286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640080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湖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80010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黄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8229600" y="4267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东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1600200" y="914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位于长江的下游地区，濒临黄海和东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地处江海交汇之地，沿海港口众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7166880" y="3352680"/>
            <a:ext cx="45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苏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7426080" y="4648320"/>
            <a:ext cx="7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浙江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8198"/>
          <p:cNvSpPr/>
          <p:nvPr/>
        </p:nvSpPr>
        <p:spPr>
          <a:xfrm>
            <a:off x="2459160" y="4111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Perpetua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长江三角洲的地形"/>
          <p:cNvPicPr/>
          <p:nvPr/>
        </p:nvPicPr>
        <p:blipFill>
          <a:blip r:embed="rId1"/>
          <a:stretch/>
        </p:blipFill>
        <p:spPr>
          <a:xfrm>
            <a:off x="-1440" y="1025640"/>
            <a:ext cx="9145440" cy="5832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04920" y="15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地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22860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部分地区地势低平，河网密布，湖泊星罗，自古以来就是我国著名的“鱼米之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1403280" y="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96464"/>
                </a:solidFill>
                <a:latin typeface="Arial"/>
                <a:ea typeface="宋体"/>
              </a:rPr>
              <a:t>长三角地形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152280" y="592200"/>
            <a:ext cx="97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地势低平，河湖密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yingjiang-river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2895480" y="3808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亚热带季风气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2895480" y="1066680"/>
            <a:ext cx="57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夏季高温多雨，冬季温和湿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457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96464"/>
                </a:solidFill>
                <a:latin typeface="Arial"/>
                <a:ea typeface="宋体"/>
              </a:rPr>
              <a:t>4</a:t>
            </a:r>
            <a:r>
              <a:rPr b="1" lang="zh-CN" sz="4000" spc="-1" strike="noStrike">
                <a:solidFill>
                  <a:srgbClr val="696464"/>
                </a:solidFill>
                <a:latin typeface="Arial"/>
                <a:ea typeface="宋体"/>
              </a:rPr>
              <a:t>、气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图片2"/>
          <p:cNvPicPr/>
          <p:nvPr/>
        </p:nvPicPr>
        <p:blipFill>
          <a:blip r:embed="rId1"/>
          <a:stretch/>
        </p:blipFill>
        <p:spPr>
          <a:xfrm>
            <a:off x="914400" y="1539720"/>
            <a:ext cx="7238880" cy="50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图片1"/>
          <p:cNvPicPr/>
          <p:nvPr/>
        </p:nvPicPr>
        <p:blipFill>
          <a:blip r:embed="rId1"/>
          <a:stretch/>
        </p:blipFill>
        <p:spPr>
          <a:xfrm>
            <a:off x="3429000" y="2286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3"/>
          <p:cNvSpPr/>
          <p:nvPr/>
        </p:nvSpPr>
        <p:spPr>
          <a:xfrm>
            <a:off x="304920" y="2286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水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80880" y="137160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托长江干支流发达的水运，可以联系广大的内陆地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380880" y="365760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时又是我国南北海上航运的中枢，并通过远洋航线通往世界的主要港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4419720" y="6172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长江三角洲的港口城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07:17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4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