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E1F-62CE-4B3E-8104-89C9E81B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0CB-A825-4DAB-BEF7-985FCCFA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9B7-E0FA-459A-AFD1-775D9667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53F-3449-434C-9A91-DF17E3C8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87CE-97A8-4A48-8C5B-5FD6C079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465F-7AF6-476F-91C8-8497125F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290E-00E3-4A62-ABA4-39ACCE72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BA33-679E-4F91-9D43-41361309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9EB4-2894-4C20-85BD-D0E675DB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7327-EB8B-41C0-985B-EFC9ABE0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F26C-9BDD-4773-B5DD-614B24D8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77B-5574-4A7F-9FD8-DEAC83B5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70A7-C8DF-4DDD-BC34-C4D784A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936E-DDF2-4CE0-BE96-DADD39E8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FD6F-DFA5-455C-96DD-BD36B543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0EA2-94AF-49D4-83FF-6E050187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C30B-558F-4160-8627-3365EAA5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185-9BA8-4B6A-ABEE-A74606DB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CF3-DA6F-46D5-A492-AEAB57CF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AEA-BA3F-49AC-BA19-42E0D90C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4D8-8999-476D-997A-6196FB72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62E-EBE8-498A-95E7-DEBADC53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981-C2B9-4016-8240-9D12E11D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889-A84B-4439-8204-B160821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27BA-F0AE-48A0-985F-4B920C28F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7EAE-5D17-4046-8951-16B0E3FD350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5A5C-9C35-4D48-B3FA-773D8BD90A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1763640" y="1557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页脚占位符 2"/>
          <p:cNvSpPr/>
          <p:nvPr/>
        </p:nvSpPr>
        <p:spPr>
          <a:xfrm>
            <a:off x="3152880" y="59356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04916143226761"/>
          <p:cNvPicPr/>
          <p:nvPr/>
        </p:nvPicPr>
        <p:blipFill>
          <a:blip r:embed="rId2"/>
          <a:stretch/>
        </p:blipFill>
        <p:spPr>
          <a:xfrm>
            <a:off x="539640" y="476280"/>
            <a:ext cx="7921800" cy="5935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293200" y="11253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吃水不忘挖井人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806560" y="765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新课标一年级语文下册第六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069-3"/>
          <p:cNvPicPr/>
          <p:nvPr/>
        </p:nvPicPr>
        <p:blipFill>
          <a:blip r:embed="rId1"/>
          <a:stretch/>
        </p:blipFill>
        <p:spPr>
          <a:xfrm>
            <a:off x="-152280" y="-152280"/>
            <a:ext cx="9601200" cy="71625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8200"/>
          <p:cNvSpPr/>
          <p:nvPr/>
        </p:nvSpPr>
        <p:spPr>
          <a:xfrm>
            <a:off x="2411280" y="189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知 识 链 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毛泽东生平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毛泽东，湖南湘潭人。生于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89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日，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97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9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日去世。他一生为中国人民的解放，为祖国的繁荣富强而奋斗，他是中国人民深深热爱的伟大领袖，中国人民将永远怀念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3768-AFE4-49EA-AA48-E1A439806E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2700360" y="1628640"/>
            <a:ext cx="38876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再见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教 学 目 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认识本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生字。会写“井、乡”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字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正确、流利地朗读课文，能在朗读中表达出对毛主席的崇敬之情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初步懂得饮水思源的道理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99"/>
                </a:solidFill>
                <a:latin typeface="Arial"/>
              </a:rPr>
              <a:t>我 会 认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</a:rPr>
              <a:t>井台　井口　井水　领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</a:rPr>
              <a:t>导游　革命　生命　救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</a:rPr>
              <a:t>主席　凉席　想念　挂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</a:rPr>
              <a:t>念书　时刻　立刻    挖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读 一 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1197000"/>
            <a:ext cx="8518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g     wā jǐnɡ    ruì jīn   chénɡ          jià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  忘        挖  井       瑞  金     城   外         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ā zhōu bà         zhǔ xí        lǐnɡ dǎo       hěn yu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沙   洲  坝       毛  主  席        领    导             很   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àn shì      xiānɡ qīn     xiānɡ qīn mén      yǐ h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    士         乡   亲             乡   亲  们             以 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200"/>
          <p:cNvSpPr/>
          <p:nvPr/>
        </p:nvSpPr>
        <p:spPr>
          <a:xfrm>
            <a:off x="900000" y="2421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99"/>
                </a:solidFill>
                <a:latin typeface="Arial"/>
              </a:rPr>
              <a:t>讨    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谁是挖井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谁不忘挖井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小女孩"/>
          <p:cNvPicPr/>
          <p:nvPr/>
        </p:nvPicPr>
        <p:blipFill>
          <a:blip r:embed="rId2"/>
          <a:stretch/>
        </p:blipFill>
        <p:spPr>
          <a:xfrm>
            <a:off x="6300720" y="907920"/>
            <a:ext cx="1967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识记生字，看谁记字的方法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忘：上下结构，上边“亡”下边心字底。忘记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挖：提手旁，右上边是穴宝盖，下面是“乙”。用手拿工具挖，所以是提手旁。挖井，挖洞，挖坑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刻：熟字换偏旁。孩去掉女旁换上立刀旁。立刻：表示赶快，马上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念：熟字“今”加心字底。想念，怀念，都是心里在想，所以用心字底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2003120513332100000"/>
          <p:cNvPicPr/>
          <p:nvPr/>
        </p:nvPicPr>
        <p:blipFill>
          <a:blip r:embed="rId2"/>
          <a:stretch/>
        </p:blipFill>
        <p:spPr>
          <a:xfrm>
            <a:off x="3924360" y="404640"/>
            <a:ext cx="4824360" cy="5977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136520" y="2370240"/>
            <a:ext cx="2192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江西领导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命时的毛泽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200"/>
          <p:cNvSpPr/>
          <p:nvPr/>
        </p:nvSpPr>
        <p:spPr>
          <a:xfrm>
            <a:off x="108000" y="1125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l5"/>
          <p:cNvPicPr/>
          <p:nvPr/>
        </p:nvPicPr>
        <p:blipFill>
          <a:blip r:embed="rId2"/>
          <a:stretch/>
        </p:blipFill>
        <p:spPr>
          <a:xfrm>
            <a:off x="324000" y="260280"/>
            <a:ext cx="4537080" cy="312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00552492550734"/>
          <p:cNvPicPr/>
          <p:nvPr/>
        </p:nvPicPr>
        <p:blipFill>
          <a:blip r:embed="rId3"/>
          <a:stretch/>
        </p:blipFill>
        <p:spPr>
          <a:xfrm>
            <a:off x="4140360" y="3357720"/>
            <a:ext cx="4647960" cy="3090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5651640" y="184464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瑞金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476360" y="429264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沙洲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2003112009454500000"/>
          <p:cNvPicPr/>
          <p:nvPr/>
        </p:nvPicPr>
        <p:blipFill>
          <a:blip r:embed="rId2"/>
          <a:stretch/>
        </p:blipFill>
        <p:spPr>
          <a:xfrm>
            <a:off x="3995640" y="404640"/>
            <a:ext cx="4537080" cy="5977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250920" y="1884240"/>
            <a:ext cx="4540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毛泽东在延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0:33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00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