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1580-9CCC-414B-AD81-F640A5AB1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ACFE-D221-4342-A4D7-7662D09C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04CC-A964-4F39-A809-4A9BEB3BD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A6D4-46E6-4B37-BB32-47CB8EBE5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BDFA-C205-448D-86E0-5B51E19F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E6DF-1D16-4EF7-9420-96C2F2E2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C8AF-09A4-4E6B-887D-E5923E2C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CC70-1B7E-4415-934B-D1B8E614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A4BD-B4F1-4817-9C4E-E298F0F0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9383-A50E-43E1-8E6A-11B521EC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3F12-5C14-48E1-9D7F-C8A17E8A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31D6-BAC1-4708-BFBE-6ED454EF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1B28-C9EF-4444-9DC6-A9A17EC2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F3A0-787D-4142-A8F7-DF806C46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0B97-274D-4D64-8DE2-4BC6A0F6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C1D4-5EDB-4CB3-B0C1-F65B64262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13C0-03E5-42BE-8EA5-867A54858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F2DC-AF43-45FD-A161-2C702FEB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5E1D-4DCE-4161-9375-E4D77956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5DB6-C346-4FE4-A1BB-0DB41273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DE65-9756-44A7-9F1B-5FF6BC84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1A3B-0541-45C1-9A90-8582ED71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2817-F8BA-4413-82EA-CDF89497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A171-8E4B-45C6-B6CA-F05B5701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20B0-B27F-4E4E-90B8-4F64B03B495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2413-7F63-4EE9-BDA3-46B25EAD9A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38FD-643D-4B0B-92C2-2684FF2A17D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85F8-C887-46E1-A5BC-4B66CABEA05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3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5715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3286800" y="2674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108000" y="523404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2000" y="2352240"/>
            <a:ext cx="8326440" cy="13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彩条背景企业幻灯片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grpSp>
        <p:nvGrpSpPr>
          <p:cNvPr id="87" name="组合 4098"/>
          <p:cNvGrpSpPr/>
          <p:nvPr/>
        </p:nvGrpSpPr>
        <p:grpSpPr>
          <a:xfrm>
            <a:off x="2106720" y="744480"/>
            <a:ext cx="4929120" cy="787320"/>
            <a:chOff x="2106720" y="744480"/>
            <a:chExt cx="4929120" cy="787320"/>
          </a:xfrm>
        </p:grpSpPr>
        <p:grpSp>
          <p:nvGrpSpPr>
            <p:cNvPr id="88" name="组合 4099"/>
            <p:cNvGrpSpPr/>
            <p:nvPr/>
          </p:nvGrpSpPr>
          <p:grpSpPr>
            <a:xfrm>
              <a:off x="2106720" y="772200"/>
              <a:ext cx="4929120" cy="759600"/>
              <a:chOff x="2106720" y="772200"/>
              <a:chExt cx="4929120" cy="759600"/>
            </a:xfrm>
          </p:grpSpPr>
          <p:pic>
            <p:nvPicPr>
              <p:cNvPr id="89" name="圆角矩形 6" descr=""/>
              <p:cNvPicPr/>
              <p:nvPr/>
            </p:nvPicPr>
            <p:blipFill>
              <a:blip r:embed="rId2"/>
              <a:stretch/>
            </p:blipFill>
            <p:spPr>
              <a:xfrm>
                <a:off x="2106720" y="772200"/>
                <a:ext cx="4929120" cy="75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文本框 4101"/>
              <p:cNvSpPr/>
              <p:nvPr/>
            </p:nvSpPr>
            <p:spPr>
              <a:xfrm>
                <a:off x="2200680" y="834120"/>
                <a:ext cx="4733640" cy="56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标题 1"/>
            <p:cNvSpPr/>
            <p:nvPr/>
          </p:nvSpPr>
          <p:spPr>
            <a:xfrm>
              <a:off x="3025800" y="744480"/>
              <a:ext cx="3083400" cy="7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组合 4103"/>
          <p:cNvGrpSpPr/>
          <p:nvPr/>
        </p:nvGrpSpPr>
        <p:grpSpPr>
          <a:xfrm>
            <a:off x="2106720" y="1681200"/>
            <a:ext cx="4929120" cy="787320"/>
            <a:chOff x="2106720" y="1681200"/>
            <a:chExt cx="4929120" cy="787320"/>
          </a:xfrm>
        </p:grpSpPr>
        <p:grpSp>
          <p:nvGrpSpPr>
            <p:cNvPr id="93" name="组合 4104"/>
            <p:cNvGrpSpPr/>
            <p:nvPr/>
          </p:nvGrpSpPr>
          <p:grpSpPr>
            <a:xfrm>
              <a:off x="2106720" y="1711080"/>
              <a:ext cx="4929120" cy="757440"/>
              <a:chOff x="2106720" y="1711080"/>
              <a:chExt cx="4929120" cy="757440"/>
            </a:xfrm>
          </p:grpSpPr>
          <p:pic>
            <p:nvPicPr>
              <p:cNvPr id="94" name="圆角矩形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106720" y="1711080"/>
                <a:ext cx="4929120" cy="75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文本框 4106"/>
              <p:cNvSpPr/>
              <p:nvPr/>
            </p:nvSpPr>
            <p:spPr>
              <a:xfrm>
                <a:off x="2200680" y="1770840"/>
                <a:ext cx="4733640" cy="56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标题 1"/>
            <p:cNvSpPr/>
            <p:nvPr/>
          </p:nvSpPr>
          <p:spPr>
            <a:xfrm>
              <a:off x="3025800" y="1681200"/>
              <a:ext cx="308340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4108"/>
          <p:cNvGrpSpPr/>
          <p:nvPr/>
        </p:nvGrpSpPr>
        <p:grpSpPr>
          <a:xfrm>
            <a:off x="2106720" y="2619360"/>
            <a:ext cx="4929120" cy="787320"/>
            <a:chOff x="2106720" y="2619360"/>
            <a:chExt cx="4929120" cy="787320"/>
          </a:xfrm>
        </p:grpSpPr>
        <p:grpSp>
          <p:nvGrpSpPr>
            <p:cNvPr id="98" name="组合 4109"/>
            <p:cNvGrpSpPr/>
            <p:nvPr/>
          </p:nvGrpSpPr>
          <p:grpSpPr>
            <a:xfrm>
              <a:off x="2106720" y="2649600"/>
              <a:ext cx="4929120" cy="757080"/>
              <a:chOff x="2106720" y="2649600"/>
              <a:chExt cx="4929120" cy="757080"/>
            </a:xfrm>
          </p:grpSpPr>
          <p:pic>
            <p:nvPicPr>
              <p:cNvPr id="99" name="圆角矩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2106720" y="2649600"/>
                <a:ext cx="4929120" cy="75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文本框 4111"/>
              <p:cNvSpPr/>
              <p:nvPr/>
            </p:nvSpPr>
            <p:spPr>
              <a:xfrm>
                <a:off x="2200680" y="2708640"/>
                <a:ext cx="4733640" cy="56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标题 1"/>
            <p:cNvSpPr/>
            <p:nvPr/>
          </p:nvSpPr>
          <p:spPr>
            <a:xfrm>
              <a:off x="3025800" y="2619360"/>
              <a:ext cx="3083400" cy="74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4113"/>
          <p:cNvGrpSpPr/>
          <p:nvPr/>
        </p:nvGrpSpPr>
        <p:grpSpPr>
          <a:xfrm>
            <a:off x="2106720" y="3556080"/>
            <a:ext cx="4929120" cy="787320"/>
            <a:chOff x="2106720" y="3556080"/>
            <a:chExt cx="4929120" cy="787320"/>
          </a:xfrm>
        </p:grpSpPr>
        <p:grpSp>
          <p:nvGrpSpPr>
            <p:cNvPr id="103" name="组合 4114"/>
            <p:cNvGrpSpPr/>
            <p:nvPr/>
          </p:nvGrpSpPr>
          <p:grpSpPr>
            <a:xfrm>
              <a:off x="2106720" y="3588480"/>
              <a:ext cx="4929120" cy="754920"/>
              <a:chOff x="2106720" y="3588480"/>
              <a:chExt cx="4929120" cy="754920"/>
            </a:xfrm>
          </p:grpSpPr>
          <p:pic>
            <p:nvPicPr>
              <p:cNvPr id="104" name="圆角矩形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2106720" y="3588480"/>
                <a:ext cx="4929120" cy="75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文本框 4116"/>
              <p:cNvSpPr/>
              <p:nvPr/>
            </p:nvSpPr>
            <p:spPr>
              <a:xfrm>
                <a:off x="2200680" y="3645720"/>
                <a:ext cx="4733640" cy="56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标题 1"/>
            <p:cNvSpPr/>
            <p:nvPr/>
          </p:nvSpPr>
          <p:spPr>
            <a:xfrm>
              <a:off x="3025800" y="3556080"/>
              <a:ext cx="3083400" cy="74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4F81-F911-4C3E-9377-51ABABF0D7E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4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5715000"/>
          </a:xfrm>
          <a:prstGeom prst="rect">
            <a:avLst/>
          </a:prstGeom>
          <a:ln w="0">
            <a:noFill/>
          </a:ln>
        </p:spPr>
      </p:pic>
      <p:pic>
        <p:nvPicPr>
          <p:cNvPr id="112" name="标题 1" descr=""/>
          <p:cNvPicPr/>
          <p:nvPr/>
        </p:nvPicPr>
        <p:blipFill>
          <a:blip r:embed="rId2"/>
          <a:stretch/>
        </p:blipFill>
        <p:spPr>
          <a:xfrm>
            <a:off x="4383000" y="3352680"/>
            <a:ext cx="4260960" cy="878040"/>
          </a:xfrm>
          <a:prstGeom prst="rect">
            <a:avLst/>
          </a:prstGeom>
          <a:ln w="0">
            <a:noFill/>
          </a:ln>
        </p:spPr>
      </p:pic>
      <p:sp>
        <p:nvSpPr>
          <p:cNvPr id="113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07:57:01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6-01-24T03:32:23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