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B75-9F0B-4629-B7B1-1C098131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5BE2-9E70-4664-AE73-09C4044B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D9F-8182-4E88-BEF4-D7D4B95A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D30-7FB0-494F-9E7C-15FBDA7B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2A65-17A0-412F-B803-200F8DA7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15DE-2BC9-424F-B386-6496C048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9349-4E6D-48E2-B962-186FCA6E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EE7A-6FF7-423F-823D-C1CFDED0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A37D-2697-4458-B275-74F6DD3A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4842-302F-421C-BB06-77343891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AF66-DE23-4BB6-9A13-C6F54B0B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FAC-ABA7-4AEF-9213-B810A93A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38C9-2A98-477E-B1E2-B3DB8750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7D05-D6F7-44AD-8F5B-98329F27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BCB5-9AB8-4C90-AEF9-795FB5B5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4EC0-9A51-46EF-BCB9-0796254F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14C4-DB94-4B98-8E40-CDABA9BE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577C1-6B67-4CA5-B1C4-04E689C9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9C72C-8754-412E-9A99-0E88BDE6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AC48F-E8BC-495A-BC4D-184D6B4A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750A8-7C50-4E0E-9A47-33EAA63B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149E5-205F-490B-AB1C-6D1F230A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0EE-EA96-4553-96B9-2E9EA82E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7ABD8-DC8A-4153-AA75-92EED9BF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73DBC-E2AD-43AB-BCF5-E36B7E88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E7C48-8166-4126-9C4D-1FF69E33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A8B67-7D92-4F26-95FE-3E8F6BD5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ED0D8-5A4A-4981-AC1A-156EFA4B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2BC50-04FF-4333-B790-1B0427DD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FD819-7868-458F-9334-7B74B253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DAA62-5648-4AA0-A571-D7309B94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86971-29F7-436E-ACD9-7078F4E7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20E6B-E9DA-4316-9B72-DE37B118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2C6-D12C-4178-AC75-7E80DAB2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C01F7-7B34-4E71-A604-B3CD0B71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A755B-543C-4BF7-89F3-C45D73B4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2A511-6565-434D-B00D-80AEC2EE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78CC2-7D62-435C-BCEA-43161DD5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78AB4-8102-4674-8602-A277E07A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AEA45-FFBB-43E2-9773-4FDE6126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F7463-36B3-45B0-BB2B-FC6F056B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9618C-89DE-423E-A5C2-5E0724E2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1367E-2FA6-404F-A64F-93249F24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1A0C3-4CB5-4A71-A1F9-11CA8FB2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795-E96F-42A4-BB72-37AEFA4C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6DE41-45F4-489A-8813-BB99774F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0AD20-BDF2-47AE-B8C3-E61D3909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57E4A-8FAE-4C38-8FA8-223EB122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8EA1F-5B2E-4496-8B4F-C3B30F20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06268-398B-4EB4-A1F5-F841BAF7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F34A2-E109-49FB-8612-DE30281C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61370-67EF-423A-A49E-4F98BEFD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546AF-4619-4A1A-A816-39C04D29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D3D98-BEED-44D7-AADC-C86B5F84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8FC9A-507F-4D36-803F-4368569B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FFFF-431F-496C-AF50-98DFCA01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C9018-2AA6-4188-903B-487E08C4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5A1B6-AA5A-4DFC-9AB6-2BE615CD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32C3E-525D-4B47-9E6C-01EC8EA1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2B8DA-D8F3-41D6-9A6B-210F1571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745C4-BA5E-481D-A9A5-3D213791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0CAE5-9165-4FA1-8648-7BBAFCE6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72018-2A68-4D8B-881E-4C3BF16B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94A4D-A2E0-465A-BAFD-96369DB9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EC4C8-C05F-42ED-AB5E-A6C30FDA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4D666-4046-4263-A548-FBC4C9D7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9857-C483-41DB-83D8-4A7ECA9B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ACE13-38EC-440B-B462-F98AC30A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7E35D-DF2B-4765-B964-90346D04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75309-104D-493C-A5AE-C7F1E02B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C4553-F88A-426B-98A4-03EF9D07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68B61-D59E-439C-9DFE-8A321781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1AD09-DF1E-4FEE-AD91-70669B70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03F64-F0E7-4580-BDB4-0155943F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5E3AC-8B2F-43E2-BB17-ED91C155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FF105-232C-4EF2-BB24-87A3B38E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5AF09-74ED-4594-8433-6CDFABF2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E04-EB5F-4E2E-AF20-C10AF08A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CD3D3-5BA9-44A0-95C1-F554772C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6E1E5-6E5D-4405-962A-71AB9B0D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485B5-DE77-402C-9A39-08F16258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79FBC-F245-4ABC-BFD7-6C5AF8C0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27D39-8541-430F-AC26-98309EBB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42723-55B4-4926-8E9C-128E1745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EC716-3658-4018-900D-DDF62869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B29B5-D3D1-4CA2-8E78-13D20790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DB1F8-AE1B-4F07-B4CC-1DBCA295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D8105-9F21-4676-920B-5CFE8CC8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0D4-32C5-4398-BA26-C9150E18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EB431-CC79-4C9B-B16C-822D1C1F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F96B0-9A6A-433B-BE20-FF3962F4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07038-4FB0-43B9-986F-6E8FCFBA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A51F8-3DBF-4530-A9F3-73C832BC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37840-62F7-451C-90F9-B9728F90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B17D1-8DBA-40F3-B002-A8352DB3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5A999-0517-4A74-9BB4-37ACE4D1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1A4D-C298-4FA0-B6EB-7CEFE9014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2120" y="1709640"/>
              <a:ext cx="7696080" cy="360"/>
              <a:chOff x="762120" y="1709640"/>
              <a:chExt cx="7696080" cy="360"/>
            </a:xfrm>
          </p:grpSpPr>
          <p:sp>
            <p:nvSpPr>
              <p:cNvPr id="8" name="Line 9"/>
              <p:cNvSpPr/>
              <p:nvPr/>
            </p:nvSpPr>
            <p:spPr>
              <a:xfrm>
                <a:off x="762120" y="1709640"/>
                <a:ext cx="7696080" cy="0"/>
              </a:xfrm>
              <a:prstGeom prst="line">
                <a:avLst/>
              </a:prstGeom>
              <a:ln w="38160">
                <a:solidFill>
                  <a:srgbClr val="33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 txBox="1"/>
              <p:nvPr/>
            </p:nvSpPr>
            <p:spPr>
              <a:xfrm>
                <a:off x="762120" y="1709640"/>
                <a:ext cx="7696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47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3C41-66D1-4063-8CBC-C6692B1ED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CE9F-3F56-4775-A339-009FEEB1543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7171560" y="-84600"/>
            <a:ext cx="2427480" cy="2247120"/>
            <a:chOff x="7171560" y="-84600"/>
            <a:chExt cx="2427480" cy="2247120"/>
          </a:xfrm>
        </p:grpSpPr>
        <p:grpSp>
          <p:nvGrpSpPr>
            <p:cNvPr id="130" name="Group 41"/>
            <p:cNvGrpSpPr/>
            <p:nvPr/>
          </p:nvGrpSpPr>
          <p:grpSpPr>
            <a:xfrm>
              <a:off x="7171560" y="-84600"/>
              <a:ext cx="2427480" cy="2247120"/>
              <a:chOff x="7171560" y="-84600"/>
              <a:chExt cx="2427480" cy="2247120"/>
            </a:xfrm>
          </p:grpSpPr>
          <p:sp>
            <p:nvSpPr>
              <p:cNvPr id="13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Group 43"/>
              <p:cNvGrpSpPr/>
              <p:nvPr/>
            </p:nvGrpSpPr>
            <p:grpSpPr>
              <a:xfrm>
                <a:off x="7171560" y="-84600"/>
                <a:ext cx="2427480" cy="2247120"/>
                <a:chOff x="7171560" y="-84600"/>
                <a:chExt cx="2427480" cy="2247120"/>
              </a:xfrm>
            </p:grpSpPr>
            <p:sp>
              <p:nvSpPr>
                <p:cNvPr id="133" name="Freeform 44"/>
                <p:cNvSpPr/>
                <p:nvPr/>
              </p:nvSpPr>
              <p:spPr>
                <a:xfrm rot="18427200">
                  <a:off x="7880400" y="112680"/>
                  <a:ext cx="24264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45"/>
                <p:cNvSpPr/>
                <p:nvPr/>
              </p:nvSpPr>
              <p:spPr>
                <a:xfrm rot="18427200">
                  <a:off x="801144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46"/>
                <p:cNvSpPr/>
                <p:nvPr/>
              </p:nvSpPr>
              <p:spPr>
                <a:xfrm rot="18427200">
                  <a:off x="77097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47"/>
                <p:cNvSpPr/>
                <p:nvPr/>
              </p:nvSpPr>
              <p:spPr>
                <a:xfrm rot="18427200">
                  <a:off x="7783200" y="-2736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48"/>
                <p:cNvSpPr/>
                <p:nvPr/>
              </p:nvSpPr>
              <p:spPr>
                <a:xfrm rot="18427200">
                  <a:off x="840636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49"/>
                <p:cNvSpPr/>
                <p:nvPr/>
              </p:nvSpPr>
              <p:spPr>
                <a:xfrm rot="18427200">
                  <a:off x="83361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50"/>
                <p:cNvSpPr/>
                <p:nvPr/>
              </p:nvSpPr>
              <p:spPr>
                <a:xfrm rot="18427200">
                  <a:off x="7910640" y="33300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51"/>
                <p:cNvSpPr/>
                <p:nvPr/>
              </p:nvSpPr>
              <p:spPr>
                <a:xfrm rot="18427200">
                  <a:off x="785268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142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814F-8E11-4C7F-9CFC-6BE3FCAE5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D7D4-98B2-4329-8540-144BD9F8B3B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A47F-8A6F-4287-ACE8-3E178D6C57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5111-4F8C-42FC-995E-9AE71DE08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307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Picture 4" descr="花1-1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5" descr="花2-1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3674-F6D6-4D05-90DF-3C4259F3B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5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5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63" name="Freeform 19"/>
            <p:cNvSpPr/>
            <p:nvPr/>
          </p:nvSpPr>
          <p:spPr>
            <a:xfrm rot="7320000">
              <a:off x="7789680" y="46573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0"/>
            <p:cNvSpPr/>
            <p:nvPr/>
          </p:nvSpPr>
          <p:spPr>
            <a:xfrm rot="7320000">
              <a:off x="7764840" y="4636080"/>
              <a:ext cx="99504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67" name="Freeform 23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5"/>
              <p:cNvSpPr/>
              <p:nvPr/>
            </p:nvSpPr>
            <p:spPr>
              <a:xfrm rot="7320000">
                <a:off x="8039160" y="476100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6"/>
              <p:cNvSpPr/>
              <p:nvPr/>
            </p:nvSpPr>
            <p:spPr>
              <a:xfrm rot="7320000">
                <a:off x="8514000" y="45615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7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1801-205A-4217-8BE8-76C561C7720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WordArt 5"/>
          <p:cNvSpPr txBox="1"/>
          <p:nvPr/>
        </p:nvSpPr>
        <p:spPr>
          <a:xfrm>
            <a:off x="1251000" y="2422440"/>
            <a:ext cx="6956280" cy="17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春雨的色彩语文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页脚占位符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539640" y="1989000"/>
            <a:ext cx="78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春雨听了大家的争论，下得更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欢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了，沙沙沙，沙沙沙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9cc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971640" y="1413000"/>
            <a:ext cx="734364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线  论  趣  题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底  颜  淋  洒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滴  油  欢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755640" y="33336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xiàn lùn  qù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  <a:ea typeface="Arial"/>
              </a:rPr>
              <a:t>í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684360" y="256536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ǐ   yán  lín    sǎ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1116000" y="4365720"/>
            <a:ext cx="59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ī   yóu  huā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"/>
          <p:cNvSpPr/>
          <p:nvPr/>
        </p:nvSpPr>
        <p:spPr>
          <a:xfrm>
            <a:off x="971640" y="1413000"/>
            <a:ext cx="734364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线  论  趣  题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底  颜  淋  洒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滴  油  欢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B007-099D-4FDF-8E62-F92ECD2C6E9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页脚占位符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900000" y="2133720"/>
            <a:ext cx="1440000" cy="1439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71640" y="2852640"/>
            <a:ext cx="1368360" cy="360"/>
            <a:chOff x="971640" y="2852640"/>
            <a:chExt cx="1368360" cy="360"/>
          </a:xfrm>
        </p:grpSpPr>
        <p:sp>
          <p:nvSpPr>
            <p:cNvPr id="457" name="Line 10"/>
            <p:cNvSpPr/>
            <p:nvPr/>
          </p:nvSpPr>
          <p:spPr>
            <a:xfrm>
              <a:off x="971640" y="28526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971640" y="285264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619280" y="2133720"/>
            <a:ext cx="360" cy="1439640"/>
            <a:chOff x="1619280" y="2133720"/>
            <a:chExt cx="360" cy="1439640"/>
          </a:xfrm>
        </p:grpSpPr>
        <p:sp>
          <p:nvSpPr>
            <p:cNvPr id="460" name="Line 11"/>
            <p:cNvSpPr/>
            <p:nvPr/>
          </p:nvSpPr>
          <p:spPr>
            <a:xfrm>
              <a:off x="1619280" y="213372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1619280" y="2133720"/>
              <a:ext cx="360" cy="14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12"/>
          <p:cNvSpPr/>
          <p:nvPr/>
        </p:nvSpPr>
        <p:spPr>
          <a:xfrm>
            <a:off x="5435640" y="4292640"/>
            <a:ext cx="1440000" cy="14400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435640" y="5013360"/>
            <a:ext cx="1368360" cy="360"/>
            <a:chOff x="5435640" y="5013360"/>
            <a:chExt cx="1368360" cy="360"/>
          </a:xfrm>
        </p:grpSpPr>
        <p:sp>
          <p:nvSpPr>
            <p:cNvPr id="464" name="Line 13"/>
            <p:cNvSpPr/>
            <p:nvPr/>
          </p:nvSpPr>
          <p:spPr>
            <a:xfrm>
              <a:off x="5435640" y="5013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5435640" y="501336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6156360" y="4292640"/>
            <a:ext cx="360" cy="1440000"/>
            <a:chOff x="6156360" y="4292640"/>
            <a:chExt cx="360" cy="1440000"/>
          </a:xfrm>
        </p:grpSpPr>
        <p:sp>
          <p:nvSpPr>
            <p:cNvPr id="467" name="Line 14"/>
            <p:cNvSpPr/>
            <p:nvPr/>
          </p:nvSpPr>
          <p:spPr>
            <a:xfrm>
              <a:off x="6156360" y="429264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6156360" y="4292640"/>
              <a:ext cx="36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5"/>
          <p:cNvSpPr/>
          <p:nvPr/>
        </p:nvSpPr>
        <p:spPr>
          <a:xfrm>
            <a:off x="5364000" y="2133720"/>
            <a:ext cx="1440000" cy="1439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987640" y="5013360"/>
            <a:ext cx="1368360" cy="360"/>
            <a:chOff x="2987640" y="5013360"/>
            <a:chExt cx="1368360" cy="360"/>
          </a:xfrm>
        </p:grpSpPr>
        <p:sp>
          <p:nvSpPr>
            <p:cNvPr id="471" name="Line 16"/>
            <p:cNvSpPr/>
            <p:nvPr/>
          </p:nvSpPr>
          <p:spPr>
            <a:xfrm>
              <a:off x="2987640" y="5013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2987640" y="501336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708360" y="4292640"/>
            <a:ext cx="360" cy="1440000"/>
            <a:chOff x="3708360" y="4292640"/>
            <a:chExt cx="360" cy="1440000"/>
          </a:xfrm>
        </p:grpSpPr>
        <p:sp>
          <p:nvSpPr>
            <p:cNvPr id="474" name="Line 17"/>
            <p:cNvSpPr/>
            <p:nvPr/>
          </p:nvSpPr>
          <p:spPr>
            <a:xfrm>
              <a:off x="3708360" y="429264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3708360" y="4292640"/>
              <a:ext cx="36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Rectangle 18"/>
          <p:cNvSpPr/>
          <p:nvPr/>
        </p:nvSpPr>
        <p:spPr>
          <a:xfrm>
            <a:off x="3059280" y="2133720"/>
            <a:ext cx="1439640" cy="1439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5364000" y="2852640"/>
            <a:ext cx="1368720" cy="360"/>
            <a:chOff x="5364000" y="2852640"/>
            <a:chExt cx="1368720" cy="360"/>
          </a:xfrm>
        </p:grpSpPr>
        <p:sp>
          <p:nvSpPr>
            <p:cNvPr id="478" name="Line 19"/>
            <p:cNvSpPr/>
            <p:nvPr/>
          </p:nvSpPr>
          <p:spPr>
            <a:xfrm>
              <a:off x="5364000" y="2852640"/>
              <a:ext cx="136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5364000" y="2852640"/>
              <a:ext cx="13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6084720" y="2133720"/>
            <a:ext cx="360" cy="1439640"/>
            <a:chOff x="6084720" y="2133720"/>
            <a:chExt cx="360" cy="1439640"/>
          </a:xfrm>
        </p:grpSpPr>
        <p:sp>
          <p:nvSpPr>
            <p:cNvPr id="481" name="Line 20"/>
            <p:cNvSpPr/>
            <p:nvPr/>
          </p:nvSpPr>
          <p:spPr>
            <a:xfrm>
              <a:off x="6084720" y="213372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6084720" y="2133720"/>
              <a:ext cx="360" cy="14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Rectangle 21"/>
          <p:cNvSpPr/>
          <p:nvPr/>
        </p:nvSpPr>
        <p:spPr>
          <a:xfrm>
            <a:off x="2987640" y="4292640"/>
            <a:ext cx="1440000" cy="14400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132000" y="2852640"/>
            <a:ext cx="1368720" cy="360"/>
            <a:chOff x="3132000" y="2852640"/>
            <a:chExt cx="1368720" cy="360"/>
          </a:xfrm>
        </p:grpSpPr>
        <p:sp>
          <p:nvSpPr>
            <p:cNvPr id="485" name="Line 22"/>
            <p:cNvSpPr/>
            <p:nvPr/>
          </p:nvSpPr>
          <p:spPr>
            <a:xfrm>
              <a:off x="3132000" y="2852640"/>
              <a:ext cx="136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 txBox="1"/>
            <p:nvPr/>
          </p:nvSpPr>
          <p:spPr>
            <a:xfrm>
              <a:off x="3132000" y="2852640"/>
              <a:ext cx="13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780000" y="2133720"/>
            <a:ext cx="360" cy="1439640"/>
            <a:chOff x="3780000" y="2133720"/>
            <a:chExt cx="360" cy="1439640"/>
          </a:xfrm>
        </p:grpSpPr>
        <p:sp>
          <p:nvSpPr>
            <p:cNvPr id="488" name="Line 23"/>
            <p:cNvSpPr/>
            <p:nvPr/>
          </p:nvSpPr>
          <p:spPr>
            <a:xfrm>
              <a:off x="3780000" y="213372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>
              <a:off x="3780000" y="2133720"/>
              <a:ext cx="360" cy="14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Rectangle 24"/>
          <p:cNvSpPr/>
          <p:nvPr/>
        </p:nvSpPr>
        <p:spPr>
          <a:xfrm>
            <a:off x="971640" y="4292640"/>
            <a:ext cx="1439640" cy="14400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042920" y="5013360"/>
            <a:ext cx="1368360" cy="360"/>
            <a:chOff x="1042920" y="5013360"/>
            <a:chExt cx="1368360" cy="360"/>
          </a:xfrm>
        </p:grpSpPr>
        <p:sp>
          <p:nvSpPr>
            <p:cNvPr id="492" name="Line 25"/>
            <p:cNvSpPr/>
            <p:nvPr/>
          </p:nvSpPr>
          <p:spPr>
            <a:xfrm>
              <a:off x="1042920" y="5013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1042920" y="501336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1692360" y="4292640"/>
            <a:ext cx="360" cy="1440000"/>
            <a:chOff x="1692360" y="4292640"/>
            <a:chExt cx="360" cy="1440000"/>
          </a:xfrm>
        </p:grpSpPr>
        <p:sp>
          <p:nvSpPr>
            <p:cNvPr id="495" name="Line 26"/>
            <p:cNvSpPr/>
            <p:nvPr/>
          </p:nvSpPr>
          <p:spPr>
            <a:xfrm>
              <a:off x="1692360" y="429264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 txBox="1"/>
            <p:nvPr/>
          </p:nvSpPr>
          <p:spPr>
            <a:xfrm>
              <a:off x="1692360" y="4292640"/>
              <a:ext cx="36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3708360" y="4292640"/>
            <a:ext cx="360" cy="1441440"/>
            <a:chOff x="3708360" y="4292640"/>
            <a:chExt cx="360" cy="1441440"/>
          </a:xfrm>
        </p:grpSpPr>
        <p:sp>
          <p:nvSpPr>
            <p:cNvPr id="498" name="Line 27"/>
            <p:cNvSpPr/>
            <p:nvPr/>
          </p:nvSpPr>
          <p:spPr>
            <a:xfrm>
              <a:off x="3708360" y="4292640"/>
              <a:ext cx="0" cy="144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 txBox="1"/>
            <p:nvPr/>
          </p:nvSpPr>
          <p:spPr>
            <a:xfrm>
              <a:off x="3708360" y="4292640"/>
              <a:ext cx="360" cy="144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987640" y="5013360"/>
            <a:ext cx="1368360" cy="360"/>
            <a:chOff x="2987640" y="5013360"/>
            <a:chExt cx="1368360" cy="360"/>
          </a:xfrm>
        </p:grpSpPr>
        <p:sp>
          <p:nvSpPr>
            <p:cNvPr id="501" name="Line 29"/>
            <p:cNvSpPr/>
            <p:nvPr/>
          </p:nvSpPr>
          <p:spPr>
            <a:xfrm>
              <a:off x="2987640" y="5013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 txBox="1"/>
            <p:nvPr/>
          </p:nvSpPr>
          <p:spPr>
            <a:xfrm>
              <a:off x="2987640" y="501336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Text Box 30"/>
          <p:cNvSpPr/>
          <p:nvPr/>
        </p:nvSpPr>
        <p:spPr>
          <a:xfrm>
            <a:off x="1042920" y="2276640"/>
            <a:ext cx="122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你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1"/>
          <p:cNvSpPr/>
          <p:nvPr/>
        </p:nvSpPr>
        <p:spPr>
          <a:xfrm>
            <a:off x="3203640" y="2276640"/>
            <a:ext cx="107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们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2"/>
          <p:cNvSpPr/>
          <p:nvPr/>
        </p:nvSpPr>
        <p:spPr>
          <a:xfrm>
            <a:off x="5580000" y="2259000"/>
            <a:ext cx="165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红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3"/>
          <p:cNvSpPr/>
          <p:nvPr/>
        </p:nvSpPr>
        <p:spPr>
          <a:xfrm>
            <a:off x="1187280" y="4417920"/>
            <a:ext cx="19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中宋"/>
              </a:rPr>
              <a:t>绿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4"/>
          <p:cNvSpPr/>
          <p:nvPr/>
        </p:nvSpPr>
        <p:spPr>
          <a:xfrm>
            <a:off x="3132000" y="4437000"/>
            <a:ext cx="122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5"/>
          <p:cNvSpPr/>
          <p:nvPr/>
        </p:nvSpPr>
        <p:spPr>
          <a:xfrm>
            <a:off x="5653080" y="4437000"/>
            <a:ext cx="151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草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6"/>
          <p:cNvSpPr/>
          <p:nvPr/>
        </p:nvSpPr>
        <p:spPr>
          <a:xfrm>
            <a:off x="2209680" y="457200"/>
            <a:ext cx="358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我会写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0" y="227664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春雨，像春姑娘纺出的线，轻轻地落到地上，沙沙沙，沙沙沙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157320" y="3214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线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页脚占位符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2436840" y="3357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</a:rPr>
              <a:t>线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979640" y="2421000"/>
            <a:ext cx="25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9cc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页脚占位符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1187280" y="1989000"/>
            <a:ext cx="705672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611280" y="20606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田野里，一群小鸟正在争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论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个有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趣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的问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题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：春雨到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底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是什么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颜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色的？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页脚占位符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1258920" y="364500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论  趣  题  底  颜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1187280" y="2133720"/>
            <a:ext cx="64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lùn q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ǜ t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  <a:ea typeface="Arial"/>
              </a:rPr>
              <a:t>í dǐ y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á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页脚占位符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900000" y="76500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燕子说：“春雨是绿色的。你们瞧，春雨落到草地上，草就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绿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了。春雨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淋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在柳树上，柳枝也绿了。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页脚占位符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1692360" y="3500280"/>
            <a:ext cx="648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</a:rPr>
              <a:t>绿    淋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1908000" y="234936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ǜ        l</a:t>
            </a:r>
            <a:r>
              <a:rPr b="1" lang="en-US" sz="8000" spc="-1" strike="noStrike">
                <a:solidFill>
                  <a:srgbClr val="000000"/>
                </a:solidFill>
                <a:latin typeface="宋体"/>
                <a:ea typeface="Arial"/>
              </a:rPr>
              <a:t>ín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9cc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页脚占位符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468360" y="1773360"/>
            <a:ext cx="81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麻雀说：“不对，春雨是红色的。你们瞧，春雨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洒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在桃树上，桃花红了。春雨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滴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在杜鹃丛中，杜鹃花也红了。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页脚占位符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539640" y="76500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黄莺说：“不对，不对，春雨是黄色的。你们看，春雨落在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油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菜地里，油菜花黄了。春雨落在蒲公英上，蒲公英花也黄了。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00:57:0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09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