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071-87D9-4D37-83E4-0CB0EEE8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6AE-5619-4CC1-95EF-57AF43CF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9D1-4564-4BCB-AEB8-D1DF21F4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13E-BED1-48B5-91BF-64FF6090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F423-32E6-4B82-8BB8-18F04DA8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3BA-537F-41BD-B4AA-FB22CE71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613-E9A9-4178-8D05-AFA5CCFE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273D-90F8-4B53-A905-15E3F1C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64FD-1BE8-40DB-B3FA-9520906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CBE0-BFBC-4F50-90E0-E4CE484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EEE-44DD-4E04-98B4-32A0ED4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4F5-F841-477E-8156-63D8FC6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EE72-8F61-4B19-B402-926C29D2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A634-3583-486E-9A17-BEA8D5C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A4F-726D-4B07-9782-B50E232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6E5D-49C1-4AA0-88EE-607E27E3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1A45-32ED-46EB-BFDB-E4F8AC63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546-7411-4574-B365-4740863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BCB-9560-459D-A825-3805070C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3C1-B639-4730-87C3-C7372DC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48B-5500-4AE7-923B-07FA331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03A-B20A-418D-A9B4-005B2B4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249-9E88-44A7-9200-2F3FAAB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FCD-66DE-45BA-B830-B047D0B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57B-BDEE-49F6-AFBB-7DC99B585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CA78-8525-4BA1-A7BA-57F76ACAE70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234-8646-46EE-981B-7F6A618A83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图片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468360" y="2062080"/>
            <a:ext cx="81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大风与断线的风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837E-88AC-4EEE-84D9-529A742E36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" descr="22.jpg"/>
          <p:cNvPicPr/>
          <p:nvPr/>
        </p:nvPicPr>
        <p:blipFill>
          <a:blip r:embed="rId1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9:13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