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AE1-EC3A-4753-A16E-C6170882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DA7-8B18-4081-BA5F-E3B3839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611-2235-4F2B-8C8A-4C3BE3C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38E-1C8F-4307-BBAD-D17E9FF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7A0-3EC5-4CEA-B9AE-217299E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532-245B-432D-BC51-AC84202C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92F-6248-4F67-AF9B-4AA6621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B05-9DC3-4F51-9F00-0C30FD9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458-CCF5-4EC4-9A91-CB0D41CF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175-0D34-4D08-B04A-C24204A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C4D-5F17-453D-BD8C-CDAB52D4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B2-F453-4C06-AD28-514B34DE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矩形 1027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矩形 1028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1029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矩形 1030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矩形 1031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矩形 1032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矩形 1033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矩形 1034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矩形 1035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矩形 1036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矩形 1037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矩形 1038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矩形 1039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矩形 1040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矩形 1041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矩形 1042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矩形 1043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矩形 1044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228600" y="380880"/>
              <a:ext cx="8458200" cy="360"/>
              <a:chOff x="228600" y="380880"/>
              <a:chExt cx="8458200" cy="360"/>
            </a:xfrm>
          </p:grpSpPr>
          <p:sp>
            <p:nvSpPr>
              <p:cNvPr id="21" name="直接连接符 1045"/>
              <p:cNvSpPr/>
              <p:nvPr/>
            </p:nvSpPr>
            <p:spPr>
              <a:xfrm>
                <a:off x="228600" y="380880"/>
                <a:ext cx="845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 txBox="1"/>
              <p:nvPr/>
            </p:nvSpPr>
            <p:spPr>
              <a:xfrm>
                <a:off x="228600" y="380880"/>
                <a:ext cx="845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组合 1046"/>
            <p:cNvGrpSpPr/>
            <p:nvPr/>
          </p:nvGrpSpPr>
          <p:grpSpPr>
            <a:xfrm>
              <a:off x="228600" y="990720"/>
              <a:ext cx="304920" cy="304560"/>
              <a:chOff x="228600" y="990720"/>
              <a:chExt cx="304920" cy="304560"/>
            </a:xfrm>
          </p:grpSpPr>
          <p:sp>
            <p:nvSpPr>
              <p:cNvPr id="24" name="矩形 1047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矩形 1048"/>
              <p:cNvSpPr/>
              <p:nvPr/>
            </p:nvSpPr>
            <p:spPr>
              <a:xfrm>
                <a:off x="380880" y="1143000"/>
                <a:ext cx="1526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矩形 1049"/>
              <p:cNvSpPr/>
              <p:nvPr/>
            </p:nvSpPr>
            <p:spPr>
              <a:xfrm>
                <a:off x="380880" y="99072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矩形 1050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组合 1051"/>
            <p:cNvGrpSpPr/>
            <p:nvPr/>
          </p:nvGrpSpPr>
          <p:grpSpPr>
            <a:xfrm>
              <a:off x="228600" y="1905120"/>
              <a:ext cx="8381880" cy="360"/>
              <a:chOff x="228600" y="1905120"/>
              <a:chExt cx="8381880" cy="360"/>
            </a:xfrm>
          </p:grpSpPr>
          <p:grpSp>
            <p:nvGrpSpPr>
              <p:cNvPr id="29" name=""/>
              <p:cNvGrpSpPr/>
              <p:nvPr/>
            </p:nvGrpSpPr>
            <p:grpSpPr>
              <a:xfrm>
                <a:off x="228600" y="1905120"/>
                <a:ext cx="380880" cy="360"/>
                <a:chOff x="228600" y="1905120"/>
                <a:chExt cx="380880" cy="360"/>
              </a:xfrm>
            </p:grpSpPr>
            <p:sp>
              <p:nvSpPr>
                <p:cNvPr id="30" name="直接连接符 1052"/>
                <p:cNvSpPr/>
                <p:nvPr/>
              </p:nvSpPr>
              <p:spPr>
                <a:xfrm>
                  <a:off x="228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 txBox="1"/>
                <p:nvPr/>
              </p:nvSpPr>
              <p:spPr>
                <a:xfrm>
                  <a:off x="228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" name=""/>
              <p:cNvGrpSpPr/>
              <p:nvPr/>
            </p:nvGrpSpPr>
            <p:grpSpPr>
              <a:xfrm>
                <a:off x="990720" y="1905120"/>
                <a:ext cx="380880" cy="360"/>
                <a:chOff x="990720" y="1905120"/>
                <a:chExt cx="380880" cy="360"/>
              </a:xfrm>
            </p:grpSpPr>
            <p:sp>
              <p:nvSpPr>
                <p:cNvPr id="33" name="直接连接符 1053"/>
                <p:cNvSpPr/>
                <p:nvPr/>
              </p:nvSpPr>
              <p:spPr>
                <a:xfrm>
                  <a:off x="990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 txBox="1"/>
                <p:nvPr/>
              </p:nvSpPr>
              <p:spPr>
                <a:xfrm>
                  <a:off x="990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" name=""/>
              <p:cNvGrpSpPr/>
              <p:nvPr/>
            </p:nvGrpSpPr>
            <p:grpSpPr>
              <a:xfrm>
                <a:off x="609480" y="1905120"/>
                <a:ext cx="381240" cy="360"/>
                <a:chOff x="609480" y="1905120"/>
                <a:chExt cx="381240" cy="360"/>
              </a:xfrm>
            </p:grpSpPr>
            <p:sp>
              <p:nvSpPr>
                <p:cNvPr id="36" name="直接连接符 1054"/>
                <p:cNvSpPr/>
                <p:nvPr/>
              </p:nvSpPr>
              <p:spPr>
                <a:xfrm>
                  <a:off x="609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 txBox="1"/>
                <p:nvPr/>
              </p:nvSpPr>
              <p:spPr>
                <a:xfrm>
                  <a:off x="609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1752480" y="1905120"/>
                <a:ext cx="381240" cy="360"/>
                <a:chOff x="1752480" y="1905120"/>
                <a:chExt cx="381240" cy="360"/>
              </a:xfrm>
            </p:grpSpPr>
            <p:sp>
              <p:nvSpPr>
                <p:cNvPr id="39" name="直接连接符 1055"/>
                <p:cNvSpPr/>
                <p:nvPr/>
              </p:nvSpPr>
              <p:spPr>
                <a:xfrm>
                  <a:off x="1752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 txBox="1"/>
                <p:nvPr/>
              </p:nvSpPr>
              <p:spPr>
                <a:xfrm>
                  <a:off x="1752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1905120"/>
                <a:ext cx="380880" cy="360"/>
                <a:chOff x="1371600" y="1905120"/>
                <a:chExt cx="380880" cy="360"/>
              </a:xfrm>
            </p:grpSpPr>
            <p:sp>
              <p:nvSpPr>
                <p:cNvPr id="42" name="直接连接符 1056"/>
                <p:cNvSpPr/>
                <p:nvPr/>
              </p:nvSpPr>
              <p:spPr>
                <a:xfrm>
                  <a:off x="1371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 txBox="1"/>
                <p:nvPr/>
              </p:nvSpPr>
              <p:spPr>
                <a:xfrm>
                  <a:off x="1371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514600" y="1905120"/>
                <a:ext cx="380880" cy="360"/>
                <a:chOff x="2514600" y="1905120"/>
                <a:chExt cx="380880" cy="360"/>
              </a:xfrm>
            </p:grpSpPr>
            <p:sp>
              <p:nvSpPr>
                <p:cNvPr id="45" name="直接连接符 1057"/>
                <p:cNvSpPr/>
                <p:nvPr/>
              </p:nvSpPr>
              <p:spPr>
                <a:xfrm>
                  <a:off x="2514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 txBox="1"/>
                <p:nvPr/>
              </p:nvSpPr>
              <p:spPr>
                <a:xfrm>
                  <a:off x="2514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2133720" y="1905120"/>
                <a:ext cx="380880" cy="360"/>
                <a:chOff x="2133720" y="1905120"/>
                <a:chExt cx="380880" cy="360"/>
              </a:xfrm>
            </p:grpSpPr>
            <p:sp>
              <p:nvSpPr>
                <p:cNvPr id="48" name="直接连接符 1058"/>
                <p:cNvSpPr/>
                <p:nvPr/>
              </p:nvSpPr>
              <p:spPr>
                <a:xfrm>
                  <a:off x="2133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 txBox="1"/>
                <p:nvPr/>
              </p:nvSpPr>
              <p:spPr>
                <a:xfrm>
                  <a:off x="2133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276720" y="1905120"/>
                <a:ext cx="380880" cy="360"/>
                <a:chOff x="3276720" y="1905120"/>
                <a:chExt cx="380880" cy="360"/>
              </a:xfrm>
            </p:grpSpPr>
            <p:sp>
              <p:nvSpPr>
                <p:cNvPr id="51" name="直接连接符 1059"/>
                <p:cNvSpPr/>
                <p:nvPr/>
              </p:nvSpPr>
              <p:spPr>
                <a:xfrm>
                  <a:off x="3276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3276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895480" y="1905120"/>
                <a:ext cx="381240" cy="360"/>
                <a:chOff x="2895480" y="1905120"/>
                <a:chExt cx="381240" cy="360"/>
              </a:xfrm>
            </p:grpSpPr>
            <p:sp>
              <p:nvSpPr>
                <p:cNvPr id="54" name="直接连接符 1060"/>
                <p:cNvSpPr/>
                <p:nvPr/>
              </p:nvSpPr>
              <p:spPr>
                <a:xfrm>
                  <a:off x="2895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 txBox="1"/>
                <p:nvPr/>
              </p:nvSpPr>
              <p:spPr>
                <a:xfrm>
                  <a:off x="2895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4038480" y="1905120"/>
                <a:ext cx="381240" cy="360"/>
                <a:chOff x="4038480" y="1905120"/>
                <a:chExt cx="381240" cy="360"/>
              </a:xfrm>
            </p:grpSpPr>
            <p:sp>
              <p:nvSpPr>
                <p:cNvPr id="57" name="直接连接符 1061"/>
                <p:cNvSpPr/>
                <p:nvPr/>
              </p:nvSpPr>
              <p:spPr>
                <a:xfrm>
                  <a:off x="4038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 txBox="1"/>
                <p:nvPr/>
              </p:nvSpPr>
              <p:spPr>
                <a:xfrm>
                  <a:off x="4038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657600" y="1905120"/>
                <a:ext cx="380880" cy="360"/>
                <a:chOff x="3657600" y="1905120"/>
                <a:chExt cx="380880" cy="360"/>
              </a:xfrm>
            </p:grpSpPr>
            <p:sp>
              <p:nvSpPr>
                <p:cNvPr id="60" name="直接连接符 1062"/>
                <p:cNvSpPr/>
                <p:nvPr/>
              </p:nvSpPr>
              <p:spPr>
                <a:xfrm>
                  <a:off x="3657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 txBox="1"/>
                <p:nvPr/>
              </p:nvSpPr>
              <p:spPr>
                <a:xfrm>
                  <a:off x="3657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800600" y="1905120"/>
                <a:ext cx="380880" cy="360"/>
                <a:chOff x="4800600" y="1905120"/>
                <a:chExt cx="380880" cy="360"/>
              </a:xfrm>
            </p:grpSpPr>
            <p:sp>
              <p:nvSpPr>
                <p:cNvPr id="63" name="直接连接符 1063"/>
                <p:cNvSpPr/>
                <p:nvPr/>
              </p:nvSpPr>
              <p:spPr>
                <a:xfrm>
                  <a:off x="4800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4800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19720" y="1905120"/>
                <a:ext cx="380880" cy="360"/>
                <a:chOff x="4419720" y="1905120"/>
                <a:chExt cx="380880" cy="360"/>
              </a:xfrm>
            </p:grpSpPr>
            <p:sp>
              <p:nvSpPr>
                <p:cNvPr id="66" name="直接连接符 1064"/>
                <p:cNvSpPr/>
                <p:nvPr/>
              </p:nvSpPr>
              <p:spPr>
                <a:xfrm>
                  <a:off x="4419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9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562720" y="1905120"/>
                <a:ext cx="380880" cy="360"/>
                <a:chOff x="5562720" y="1905120"/>
                <a:chExt cx="380880" cy="360"/>
              </a:xfrm>
            </p:grpSpPr>
            <p:sp>
              <p:nvSpPr>
                <p:cNvPr id="69" name="直接连接符 1065"/>
                <p:cNvSpPr/>
                <p:nvPr/>
              </p:nvSpPr>
              <p:spPr>
                <a:xfrm>
                  <a:off x="5562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5562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181480" y="1905120"/>
                <a:ext cx="381240" cy="360"/>
                <a:chOff x="5181480" y="1905120"/>
                <a:chExt cx="381240" cy="360"/>
              </a:xfrm>
            </p:grpSpPr>
            <p:sp>
              <p:nvSpPr>
                <p:cNvPr id="72" name="直接连接符 1066"/>
                <p:cNvSpPr/>
                <p:nvPr/>
              </p:nvSpPr>
              <p:spPr>
                <a:xfrm>
                  <a:off x="5181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5181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6324480" y="1905120"/>
                <a:ext cx="381240" cy="360"/>
                <a:chOff x="6324480" y="1905120"/>
                <a:chExt cx="381240" cy="360"/>
              </a:xfrm>
            </p:grpSpPr>
            <p:sp>
              <p:nvSpPr>
                <p:cNvPr id="75" name="直接连接符 1067"/>
                <p:cNvSpPr/>
                <p:nvPr/>
              </p:nvSpPr>
              <p:spPr>
                <a:xfrm>
                  <a:off x="6324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 txBox="1"/>
                <p:nvPr/>
              </p:nvSpPr>
              <p:spPr>
                <a:xfrm>
                  <a:off x="6324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943600" y="1905120"/>
                <a:ext cx="380880" cy="360"/>
                <a:chOff x="5943600" y="1905120"/>
                <a:chExt cx="380880" cy="360"/>
              </a:xfrm>
            </p:grpSpPr>
            <p:sp>
              <p:nvSpPr>
                <p:cNvPr id="78" name="直接连接符 1068"/>
                <p:cNvSpPr/>
                <p:nvPr/>
              </p:nvSpPr>
              <p:spPr>
                <a:xfrm>
                  <a:off x="5943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5943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7086600" y="1905120"/>
                <a:ext cx="380880" cy="360"/>
                <a:chOff x="7086600" y="1905120"/>
                <a:chExt cx="380880" cy="360"/>
              </a:xfrm>
            </p:grpSpPr>
            <p:sp>
              <p:nvSpPr>
                <p:cNvPr id="81" name="直接连接符 1069"/>
                <p:cNvSpPr/>
                <p:nvPr/>
              </p:nvSpPr>
              <p:spPr>
                <a:xfrm>
                  <a:off x="7086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7086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6705720" y="1905120"/>
                <a:ext cx="380880" cy="360"/>
                <a:chOff x="6705720" y="1905120"/>
                <a:chExt cx="380880" cy="360"/>
              </a:xfrm>
            </p:grpSpPr>
            <p:sp>
              <p:nvSpPr>
                <p:cNvPr id="84" name="直接连接符 1070"/>
                <p:cNvSpPr/>
                <p:nvPr/>
              </p:nvSpPr>
              <p:spPr>
                <a:xfrm>
                  <a:off x="6705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6705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848720" y="1905120"/>
                <a:ext cx="380880" cy="360"/>
                <a:chOff x="7848720" y="1905120"/>
                <a:chExt cx="380880" cy="360"/>
              </a:xfrm>
            </p:grpSpPr>
            <p:sp>
              <p:nvSpPr>
                <p:cNvPr id="87" name="直接连接符 1071"/>
                <p:cNvSpPr/>
                <p:nvPr/>
              </p:nvSpPr>
              <p:spPr>
                <a:xfrm>
                  <a:off x="7848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7848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7467480" y="1905120"/>
                <a:ext cx="381240" cy="360"/>
                <a:chOff x="7467480" y="1905120"/>
                <a:chExt cx="381240" cy="360"/>
              </a:xfrm>
            </p:grpSpPr>
            <p:sp>
              <p:nvSpPr>
                <p:cNvPr id="90" name="直接连接符 1072"/>
                <p:cNvSpPr/>
                <p:nvPr/>
              </p:nvSpPr>
              <p:spPr>
                <a:xfrm>
                  <a:off x="7467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7467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8229600" y="1905120"/>
                <a:ext cx="380880" cy="360"/>
                <a:chOff x="8229600" y="1905120"/>
                <a:chExt cx="380880" cy="360"/>
              </a:xfrm>
            </p:grpSpPr>
            <p:sp>
              <p:nvSpPr>
                <p:cNvPr id="93" name="直接连接符 1073"/>
                <p:cNvSpPr/>
                <p:nvPr/>
              </p:nvSpPr>
              <p:spPr>
                <a:xfrm>
                  <a:off x="8229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 txBox="1"/>
                <p:nvPr/>
              </p:nvSpPr>
              <p:spPr>
                <a:xfrm>
                  <a:off x="8229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695-6B3A-40C8-AC3A-EAB3AE46A73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A9A-A287-4F91-AB16-4A6B1216D5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049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175" name="组合 2050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176" name="矩形 2051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2052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2053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2054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055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056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057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2058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2059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2060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矩形 2061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2062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2063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2064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2065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2066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2067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2068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2069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070"/>
            <p:cNvGrpSpPr/>
            <p:nvPr/>
          </p:nvGrpSpPr>
          <p:grpSpPr>
            <a:xfrm>
              <a:off x="533520" y="1905120"/>
              <a:ext cx="8381880" cy="360"/>
              <a:chOff x="533520" y="1905120"/>
              <a:chExt cx="8381880" cy="3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533520" y="1905120"/>
                <a:ext cx="380880" cy="360"/>
                <a:chOff x="533520" y="1905120"/>
                <a:chExt cx="380880" cy="360"/>
              </a:xfrm>
            </p:grpSpPr>
            <p:sp>
              <p:nvSpPr>
                <p:cNvPr id="197" name="直接连接符 2071"/>
                <p:cNvSpPr/>
                <p:nvPr/>
              </p:nvSpPr>
              <p:spPr>
                <a:xfrm>
                  <a:off x="533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533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95640" y="1905120"/>
                <a:ext cx="380880" cy="360"/>
                <a:chOff x="1295640" y="1905120"/>
                <a:chExt cx="380880" cy="360"/>
              </a:xfrm>
            </p:grpSpPr>
            <p:sp>
              <p:nvSpPr>
                <p:cNvPr id="200" name="直接连接符 2072"/>
                <p:cNvSpPr/>
                <p:nvPr/>
              </p:nvSpPr>
              <p:spPr>
                <a:xfrm>
                  <a:off x="1295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1295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914400" y="1905120"/>
                <a:ext cx="381240" cy="360"/>
                <a:chOff x="914400" y="1905120"/>
                <a:chExt cx="381240" cy="360"/>
              </a:xfrm>
            </p:grpSpPr>
            <p:sp>
              <p:nvSpPr>
                <p:cNvPr id="203" name="直接连接符 2073"/>
                <p:cNvSpPr/>
                <p:nvPr/>
              </p:nvSpPr>
              <p:spPr>
                <a:xfrm>
                  <a:off x="914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914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57400" y="1905120"/>
                <a:ext cx="381240" cy="360"/>
                <a:chOff x="2057400" y="1905120"/>
                <a:chExt cx="381240" cy="360"/>
              </a:xfrm>
            </p:grpSpPr>
            <p:sp>
              <p:nvSpPr>
                <p:cNvPr id="206" name="直接连接符 2074"/>
                <p:cNvSpPr/>
                <p:nvPr/>
              </p:nvSpPr>
              <p:spPr>
                <a:xfrm>
                  <a:off x="2057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057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6520" y="1905120"/>
                <a:ext cx="380880" cy="360"/>
                <a:chOff x="1676520" y="1905120"/>
                <a:chExt cx="380880" cy="360"/>
              </a:xfrm>
            </p:grpSpPr>
            <p:sp>
              <p:nvSpPr>
                <p:cNvPr id="209" name="直接连接符 2075"/>
                <p:cNvSpPr/>
                <p:nvPr/>
              </p:nvSpPr>
              <p:spPr>
                <a:xfrm>
                  <a:off x="1676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1676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19520" y="1905120"/>
                <a:ext cx="380880" cy="360"/>
                <a:chOff x="2819520" y="1905120"/>
                <a:chExt cx="380880" cy="360"/>
              </a:xfrm>
            </p:grpSpPr>
            <p:sp>
              <p:nvSpPr>
                <p:cNvPr id="212" name="直接连接符 2076"/>
                <p:cNvSpPr/>
                <p:nvPr/>
              </p:nvSpPr>
              <p:spPr>
                <a:xfrm>
                  <a:off x="2819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2819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438640" y="1905120"/>
                <a:ext cx="380880" cy="360"/>
                <a:chOff x="2438640" y="1905120"/>
                <a:chExt cx="380880" cy="360"/>
              </a:xfrm>
            </p:grpSpPr>
            <p:sp>
              <p:nvSpPr>
                <p:cNvPr id="215" name="直接连接符 2077"/>
                <p:cNvSpPr/>
                <p:nvPr/>
              </p:nvSpPr>
              <p:spPr>
                <a:xfrm>
                  <a:off x="2438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438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81640" y="1905120"/>
                <a:ext cx="380880" cy="360"/>
                <a:chOff x="3581640" y="1905120"/>
                <a:chExt cx="380880" cy="360"/>
              </a:xfrm>
            </p:grpSpPr>
            <p:sp>
              <p:nvSpPr>
                <p:cNvPr id="218" name="直接连接符 2078"/>
                <p:cNvSpPr/>
                <p:nvPr/>
              </p:nvSpPr>
              <p:spPr>
                <a:xfrm>
                  <a:off x="3581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>
                  <a:off x="3581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400" y="1905120"/>
                <a:ext cx="381240" cy="360"/>
                <a:chOff x="3200400" y="1905120"/>
                <a:chExt cx="381240" cy="360"/>
              </a:xfrm>
            </p:grpSpPr>
            <p:sp>
              <p:nvSpPr>
                <p:cNvPr id="221" name="直接连接符 2079"/>
                <p:cNvSpPr/>
                <p:nvPr/>
              </p:nvSpPr>
              <p:spPr>
                <a:xfrm>
                  <a:off x="3200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3200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343400" y="1905120"/>
                <a:ext cx="381240" cy="360"/>
                <a:chOff x="4343400" y="1905120"/>
                <a:chExt cx="381240" cy="360"/>
              </a:xfrm>
            </p:grpSpPr>
            <p:sp>
              <p:nvSpPr>
                <p:cNvPr id="224" name="直接连接符 2080"/>
                <p:cNvSpPr/>
                <p:nvPr/>
              </p:nvSpPr>
              <p:spPr>
                <a:xfrm>
                  <a:off x="4343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4343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962520" y="1905120"/>
                <a:ext cx="380880" cy="360"/>
                <a:chOff x="3962520" y="1905120"/>
                <a:chExt cx="380880" cy="360"/>
              </a:xfrm>
            </p:grpSpPr>
            <p:sp>
              <p:nvSpPr>
                <p:cNvPr id="227" name="直接连接符 2081"/>
                <p:cNvSpPr/>
                <p:nvPr/>
              </p:nvSpPr>
              <p:spPr>
                <a:xfrm>
                  <a:off x="3962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3962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05520" y="1905120"/>
                <a:ext cx="380880" cy="360"/>
                <a:chOff x="5105520" y="1905120"/>
                <a:chExt cx="380880" cy="360"/>
              </a:xfrm>
            </p:grpSpPr>
            <p:sp>
              <p:nvSpPr>
                <p:cNvPr id="230" name="直接连接符 2082"/>
                <p:cNvSpPr/>
                <p:nvPr/>
              </p:nvSpPr>
              <p:spPr>
                <a:xfrm>
                  <a:off x="5105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5105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724640" y="1905120"/>
                <a:ext cx="380880" cy="360"/>
                <a:chOff x="4724640" y="1905120"/>
                <a:chExt cx="380880" cy="360"/>
              </a:xfrm>
            </p:grpSpPr>
            <p:sp>
              <p:nvSpPr>
                <p:cNvPr id="233" name="直接连接符 2083"/>
                <p:cNvSpPr/>
                <p:nvPr/>
              </p:nvSpPr>
              <p:spPr>
                <a:xfrm>
                  <a:off x="4724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>
                  <a:off x="4724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867640" y="1905120"/>
                <a:ext cx="380880" cy="360"/>
                <a:chOff x="5867640" y="1905120"/>
                <a:chExt cx="380880" cy="360"/>
              </a:xfrm>
            </p:grpSpPr>
            <p:sp>
              <p:nvSpPr>
                <p:cNvPr id="236" name="直接连接符 2084"/>
                <p:cNvSpPr/>
                <p:nvPr/>
              </p:nvSpPr>
              <p:spPr>
                <a:xfrm>
                  <a:off x="5867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5867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486400" y="1905120"/>
                <a:ext cx="381240" cy="360"/>
                <a:chOff x="5486400" y="1905120"/>
                <a:chExt cx="381240" cy="360"/>
              </a:xfrm>
            </p:grpSpPr>
            <p:sp>
              <p:nvSpPr>
                <p:cNvPr id="239" name="直接连接符 2085"/>
                <p:cNvSpPr/>
                <p:nvPr/>
              </p:nvSpPr>
              <p:spPr>
                <a:xfrm>
                  <a:off x="5486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 txBox="1"/>
                <p:nvPr/>
              </p:nvSpPr>
              <p:spPr>
                <a:xfrm>
                  <a:off x="5486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29400" y="1905120"/>
                <a:ext cx="381240" cy="360"/>
                <a:chOff x="6629400" y="1905120"/>
                <a:chExt cx="381240" cy="360"/>
              </a:xfrm>
            </p:grpSpPr>
            <p:sp>
              <p:nvSpPr>
                <p:cNvPr id="242" name="直接连接符 2086"/>
                <p:cNvSpPr/>
                <p:nvPr/>
              </p:nvSpPr>
              <p:spPr>
                <a:xfrm>
                  <a:off x="6629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6629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248520" y="1905120"/>
                <a:ext cx="380880" cy="360"/>
                <a:chOff x="6248520" y="1905120"/>
                <a:chExt cx="380880" cy="360"/>
              </a:xfrm>
            </p:grpSpPr>
            <p:sp>
              <p:nvSpPr>
                <p:cNvPr id="245" name="直接连接符 2087"/>
                <p:cNvSpPr/>
                <p:nvPr/>
              </p:nvSpPr>
              <p:spPr>
                <a:xfrm>
                  <a:off x="6248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6248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391520" y="1905120"/>
                <a:ext cx="380880" cy="360"/>
                <a:chOff x="7391520" y="1905120"/>
                <a:chExt cx="380880" cy="360"/>
              </a:xfrm>
            </p:grpSpPr>
            <p:sp>
              <p:nvSpPr>
                <p:cNvPr id="248" name="直接连接符 2088"/>
                <p:cNvSpPr/>
                <p:nvPr/>
              </p:nvSpPr>
              <p:spPr>
                <a:xfrm>
                  <a:off x="7391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7391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010640" y="1905120"/>
                <a:ext cx="380880" cy="360"/>
                <a:chOff x="7010640" y="1905120"/>
                <a:chExt cx="380880" cy="360"/>
              </a:xfrm>
            </p:grpSpPr>
            <p:sp>
              <p:nvSpPr>
                <p:cNvPr id="251" name="直接连接符 2089"/>
                <p:cNvSpPr/>
                <p:nvPr/>
              </p:nvSpPr>
              <p:spPr>
                <a:xfrm>
                  <a:off x="7010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7010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8153640" y="1905120"/>
                <a:ext cx="380880" cy="360"/>
                <a:chOff x="8153640" y="1905120"/>
                <a:chExt cx="380880" cy="360"/>
              </a:xfrm>
            </p:grpSpPr>
            <p:sp>
              <p:nvSpPr>
                <p:cNvPr id="254" name="直接连接符 2090"/>
                <p:cNvSpPr/>
                <p:nvPr/>
              </p:nvSpPr>
              <p:spPr>
                <a:xfrm>
                  <a:off x="8153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8153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772400" y="1905120"/>
                <a:ext cx="381240" cy="360"/>
                <a:chOff x="7772400" y="1905120"/>
                <a:chExt cx="381240" cy="360"/>
              </a:xfrm>
            </p:grpSpPr>
            <p:sp>
              <p:nvSpPr>
                <p:cNvPr id="257" name="直接连接符 2091"/>
                <p:cNvSpPr/>
                <p:nvPr/>
              </p:nvSpPr>
              <p:spPr>
                <a:xfrm>
                  <a:off x="7772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7772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534520" y="1905120"/>
                <a:ext cx="380880" cy="360"/>
                <a:chOff x="8534520" y="1905120"/>
                <a:chExt cx="380880" cy="360"/>
              </a:xfrm>
            </p:grpSpPr>
            <p:sp>
              <p:nvSpPr>
                <p:cNvPr id="260" name="直接连接符 2092"/>
                <p:cNvSpPr/>
                <p:nvPr/>
              </p:nvSpPr>
              <p:spPr>
                <a:xfrm>
                  <a:off x="8534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8534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组合 2093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263" name="矩形 2094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2095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2096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2097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098"/>
            <p:cNvGrpSpPr/>
            <p:nvPr/>
          </p:nvGrpSpPr>
          <p:grpSpPr>
            <a:xfrm>
              <a:off x="533520" y="3809880"/>
              <a:ext cx="8381880" cy="360"/>
              <a:chOff x="533520" y="3809880"/>
              <a:chExt cx="8381880" cy="3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33520" y="3809880"/>
                <a:ext cx="380880" cy="360"/>
                <a:chOff x="533520" y="3809880"/>
                <a:chExt cx="380880" cy="360"/>
              </a:xfrm>
            </p:grpSpPr>
            <p:sp>
              <p:nvSpPr>
                <p:cNvPr id="269" name="直接连接符 2099"/>
                <p:cNvSpPr/>
                <p:nvPr/>
              </p:nvSpPr>
              <p:spPr>
                <a:xfrm>
                  <a:off x="533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>
                  <a:off x="533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295640" y="3809880"/>
                <a:ext cx="380880" cy="360"/>
                <a:chOff x="1295640" y="3809880"/>
                <a:chExt cx="380880" cy="360"/>
              </a:xfrm>
            </p:grpSpPr>
            <p:sp>
              <p:nvSpPr>
                <p:cNvPr id="272" name="直接连接符 2100"/>
                <p:cNvSpPr/>
                <p:nvPr/>
              </p:nvSpPr>
              <p:spPr>
                <a:xfrm>
                  <a:off x="1295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 txBox="1"/>
                <p:nvPr/>
              </p:nvSpPr>
              <p:spPr>
                <a:xfrm>
                  <a:off x="1295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14400" y="3809880"/>
                <a:ext cx="381240" cy="360"/>
                <a:chOff x="914400" y="3809880"/>
                <a:chExt cx="381240" cy="360"/>
              </a:xfrm>
            </p:grpSpPr>
            <p:sp>
              <p:nvSpPr>
                <p:cNvPr id="275" name="直接连接符 2101"/>
                <p:cNvSpPr/>
                <p:nvPr/>
              </p:nvSpPr>
              <p:spPr>
                <a:xfrm>
                  <a:off x="914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 txBox="1"/>
                <p:nvPr/>
              </p:nvSpPr>
              <p:spPr>
                <a:xfrm>
                  <a:off x="914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057400" y="3809880"/>
                <a:ext cx="381240" cy="360"/>
                <a:chOff x="2057400" y="3809880"/>
                <a:chExt cx="381240" cy="360"/>
              </a:xfrm>
            </p:grpSpPr>
            <p:sp>
              <p:nvSpPr>
                <p:cNvPr id="278" name="直接连接符 2102"/>
                <p:cNvSpPr/>
                <p:nvPr/>
              </p:nvSpPr>
              <p:spPr>
                <a:xfrm>
                  <a:off x="2057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 txBox="1"/>
                <p:nvPr/>
              </p:nvSpPr>
              <p:spPr>
                <a:xfrm>
                  <a:off x="2057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676520" y="3809880"/>
                <a:ext cx="380880" cy="360"/>
                <a:chOff x="1676520" y="3809880"/>
                <a:chExt cx="380880" cy="360"/>
              </a:xfrm>
            </p:grpSpPr>
            <p:sp>
              <p:nvSpPr>
                <p:cNvPr id="281" name="直接连接符 2103"/>
                <p:cNvSpPr/>
                <p:nvPr/>
              </p:nvSpPr>
              <p:spPr>
                <a:xfrm>
                  <a:off x="1676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1676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19520" y="3809880"/>
                <a:ext cx="380880" cy="360"/>
                <a:chOff x="2819520" y="3809880"/>
                <a:chExt cx="380880" cy="360"/>
              </a:xfrm>
            </p:grpSpPr>
            <p:sp>
              <p:nvSpPr>
                <p:cNvPr id="284" name="直接连接符 2104"/>
                <p:cNvSpPr/>
                <p:nvPr/>
              </p:nvSpPr>
              <p:spPr>
                <a:xfrm>
                  <a:off x="2819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 txBox="1"/>
                <p:nvPr/>
              </p:nvSpPr>
              <p:spPr>
                <a:xfrm>
                  <a:off x="2819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438640" y="3809880"/>
                <a:ext cx="380880" cy="360"/>
                <a:chOff x="2438640" y="3809880"/>
                <a:chExt cx="380880" cy="360"/>
              </a:xfrm>
            </p:grpSpPr>
            <p:sp>
              <p:nvSpPr>
                <p:cNvPr id="287" name="直接连接符 2105"/>
                <p:cNvSpPr/>
                <p:nvPr/>
              </p:nvSpPr>
              <p:spPr>
                <a:xfrm>
                  <a:off x="2438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2438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81640" y="3809880"/>
                <a:ext cx="380880" cy="360"/>
                <a:chOff x="3581640" y="3809880"/>
                <a:chExt cx="380880" cy="360"/>
              </a:xfrm>
            </p:grpSpPr>
            <p:sp>
              <p:nvSpPr>
                <p:cNvPr id="290" name="直接连接符 2106"/>
                <p:cNvSpPr/>
                <p:nvPr/>
              </p:nvSpPr>
              <p:spPr>
                <a:xfrm>
                  <a:off x="3581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3581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200400" y="3809880"/>
                <a:ext cx="381240" cy="360"/>
                <a:chOff x="3200400" y="3809880"/>
                <a:chExt cx="381240" cy="360"/>
              </a:xfrm>
            </p:grpSpPr>
            <p:sp>
              <p:nvSpPr>
                <p:cNvPr id="293" name="直接连接符 2107"/>
                <p:cNvSpPr/>
                <p:nvPr/>
              </p:nvSpPr>
              <p:spPr>
                <a:xfrm>
                  <a:off x="3200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3200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343400" y="3809880"/>
                <a:ext cx="381240" cy="360"/>
                <a:chOff x="4343400" y="3809880"/>
                <a:chExt cx="381240" cy="360"/>
              </a:xfrm>
            </p:grpSpPr>
            <p:sp>
              <p:nvSpPr>
                <p:cNvPr id="296" name="直接连接符 2108"/>
                <p:cNvSpPr/>
                <p:nvPr/>
              </p:nvSpPr>
              <p:spPr>
                <a:xfrm>
                  <a:off x="4343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4343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962520" y="3809880"/>
                <a:ext cx="380880" cy="360"/>
                <a:chOff x="3962520" y="3809880"/>
                <a:chExt cx="380880" cy="360"/>
              </a:xfrm>
            </p:grpSpPr>
            <p:sp>
              <p:nvSpPr>
                <p:cNvPr id="299" name="直接连接符 2109"/>
                <p:cNvSpPr/>
                <p:nvPr/>
              </p:nvSpPr>
              <p:spPr>
                <a:xfrm>
                  <a:off x="3962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3962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105520" y="3809880"/>
                <a:ext cx="380880" cy="360"/>
                <a:chOff x="5105520" y="3809880"/>
                <a:chExt cx="380880" cy="360"/>
              </a:xfrm>
            </p:grpSpPr>
            <p:sp>
              <p:nvSpPr>
                <p:cNvPr id="302" name="直接连接符 2110"/>
                <p:cNvSpPr/>
                <p:nvPr/>
              </p:nvSpPr>
              <p:spPr>
                <a:xfrm>
                  <a:off x="5105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5105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724640" y="3809880"/>
                <a:ext cx="380880" cy="360"/>
                <a:chOff x="4724640" y="3809880"/>
                <a:chExt cx="380880" cy="360"/>
              </a:xfrm>
            </p:grpSpPr>
            <p:sp>
              <p:nvSpPr>
                <p:cNvPr id="305" name="直接连接符 2111"/>
                <p:cNvSpPr/>
                <p:nvPr/>
              </p:nvSpPr>
              <p:spPr>
                <a:xfrm>
                  <a:off x="4724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4724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867640" y="3809880"/>
                <a:ext cx="380880" cy="360"/>
                <a:chOff x="5867640" y="3809880"/>
                <a:chExt cx="380880" cy="360"/>
              </a:xfrm>
            </p:grpSpPr>
            <p:sp>
              <p:nvSpPr>
                <p:cNvPr id="308" name="直接连接符 2112"/>
                <p:cNvSpPr/>
                <p:nvPr/>
              </p:nvSpPr>
              <p:spPr>
                <a:xfrm>
                  <a:off x="5867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5867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486400" y="3809880"/>
                <a:ext cx="381240" cy="360"/>
                <a:chOff x="5486400" y="3809880"/>
                <a:chExt cx="381240" cy="360"/>
              </a:xfrm>
            </p:grpSpPr>
            <p:sp>
              <p:nvSpPr>
                <p:cNvPr id="311" name="直接连接符 2113"/>
                <p:cNvSpPr/>
                <p:nvPr/>
              </p:nvSpPr>
              <p:spPr>
                <a:xfrm>
                  <a:off x="5486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5486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629400" y="3809880"/>
                <a:ext cx="381240" cy="360"/>
                <a:chOff x="6629400" y="3809880"/>
                <a:chExt cx="381240" cy="360"/>
              </a:xfrm>
            </p:grpSpPr>
            <p:sp>
              <p:nvSpPr>
                <p:cNvPr id="314" name="直接连接符 2114"/>
                <p:cNvSpPr/>
                <p:nvPr/>
              </p:nvSpPr>
              <p:spPr>
                <a:xfrm>
                  <a:off x="6629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>
                  <a:off x="6629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520" y="3809880"/>
                <a:ext cx="380880" cy="360"/>
                <a:chOff x="6248520" y="3809880"/>
                <a:chExt cx="380880" cy="360"/>
              </a:xfrm>
            </p:grpSpPr>
            <p:sp>
              <p:nvSpPr>
                <p:cNvPr id="317" name="直接连接符 2115"/>
                <p:cNvSpPr/>
                <p:nvPr/>
              </p:nvSpPr>
              <p:spPr>
                <a:xfrm>
                  <a:off x="6248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6248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91520" y="3809880"/>
                <a:ext cx="380880" cy="360"/>
                <a:chOff x="7391520" y="3809880"/>
                <a:chExt cx="380880" cy="360"/>
              </a:xfrm>
            </p:grpSpPr>
            <p:sp>
              <p:nvSpPr>
                <p:cNvPr id="320" name="直接连接符 2116"/>
                <p:cNvSpPr/>
                <p:nvPr/>
              </p:nvSpPr>
              <p:spPr>
                <a:xfrm>
                  <a:off x="7391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 txBox="1"/>
                <p:nvPr/>
              </p:nvSpPr>
              <p:spPr>
                <a:xfrm>
                  <a:off x="7391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010640" y="3809880"/>
                <a:ext cx="380880" cy="360"/>
                <a:chOff x="7010640" y="3809880"/>
                <a:chExt cx="380880" cy="360"/>
              </a:xfrm>
            </p:grpSpPr>
            <p:sp>
              <p:nvSpPr>
                <p:cNvPr id="323" name="直接连接符 2117"/>
                <p:cNvSpPr/>
                <p:nvPr/>
              </p:nvSpPr>
              <p:spPr>
                <a:xfrm>
                  <a:off x="7010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 txBox="1"/>
                <p:nvPr/>
              </p:nvSpPr>
              <p:spPr>
                <a:xfrm>
                  <a:off x="7010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153640" y="3809880"/>
                <a:ext cx="380880" cy="360"/>
                <a:chOff x="8153640" y="3809880"/>
                <a:chExt cx="380880" cy="360"/>
              </a:xfrm>
            </p:grpSpPr>
            <p:sp>
              <p:nvSpPr>
                <p:cNvPr id="326" name="直接连接符 2118"/>
                <p:cNvSpPr/>
                <p:nvPr/>
              </p:nvSpPr>
              <p:spPr>
                <a:xfrm>
                  <a:off x="8153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>
                  <a:off x="8153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772400" y="3809880"/>
                <a:ext cx="381240" cy="360"/>
                <a:chOff x="7772400" y="3809880"/>
                <a:chExt cx="381240" cy="360"/>
              </a:xfrm>
            </p:grpSpPr>
            <p:sp>
              <p:nvSpPr>
                <p:cNvPr id="329" name="直接连接符 2119"/>
                <p:cNvSpPr/>
                <p:nvPr/>
              </p:nvSpPr>
              <p:spPr>
                <a:xfrm>
                  <a:off x="7772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>
                  <a:off x="7772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8534520" y="3809880"/>
                <a:ext cx="380880" cy="360"/>
                <a:chOff x="8534520" y="3809880"/>
                <a:chExt cx="380880" cy="360"/>
              </a:xfrm>
            </p:grpSpPr>
            <p:sp>
              <p:nvSpPr>
                <p:cNvPr id="332" name="直接连接符 2120"/>
                <p:cNvSpPr/>
                <p:nvPr/>
              </p:nvSpPr>
              <p:spPr>
                <a:xfrm>
                  <a:off x="8534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8534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矩形 212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3280" y="2349000"/>
            <a:ext cx="58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时尚中黑简体"/>
              </a:rPr>
              <a:t>个人简历幻灯片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66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099"/>
          <p:cNvSpPr/>
          <p:nvPr/>
        </p:nvSpPr>
        <p:spPr>
          <a:xfrm>
            <a:off x="468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431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求职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5121"/>
          <p:cNvSpPr/>
          <p:nvPr/>
        </p:nvSpPr>
        <p:spPr>
          <a:xfrm>
            <a:off x="1166760" y="907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基本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5122"/>
          <p:cNvSpPr/>
          <p:nvPr/>
        </p:nvSpPr>
        <p:spPr>
          <a:xfrm>
            <a:off x="1654560" y="2276640"/>
            <a:ext cx="365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张某某      身高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8cm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籍贯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别：男               民族：汉族      学历：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年月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8-01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业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12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学专业：市场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居住地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9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-mai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6jobs@86job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54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自我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32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型企业的市场策划、管理经验，很强的业务拓展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备良好的业务能力和心理素质，热衷于市场组织、管理、策划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的产品分析、定位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累了丰富的商务谈判技巧，并有较高的客户开发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秀的统筹规划能力，很强的团队合作精神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熟练使用各种办公软件，良好的英语听、说、写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374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求职意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71262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性质： 全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地点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行业：不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职位：市场推广、销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待遇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岗时间：面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38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技术有限公司　　　市场拓展专员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责：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负责北京、重庆以及大部分北方城市的市场组织、开发、策划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公司产品的宣传推广活动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参加各种规模的展会，并成功策划过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品推广活动”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客户的开发，参与公关竞标会，与客户的沟通及签约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的客户维护工作；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国际知名公司的合作，成功的提升了公司知名度；</a:t>
            </a:r>
            <a:br>
              <a:rPr sz="1600"/>
            </a:b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195"/>
          <p:cNvSpPr/>
          <p:nvPr/>
        </p:nvSpPr>
        <p:spPr>
          <a:xfrm>
            <a:off x="684360" y="1484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84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集团公司　　　市场推广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责：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公司项目的策划、市场调查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项目方案、参与项目推广活动，配合公司各部门完成项目的实施工作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公司和相关政府部门的对外联络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经理制定总体市场策划方案，参与产品的分析预测及推广规划部署；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大客户的接触、跟踪工作，并根据客户需求做出总体解决方案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的节奏把握，信息的采集，分析，整理工作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43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教育背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56152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所学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专业描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技能证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61182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证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学英语四、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国计算机等级考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驾照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1267"/>
          <p:cNvSpPr/>
          <p:nvPr/>
        </p:nvSpPr>
        <p:spPr>
          <a:xfrm>
            <a:off x="2844720" y="98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82BF-577F-469A-A900-2CC85BF877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8:5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