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F6727-AC9B-41E5-960F-79813300A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C593-88EB-4F46-A23B-ABD77065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202F3-AF17-4BCD-9E3E-9171B6856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BCA2-F6C9-4319-8326-8890C3715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11930-278D-4B61-A4C3-6D0EAD15A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4B548-3467-4FE7-BBDB-78BEA67F2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8D6A7-317F-43B2-A760-E3CD081D1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F1CE3-81D2-4DB1-866B-AD2FFB7F5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1A046-ADF7-49E4-9981-9C93A6F57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9B0BC-2E8D-44B0-9EE2-5A6FCF5C7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8A452-2CEA-4C15-AE03-98B475E08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6B900-6EC1-4E7B-A672-D1919398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E8E0A-3475-41D8-B320-3503E3EF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996C4-2D7A-4A31-B3E6-B21C925C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1B23B-90A6-4DAD-B7BA-45ECDC32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105FA-749E-4092-A986-2F5BBCB93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F6D9B-C65E-4213-BD7D-1628B7BC4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79CED-A9DF-4F92-B3BE-93C3679F6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8"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BA2F6-5B58-4A3D-93B6-B416ABB13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0"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DE0A5-99BD-4639-8192-6ECDD85E1E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2"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9DA9F-CE06-404D-AE73-F82FA1CE7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3620F-8DE6-4515-829D-EB18CB4B45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1587-94BD-48D4-A858-CCE337543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C4042-4721-427C-B442-A25690306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7"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5CE9E-81C7-4789-A780-A88526067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DB956-C7F6-46C1-A268-FD5F7CE10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12826-0E01-4781-8A08-B8D799D5F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9"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C22B6-41ED-4059-B169-A68FBF8B6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2"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5F817-6437-4445-B9C3-E9B5D244E8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7"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A7092-D952-4A72-91FA-E2E0BB1A3A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21E4-408B-4C5C-B874-E98D2BC40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081E-A146-4A6F-9950-36D382340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DC46-5A44-4D35-A433-2ADA91C97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C11C-ED01-4E63-90F1-BCFA014B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77C0-0AB4-48C5-B1AF-32C7716F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C6B9-2007-4117-92EC-4CE5F41F7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AB0B-91E4-4EB0-A6C0-C1BBDF4C650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C89E-D1D1-408D-A629-250E57D5AAF0}"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C785-A7DE-4589-A9FE-AF21B1CF502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83"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2362-46FC-45A1-828B-80480A50B58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54864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Title</a:t>
            </a:r>
            <a:endParaRPr b="1" lang="en-US" sz="3200" spc="-1" strike="noStrike">
              <a:solidFill>
                <a:srgbClr val="000000"/>
              </a:solidFill>
              <a:latin typeface="Tahoma"/>
            </a:endParaRPr>
          </a:p>
        </p:txBody>
      </p:sp>
      <p:sp>
        <p:nvSpPr>
          <p:cNvPr id="124" name="PlaceHolder 2"/>
          <p:cNvSpPr>
            <a:spLocks noGrp="1"/>
          </p:cNvSpPr>
          <p:nvPr>
            <p:ph type="subTitle"/>
          </p:nvPr>
        </p:nvSpPr>
        <p:spPr>
          <a:xfrm>
            <a:off x="228600" y="91404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Presentation Subtitle</a:t>
            </a:r>
            <a:endParaRPr b="0" lang="en-US" sz="2000" spc="-1" strike="noStrike">
              <a:solidFill>
                <a:srgbClr val="000000"/>
              </a:solidFill>
              <a:latin typeface="Calibri"/>
            </a:endParaRPr>
          </a:p>
        </p:txBody>
      </p:sp>
      <p:sp>
        <p:nvSpPr>
          <p:cNvPr id="125" name="文本框 6155"/>
          <p:cNvSpPr/>
          <p:nvPr/>
        </p:nvSpPr>
        <p:spPr>
          <a:xfrm>
            <a:off x="152280" y="6400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6f1df"/>
                </a:solidFill>
                <a:latin typeface="宋体"/>
                <a:ea typeface="宋体"/>
              </a:rPr>
              <a:t>幻灯片之家 </a:t>
            </a:r>
            <a:r>
              <a:rPr b="0" lang="en-US" sz="1600" spc="-1" strike="noStrike">
                <a:solidFill>
                  <a:srgbClr val="f6f1df"/>
                </a:solidFill>
                <a:latin typeface="宋体"/>
                <a:ea typeface="宋体"/>
              </a:rPr>
              <a:t>http://www.eeppt.com</a:t>
            </a:r>
            <a:endParaRPr b="0" lang="en-US" sz="1600" spc="-1" strike="noStrike">
              <a:solidFill>
                <a:srgbClr val="000000"/>
              </a:solidFill>
              <a:latin typeface="Calibri"/>
            </a:endParaRPr>
          </a:p>
        </p:txBody>
      </p:sp>
      <p:sp>
        <p:nvSpPr>
          <p:cNvPr id="126" name="文本框 1"/>
          <p:cNvSpPr/>
          <p:nvPr/>
        </p:nvSpPr>
        <p:spPr>
          <a:xfrm>
            <a:off x="1771560" y="1371600"/>
            <a:ext cx="562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工商管理专业毕业答辩</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
        <p:nvSpPr>
          <p:cNvPr id="129"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b2b2"/>
                </a:solidFill>
                <a:uFillTx/>
                <a:latin typeface="Arial"/>
                <a:ea typeface="宋体"/>
                <a:hlinkClick r:id="rId1"/>
              </a:rPr>
              <a:t>ppt</a:t>
            </a:r>
            <a:r>
              <a:rPr b="0" lang="zh-CN" sz="1600" spc="-1" strike="noStrike" u="sng">
                <a:solidFill>
                  <a:srgbClr val="b2b2b2"/>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32D2-5655-4F64-B9FE-4837F653729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135" name=""/>
          <p:cNvSpPr txBox="1"/>
          <p:nvPr/>
        </p:nvSpPr>
        <p:spPr>
          <a:xfrm>
            <a:off x="2133360" y="1600200"/>
            <a:ext cx="65530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pc</cp:lastModifiedBy>
  <dcterms:modified xsi:type="dcterms:W3CDTF">2016-05-19T06:42:13Z</dcterms:modified>
  <cp:revision>3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