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DFFB-55F4-46EB-AECF-CA9638C44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1CE61-75D0-4809-84D3-6A92605B5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D4E12-98EE-41A0-B18A-F9AD9CC51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99CB-42D9-4D66-ACCE-A6AAF0FAE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A488-CA89-4F4B-934B-44FD7881D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DBCD5-29B3-4768-AAA5-207F5F92C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7951E-5AFF-4194-A9F1-F6678EF3E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F2865-E405-4ADA-BDB1-BADC7442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662DE-D61C-43B2-852F-5A66164E5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F917-4C03-4993-9E8D-A5FDC884F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129F-9BF7-40E3-8AEF-448695BC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7163-69BF-47EE-B41C-5A2B9C94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DF35-5D52-493A-BB12-C6303A3E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0B39E-D5B3-4F2E-9B43-0D5BEF9B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E7BBA-8641-4E8C-B77F-0E1AF162C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2CF7-FC72-471C-853F-D1958C82B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0B2B6-C37D-4B34-B553-D5C5DF2E4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324F-1863-4C35-9599-80DE4C965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B2630-80B1-49C6-A82D-4857687F0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1FCC-5647-4AEC-98B7-782EF755B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1F368-5186-4DAB-B950-E9253F7F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9857D-FA46-4ED6-BF20-42251F6E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76B57-CAD6-4855-A467-80FB417A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5890-4972-497B-AD0E-2ED31F9ED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宋体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宋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299CF-6813-4731-9403-18A6A0EFBA7C}" type="slidenum">
              <a:rPr b="0" lang="zh-CN" sz="1200" spc="-1" strike="noStrike">
                <a:solidFill>
                  <a:srgbClr val="898989"/>
                </a:solidFill>
                <a:latin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1DA64-6A4C-463E-89D5-4D51F09A1C1D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87E-2D6F-41BF-8290-E8EEBCA1232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 3" descr=""/>
          <p:cNvPicPr/>
          <p:nvPr/>
        </p:nvPicPr>
        <p:blipFill>
          <a:blip r:embed="rId2"/>
          <a:stretch/>
        </p:blipFill>
        <p:spPr>
          <a:xfrm>
            <a:off x="3911760" y="2470320"/>
            <a:ext cx="3108240" cy="844560"/>
          </a:xfrm>
          <a:prstGeom prst="rect">
            <a:avLst/>
          </a:prstGeom>
          <a:ln w="0">
            <a:noFill/>
          </a:ln>
        </p:spPr>
      </p:pic>
      <p:sp>
        <p:nvSpPr>
          <p:cNvPr id="83" name="文本框 6155"/>
          <p:cNvSpPr/>
          <p:nvPr/>
        </p:nvSpPr>
        <p:spPr>
          <a:xfrm>
            <a:off x="2556000" y="6453360"/>
            <a:ext cx="50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1"/>
          <p:cNvSpPr/>
          <p:nvPr/>
        </p:nvSpPr>
        <p:spPr>
          <a:xfrm>
            <a:off x="227160" y="44280"/>
            <a:ext cx="842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高校毕业论文答辩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9"/>
          <p:cNvSpPr/>
          <p:nvPr/>
        </p:nvSpPr>
        <p:spPr>
          <a:xfrm rot="21403800">
            <a:off x="7408440" y="1071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8"/>
          <p:cNvGrpSpPr/>
          <p:nvPr/>
        </p:nvGrpSpPr>
        <p:grpSpPr>
          <a:xfrm>
            <a:off x="1707480" y="1573920"/>
            <a:ext cx="6300000" cy="961200"/>
            <a:chOff x="1707480" y="1573920"/>
            <a:chExt cx="6300000" cy="961200"/>
          </a:xfrm>
        </p:grpSpPr>
        <p:sp>
          <p:nvSpPr>
            <p:cNvPr id="87" name="矩形 11"/>
            <p:cNvSpPr/>
            <p:nvPr/>
          </p:nvSpPr>
          <p:spPr>
            <a:xfrm rot="311400">
              <a:off x="1722960" y="1589400"/>
              <a:ext cx="360000" cy="3621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12"/>
            <p:cNvSpPr/>
            <p:nvPr/>
          </p:nvSpPr>
          <p:spPr>
            <a:xfrm rot="311400">
              <a:off x="2143440" y="1872000"/>
              <a:ext cx="585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答辩时间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一般讲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8~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，提问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5~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分钟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12"/>
          <p:cNvGrpSpPr/>
          <p:nvPr/>
        </p:nvGrpSpPr>
        <p:grpSpPr>
          <a:xfrm>
            <a:off x="1646280" y="2535840"/>
            <a:ext cx="6224760" cy="965160"/>
            <a:chOff x="1646280" y="2535840"/>
            <a:chExt cx="6224760" cy="965160"/>
          </a:xfrm>
        </p:grpSpPr>
        <p:sp>
          <p:nvSpPr>
            <p:cNvPr id="90" name="矩形 14"/>
            <p:cNvSpPr/>
            <p:nvPr/>
          </p:nvSpPr>
          <p:spPr>
            <a:xfrm rot="311400">
              <a:off x="1661400" y="2551320"/>
              <a:ext cx="360000" cy="3582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15"/>
            <p:cNvSpPr/>
            <p:nvPr/>
          </p:nvSpPr>
          <p:spPr>
            <a:xfrm rot="311400">
              <a:off x="2009520" y="2837880"/>
              <a:ext cx="58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熟悉材料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论文选题、方法、结论、相关文献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15"/>
          <p:cNvGrpSpPr/>
          <p:nvPr/>
        </p:nvGrpSpPr>
        <p:grpSpPr>
          <a:xfrm>
            <a:off x="1562400" y="3429720"/>
            <a:ext cx="6224400" cy="965160"/>
            <a:chOff x="1562400" y="3429720"/>
            <a:chExt cx="6224400" cy="965160"/>
          </a:xfrm>
        </p:grpSpPr>
        <p:sp>
          <p:nvSpPr>
            <p:cNvPr id="93" name="矩形 16"/>
            <p:cNvSpPr/>
            <p:nvPr/>
          </p:nvSpPr>
          <p:spPr>
            <a:xfrm rot="311400">
              <a:off x="1577520" y="3445200"/>
              <a:ext cx="360000" cy="35820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17"/>
            <p:cNvSpPr/>
            <p:nvPr/>
          </p:nvSpPr>
          <p:spPr>
            <a:xfrm rot="311400">
              <a:off x="1925640" y="3731760"/>
              <a:ext cx="5855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提前演练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预讲几次，确保按时完成答辩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18"/>
          <p:cNvGrpSpPr/>
          <p:nvPr/>
        </p:nvGrpSpPr>
        <p:grpSpPr>
          <a:xfrm>
            <a:off x="1432800" y="4286160"/>
            <a:ext cx="6220800" cy="1058760"/>
            <a:chOff x="1432800" y="4286160"/>
            <a:chExt cx="6220800" cy="1058760"/>
          </a:xfrm>
        </p:grpSpPr>
        <p:sp>
          <p:nvSpPr>
            <p:cNvPr id="96" name="矩形 18"/>
            <p:cNvSpPr/>
            <p:nvPr/>
          </p:nvSpPr>
          <p:spPr>
            <a:xfrm rot="365400">
              <a:off x="1450800" y="4304160"/>
              <a:ext cx="36000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19"/>
            <p:cNvSpPr/>
            <p:nvPr/>
          </p:nvSpPr>
          <p:spPr>
            <a:xfrm rot="365400">
              <a:off x="1793520" y="4636440"/>
              <a:ext cx="5855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控制页数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不要超过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5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，尽量控制</a:t>
              </a:r>
              <a:r>
                <a:rPr b="0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10</a:t>
              </a:r>
              <a:r>
                <a:rPr b="0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矩形 9"/>
          <p:cNvSpPr/>
          <p:nvPr/>
        </p:nvSpPr>
        <p:spPr>
          <a:xfrm>
            <a:off x="7467120" y="121428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结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12"/>
          <p:cNvSpPr/>
          <p:nvPr/>
        </p:nvSpPr>
        <p:spPr>
          <a:xfrm rot="436800">
            <a:off x="1945080" y="1801440"/>
            <a:ext cx="139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理工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Box 15"/>
          <p:cNvSpPr/>
          <p:nvPr/>
        </p:nvSpPr>
        <p:spPr>
          <a:xfrm rot="436800">
            <a:off x="1557720" y="2950560"/>
            <a:ext cx="149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经管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7"/>
          <p:cNvSpPr/>
          <p:nvPr/>
        </p:nvSpPr>
        <p:spPr>
          <a:xfrm rot="436800">
            <a:off x="1465560" y="4061880"/>
            <a:ext cx="14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文史类结构</a:t>
            </a:r>
            <a:r>
              <a:rPr b="1" lang="en-US" sz="20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8"/>
          <p:cNvSpPr/>
          <p:nvPr/>
        </p:nvSpPr>
        <p:spPr>
          <a:xfrm rot="436800">
            <a:off x="3856320" y="293940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概括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来源，研究目的，关键重难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0"/>
          <p:cNvSpPr/>
          <p:nvPr/>
        </p:nvSpPr>
        <p:spPr>
          <a:xfrm rot="436800">
            <a:off x="4019400" y="2258640"/>
            <a:ext cx="297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封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课题名称，答辩人，指导教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23"/>
          <p:cNvSpPr/>
          <p:nvPr/>
        </p:nvSpPr>
        <p:spPr>
          <a:xfrm rot="436800">
            <a:off x="3784680" y="363168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细节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研究思路，过程，数据，成果，结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4"/>
          <p:cNvSpPr/>
          <p:nvPr/>
        </p:nvSpPr>
        <p:spPr>
          <a:xfrm rot="436800">
            <a:off x="3616560" y="429696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展望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创新性、应用价值、课题延续性看法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25"/>
          <p:cNvSpPr/>
          <p:nvPr/>
        </p:nvSpPr>
        <p:spPr>
          <a:xfrm rot="436800">
            <a:off x="3498840" y="4978440"/>
            <a:ext cx="35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【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致谢</a:t>
            </a:r>
            <a:r>
              <a:rPr b="1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】</a:t>
            </a:r>
            <a:r>
              <a:rPr b="1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谢天谢地谢恩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147636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0F075-0E3E-4327-8620-A997329234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矩形 9"/>
          <p:cNvSpPr/>
          <p:nvPr/>
        </p:nvSpPr>
        <p:spPr>
          <a:xfrm>
            <a:off x="7467120" y="114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7375e"/>
                </a:solidFill>
                <a:latin typeface="微软雅黑"/>
                <a:ea typeface="微软雅黑"/>
              </a:rPr>
              <a:t>答辩形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8"/>
          <p:cNvGrpSpPr/>
          <p:nvPr/>
        </p:nvGrpSpPr>
        <p:grpSpPr>
          <a:xfrm>
            <a:off x="1729080" y="1159560"/>
            <a:ext cx="1627920" cy="666360"/>
            <a:chOff x="1729080" y="1159560"/>
            <a:chExt cx="1627920" cy="666360"/>
          </a:xfrm>
        </p:grpSpPr>
        <p:sp>
          <p:nvSpPr>
            <p:cNvPr id="114" name="矩形 11"/>
            <p:cNvSpPr/>
            <p:nvPr/>
          </p:nvSpPr>
          <p:spPr>
            <a:xfrm rot="760800">
              <a:off x="1764360" y="1194480"/>
              <a:ext cx="359640" cy="3621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Box 12"/>
            <p:cNvSpPr/>
            <p:nvPr/>
          </p:nvSpPr>
          <p:spPr>
            <a:xfrm rot="760800">
              <a:off x="2118240" y="1298880"/>
              <a:ext cx="120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封面</a:t>
              </a: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1"/>
          <p:cNvGrpSpPr/>
          <p:nvPr/>
        </p:nvGrpSpPr>
        <p:grpSpPr>
          <a:xfrm>
            <a:off x="1713600" y="2191680"/>
            <a:ext cx="1487520" cy="626040"/>
            <a:chOff x="1713600" y="2191680"/>
            <a:chExt cx="1487520" cy="626040"/>
          </a:xfrm>
        </p:grpSpPr>
        <p:sp>
          <p:nvSpPr>
            <p:cNvPr id="117" name="矩形 14"/>
            <p:cNvSpPr/>
            <p:nvPr/>
          </p:nvSpPr>
          <p:spPr>
            <a:xfrm rot="760800">
              <a:off x="1748880" y="2226600"/>
              <a:ext cx="359640" cy="36216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Box 15"/>
            <p:cNvSpPr/>
            <p:nvPr/>
          </p:nvSpPr>
          <p:spPr>
            <a:xfrm rot="760800">
              <a:off x="2106720" y="2306880"/>
              <a:ext cx="106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内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Group 14"/>
          <p:cNvGrpSpPr/>
          <p:nvPr/>
        </p:nvGrpSpPr>
        <p:grpSpPr>
          <a:xfrm>
            <a:off x="1571400" y="3129120"/>
            <a:ext cx="1486440" cy="645840"/>
            <a:chOff x="1571400" y="3129120"/>
            <a:chExt cx="1486440" cy="645840"/>
          </a:xfrm>
        </p:grpSpPr>
        <p:sp>
          <p:nvSpPr>
            <p:cNvPr id="120" name="矩形 16"/>
            <p:cNvSpPr/>
            <p:nvPr/>
          </p:nvSpPr>
          <p:spPr>
            <a:xfrm rot="760800">
              <a:off x="1606680" y="3164040"/>
              <a:ext cx="360000" cy="36288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TextBox 17"/>
            <p:cNvSpPr/>
            <p:nvPr/>
          </p:nvSpPr>
          <p:spPr>
            <a:xfrm rot="760800">
              <a:off x="1958400" y="3263760"/>
              <a:ext cx="1068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颜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17"/>
          <p:cNvGrpSpPr/>
          <p:nvPr/>
        </p:nvGrpSpPr>
        <p:grpSpPr>
          <a:xfrm>
            <a:off x="1575000" y="3905280"/>
            <a:ext cx="1408680" cy="664920"/>
            <a:chOff x="1575000" y="3905280"/>
            <a:chExt cx="1408680" cy="664920"/>
          </a:xfrm>
        </p:grpSpPr>
        <p:sp>
          <p:nvSpPr>
            <p:cNvPr id="123" name="矩形 18"/>
            <p:cNvSpPr/>
            <p:nvPr/>
          </p:nvSpPr>
          <p:spPr>
            <a:xfrm rot="760800">
              <a:off x="1609920" y="3940200"/>
              <a:ext cx="359640" cy="360720"/>
            </a:xfrm>
            <a:prstGeom prst="rect">
              <a:avLst/>
            </a:prstGeom>
            <a:solidFill>
              <a:srgbClr val="bfbfbf"/>
            </a:solidFill>
            <a:ln w="25560">
              <a:solidFill>
                <a:srgbClr val="bfbfb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17375e"/>
                  </a:solidFill>
                  <a:latin typeface="Arial"/>
                  <a:ea typeface="Arial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Box 19"/>
            <p:cNvSpPr/>
            <p:nvPr/>
          </p:nvSpPr>
          <p:spPr>
            <a:xfrm rot="760800">
              <a:off x="1955880" y="4066920"/>
              <a:ext cx="995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【</a:t>
              </a:r>
              <a:r>
                <a:rPr b="1" lang="zh-CN" sz="2000" spc="-1" strike="noStrike">
                  <a:solidFill>
                    <a:srgbClr val="00b0f0"/>
                  </a:solidFill>
                  <a:latin typeface="微软雅黑"/>
                  <a:ea typeface="微软雅黑"/>
                </a:rPr>
                <a:t>字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圆角矩形 21"/>
          <p:cNvSpPr/>
          <p:nvPr/>
        </p:nvSpPr>
        <p:spPr>
          <a:xfrm rot="760800">
            <a:off x="3398760" y="171900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尽量选择和课题相关图片设计封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要考虑一句话阅读完毕不能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圆角矩形 22"/>
          <p:cNvSpPr/>
          <p:nvPr/>
        </p:nvSpPr>
        <p:spPr>
          <a:xfrm rot="760800">
            <a:off x="3244680" y="2649240"/>
            <a:ext cx="392940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忌堆砌文字图表，宜用简洁明了图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注意设计内容导航栏，统一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PPT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版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圆角矩形 23"/>
          <p:cNvSpPr/>
          <p:nvPr/>
        </p:nvSpPr>
        <p:spPr>
          <a:xfrm rot="760800">
            <a:off x="3041640" y="363672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不推荐用复杂色彩，注意背景和文字对比度，避免教室投影效果不好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圆角矩形 24"/>
          <p:cNvSpPr/>
          <p:nvPr/>
        </p:nvSpPr>
        <p:spPr>
          <a:xfrm rot="760800">
            <a:off x="2887560" y="4506480"/>
            <a:ext cx="3929040" cy="71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bfbfb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标题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36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，正文不小于</a:t>
            </a:r>
            <a:r>
              <a:rPr b="0" lang="en-US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24</a:t>
            </a: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号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b0f0"/>
                </a:solidFill>
                <a:latin typeface="微软雅黑"/>
                <a:ea typeface="微软雅黑"/>
              </a:rPr>
              <a:t>用白底黑红蓝字，或者蓝底白黄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00:21:1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5:55Z</dcterms:modified>
  <cp:revision>19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</Properties>
</file>