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34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BBD-E64B-40CF-B46E-49196A2D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E81-BCF0-412B-A77F-2F1DFFC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756-D333-4085-83DE-17C43695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438-6960-4D29-A8AF-2A439B4F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7CE0-D00E-4E20-980B-735205CF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371-6AE4-4420-A4C3-A65DDAEC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878E-80BB-4ACD-93C9-5DA5AFB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6F21-EAE4-45B5-96D5-429B5D07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3EDF-0FE2-4CF0-9E82-361FE91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44440"/>
            <a:ext cx="87505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15C3-CCF7-446D-9BA7-EAB3DBD4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1E5F-37E8-4E13-B740-8482976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ECF-F0BF-4030-8410-EFE5009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E8E5-0C80-4CED-AD63-AEE1A6F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8B87-43AC-4A67-B9BD-11A3F1B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A09-6259-4FD3-A287-C61D099D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DEB6-E91D-42F4-9573-5FB7BAA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60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376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60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2263-DA7B-4621-9574-FBC73623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6EF-6DC5-4943-8E5B-0E4F05F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9F4-A3F2-493F-A7F2-9E80BD4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A09-8D5C-46C4-A1F7-102B0B2C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44440"/>
            <a:ext cx="87505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7D2-A191-43BA-8EAA-24E8DD12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D2B-50A0-4A3A-81FC-05E9FBD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ABE-A2CA-480D-9BF6-3D8F5BA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A59-6B70-4CE8-960A-FA1786F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673600"/>
            <a:ext cx="22687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673600"/>
            <a:ext cx="30798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673600"/>
            <a:ext cx="22687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A60-E7FB-4BB6-86AB-EFD4F9120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25E-E73F-46B9-8664-6D707ABD687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5E4-24BB-4A0A-81E2-C7AC521237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Administrator\Desktop\2336783_093354051868_2.jpg"/>
          <p:cNvPicPr/>
          <p:nvPr/>
        </p:nvPicPr>
        <p:blipFill>
          <a:blip r:embed="rId1"/>
          <a:srcRect l="0" t="0" r="0" b="7572"/>
          <a:stretch/>
        </p:blipFill>
        <p:spPr>
          <a:xfrm>
            <a:off x="-34920" y="12600"/>
            <a:ext cx="9756720" cy="610884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1332000" y="684360"/>
            <a:ext cx="732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黑板背景论文答辩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副标题 2"/>
          <p:cNvSpPr/>
          <p:nvPr/>
        </p:nvSpPr>
        <p:spPr>
          <a:xfrm>
            <a:off x="4789440" y="3060720"/>
            <a:ext cx="297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汇报人：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487320" y="1620720"/>
            <a:ext cx="34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标题字体为华文新魏，其余字体为华文细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6360" y="5653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bf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cfbf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Administrator\Desktop\GHS7418Q6151.jpg"/>
          <p:cNvPicPr/>
          <p:nvPr/>
        </p:nvPicPr>
        <p:blipFill>
          <a:blip r:embed="rId1"/>
          <a:srcRect l="0" t="63907" r="0" b="0"/>
          <a:stretch/>
        </p:blipFill>
        <p:spPr>
          <a:xfrm>
            <a:off x="-20520" y="4140360"/>
            <a:ext cx="9742320" cy="1981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388280" y="3465360"/>
            <a:ext cx="166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9d9d9"/>
                </a:solidFill>
                <a:latin typeface="微软雅黑"/>
                <a:ea typeface="微软雅黑"/>
              </a:rPr>
              <a:t>目 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197080" y="39672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2197080" y="130176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2197080" y="226368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2197080" y="320688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128680" y="-2523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2128680" y="6843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2128680" y="162072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2128680" y="255600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C:\Users\Administrator\Desktop\图片1.png"/>
          <p:cNvPicPr/>
          <p:nvPr/>
        </p:nvPicPr>
        <p:blipFill>
          <a:blip r:embed="rId2"/>
          <a:srcRect l="0" t="0" r="0" b="58285"/>
          <a:stretch/>
        </p:blipFill>
        <p:spPr>
          <a:xfrm>
            <a:off x="6407280" y="3205080"/>
            <a:ext cx="36385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03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06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圆角矩形 2"/>
          <p:cNvSpPr/>
          <p:nvPr/>
        </p:nvSpPr>
        <p:spPr>
          <a:xfrm>
            <a:off x="2268360" y="3036960"/>
            <a:ext cx="1998720" cy="103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圆角矩形 21"/>
          <p:cNvSpPr/>
          <p:nvPr/>
        </p:nvSpPr>
        <p:spPr>
          <a:xfrm>
            <a:off x="1405080" y="1262160"/>
            <a:ext cx="2846160" cy="1366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圆角矩形 22"/>
          <p:cNvSpPr/>
          <p:nvPr/>
        </p:nvSpPr>
        <p:spPr>
          <a:xfrm>
            <a:off x="4659480" y="1547640"/>
            <a:ext cx="2145960" cy="1030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27"/>
          <p:cNvSpPr/>
          <p:nvPr/>
        </p:nvSpPr>
        <p:spPr>
          <a:xfrm>
            <a:off x="4645080" y="3038400"/>
            <a:ext cx="2146320" cy="1030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28"/>
          <p:cNvSpPr/>
          <p:nvPr/>
        </p:nvSpPr>
        <p:spPr>
          <a:xfrm>
            <a:off x="3997440" y="2340000"/>
            <a:ext cx="863640" cy="8650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ffff66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17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圆角矩形 18"/>
          <p:cNvSpPr/>
          <p:nvPr/>
        </p:nvSpPr>
        <p:spPr>
          <a:xfrm>
            <a:off x="396720" y="922320"/>
            <a:ext cx="8064720" cy="3672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21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0"/>
          <p:cNvSpPr/>
          <p:nvPr/>
        </p:nvSpPr>
        <p:spPr>
          <a:xfrm>
            <a:off x="1116000" y="118908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480600" y="99360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472680" y="207324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472680" y="322596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1116000" y="226044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1116000" y="341316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Users\Administrator\Desktop\2336783_093354051868_2.jpg"/>
          <p:cNvPicPr/>
          <p:nvPr/>
        </p:nvPicPr>
        <p:blipFill>
          <a:blip r:embed="rId1"/>
          <a:srcRect l="0" t="0" r="0" b="7572"/>
          <a:stretch/>
        </p:blipFill>
        <p:spPr>
          <a:xfrm>
            <a:off x="-34920" y="12600"/>
            <a:ext cx="9756720" cy="610884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14"/>
          <p:cNvGrpSpPr/>
          <p:nvPr/>
        </p:nvGrpSpPr>
        <p:grpSpPr>
          <a:xfrm>
            <a:off x="-35640" y="12960"/>
            <a:ext cx="1916280" cy="1893960"/>
            <a:chOff x="-35640" y="12960"/>
            <a:chExt cx="1916280" cy="1893960"/>
          </a:xfrm>
        </p:grpSpPr>
        <p:sp>
          <p:nvSpPr>
            <p:cNvPr id="134" name="椭圆 28"/>
            <p:cNvSpPr/>
            <p:nvPr/>
          </p:nvSpPr>
          <p:spPr>
            <a:xfrm flipH="1" flipV="1" rot="5400000">
              <a:off x="-24840" y="1440"/>
              <a:ext cx="18939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28"/>
            <p:cNvSpPr/>
            <p:nvPr/>
          </p:nvSpPr>
          <p:spPr>
            <a:xfrm flipH="1" flipV="1" rot="5400000">
              <a:off x="42120" y="86040"/>
              <a:ext cx="174312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TextBox 17"/>
          <p:cNvSpPr/>
          <p:nvPr/>
        </p:nvSpPr>
        <p:spPr>
          <a:xfrm>
            <a:off x="394200" y="88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2413080" y="900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9"/>
          <p:cNvSpPr/>
          <p:nvPr/>
        </p:nvSpPr>
        <p:spPr>
          <a:xfrm>
            <a:off x="1908000" y="215424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0"/>
          <p:cNvSpPr/>
          <p:nvPr/>
        </p:nvSpPr>
        <p:spPr>
          <a:xfrm>
            <a:off x="1405080" y="3411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882880" y="51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一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2"/>
          <p:cNvSpPr/>
          <p:nvPr/>
        </p:nvSpPr>
        <p:spPr>
          <a:xfrm>
            <a:off x="2160000" y="176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3"/>
          <p:cNvSpPr/>
          <p:nvPr/>
        </p:nvSpPr>
        <p:spPr>
          <a:xfrm>
            <a:off x="1656720" y="302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47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圆角矩形 27"/>
          <p:cNvSpPr/>
          <p:nvPr/>
        </p:nvSpPr>
        <p:spPr>
          <a:xfrm>
            <a:off x="2268360" y="1547640"/>
            <a:ext cx="6193080" cy="237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51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21"/>
          <p:cNvSpPr/>
          <p:nvPr/>
        </p:nvSpPr>
        <p:spPr>
          <a:xfrm>
            <a:off x="324000" y="684360"/>
            <a:ext cx="2305080" cy="110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输入文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72F9-AB5B-42FB-A633-007356E1A5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20091213181609864"/>
          <p:cNvPicPr/>
          <p:nvPr/>
        </p:nvPicPr>
        <p:blipFill>
          <a:blip r:embed="rId1"/>
          <a:srcRect l="0" t="0" r="0" b="19459"/>
          <a:stretch/>
        </p:blipFill>
        <p:spPr>
          <a:xfrm>
            <a:off x="0" y="468360"/>
            <a:ext cx="9721800" cy="5240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460160"/>
            <a:ext cx="81738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2197080" y="232416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5.08.3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1:47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7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