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4C14-62DB-4C3F-A2AC-ED67C0657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9A44-7978-4CBA-9E76-1C0D4BD58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9C63-33A6-45E2-A5B9-C106A9F45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F626-8A94-4B95-B200-A9636EF6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4B994-63A5-46E1-A124-A1C0435B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1C381-9C24-4645-A831-83553FC7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6B246-C590-4D97-A438-FBCEF08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15B3-F1FA-4179-BFB1-99F9BD8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E649-B5B3-4F7B-A742-ACB9FD86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4FCF-7C56-440C-B520-0836770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0FA37-CFD3-47EA-9856-EDDB066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E0ED-2A26-4E97-9434-D14AB4AF2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28FC-0EE8-4D7B-BB4E-CAD2839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2525-BAF6-499D-85D0-05ED028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1133-FEE9-43D5-9CD2-82B6C9F8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081D-EFD0-4BDB-9B19-3B12CB0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5F57-C594-45F5-9FEA-8DBB61AA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BE59D-62AF-4804-8FAC-69409285BB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F5376-234C-4A5B-A766-BE82730FCD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FE6B3-B978-4748-A1F7-29AB5ABB3C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4DD47-7B55-4D7B-A72F-ED29EC8520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A3A3F-6E4C-40FD-8881-F52C0A377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2075-45A7-42D2-B58D-06AE05F42C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77B96-3FA8-43EB-B6A3-46C6AA7F78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0DE8C-5A8A-412C-940E-DBB78FC1E9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56D4C-FD36-4A63-B1C4-85B28A101B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708F2-12EC-4782-8DFA-934A1FBA8D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66534-BA31-49DA-869E-5E11BD2BCF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60BBA-9303-4581-8236-96267268E3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42A59-BA53-415B-ACBD-652A43A41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3AF9-C5B9-4AAB-9582-B70D5DF42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7D5A-B75F-496E-A52A-F24F125F5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EB5E-2C42-48A5-B6B2-625D9C05B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0ED6-C221-4A59-A0D0-21F895B2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828E-C1D9-4713-B26C-DD141D73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136C-96C7-4E5C-93E2-8D7CD528E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933960" y="75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5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6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84360" y="644832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F6BB-72F1-4A09-86AD-F467C2E9C631}" type="slidenum">
              <a:rPr b="1" lang="ko-KR" sz="1400" spc="-1" strike="noStrike">
                <a:solidFill>
                  <a:srgbClr val="ff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6A45-8D78-4516-A41F-7AA41A5377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7A11-EF16-4837-A73D-EFD43E3056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5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6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933960" y="75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4284360" y="644832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4B03-297A-4689-B108-AD6F7657EA35}" type="slidenum">
              <a:rPr b="1" lang="ko-KR" sz="1400" spc="-1" strike="noStrike">
                <a:solidFill>
                  <a:srgbClr val="ff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99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179280" y="2421000"/>
            <a:ext cx="87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f1f4"/>
                </a:solidFill>
                <a:latin typeface="宋体"/>
                <a:ea typeface="宋体"/>
              </a:rPr>
              <a:t>黑橙计算机专业毕业答辩</a:t>
            </a:r>
            <a:r>
              <a:rPr b="0" lang="en-US" sz="4000" spc="-1" strike="noStrike">
                <a:solidFill>
                  <a:srgbClr val="eef1f4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eef1f4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Related Documents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ompetitors 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slide per competito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trengths 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r strengths relativ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competitors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Weaknesses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r weaknesses relativ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competito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826920" y="14130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999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99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4FF3-E5FC-4278-8B81-EA2ACE9CE852}" type="slidenum">
              <a:rPr b="0" lang="zh-CN" sz="1400" spc="-1" strike="noStrike">
                <a:solidFill>
                  <a:srgbClr val="ff99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hart Documents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pic>
        <p:nvPicPr>
          <p:cNvPr id="133" name="内容占位符 12290" descr=""/>
          <p:cNvPicPr/>
          <p:nvPr/>
        </p:nvPicPr>
        <p:blipFill>
          <a:blip r:embed="rId1"/>
          <a:stretch/>
        </p:blipFill>
        <p:spPr>
          <a:xfrm>
            <a:off x="2016000" y="1676520"/>
            <a:ext cx="557388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8:3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8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