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816-0F90-4D6C-87E4-44DB73C5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3718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3B5-A9AB-4387-8DD3-577010F9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B1B-EE80-45F9-9705-388FCF57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A266-333B-4DDC-9C1A-97F5FB29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BBF1-A5D3-431F-A5EC-2FC29D77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AFB0-D20D-4E74-9D3F-89772BFB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5A1B-BBA7-4809-AD50-FD83BC94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10A1-6182-4117-8B24-A7C40A30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62FF-6FD6-4FAE-A8CD-3244C37E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7472-8C6B-44CF-AADF-5E9242D2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4F34-143B-456A-887B-E3FCD225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271F-540E-4DEE-B5DE-5570C0AD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580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059F-E4F4-4B05-A0BB-55C167AF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0A26-8D69-4ACC-9802-1174E264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760" y="3718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C4DA-1E2C-4DAD-B8DE-9BD1A7A6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580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B94B-6122-49E8-B702-289D7526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120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76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120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C687-4E42-465C-A1C1-3D6836BE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5FF8F-63EF-4C06-A4D8-F75F6D88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7319B-79E0-49A1-B13C-952A1BE8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D3C77-EC31-4601-A878-757DB213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8169C-402F-420F-9ACC-8F1AB766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F9CC6-181F-4D52-BA3A-5FC8345A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5F6-BBBC-41BA-9C52-D3330C7E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85593-72C7-4E15-9F7F-B40B9CDB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210BF-E30A-4667-8B0C-D5B89D9D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580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D6096-30C0-4C59-BFD5-BC16EB30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DF925-7EFC-486B-8ED1-8E809E2F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760" y="3718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CFD23-403E-4223-9061-B9B44DDC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580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30832-2B1B-4837-9A48-0AF9F9F3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120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2876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120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9C202-2B56-41CF-AF23-E0EB3308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0F441-F30A-43B7-94F7-63C5779C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BDEB1-8A08-4B64-9706-68B01543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11195-3678-4A7F-A3FE-A6A97963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85F-CF0F-479D-A061-129675F1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C7215-A80E-46F4-91E7-46B577FB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38043-7D90-4ED7-98A4-C76C597D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AE542-796B-481A-A3D9-27A158E3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DC376-CC96-4906-98FB-E017E0C6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4580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3CBA6-0A88-454F-B2E3-12F67BFF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5CB1B-278F-42E1-9041-4479BCDD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760" y="3718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8A8BD-33D7-440E-B0CD-595C9898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4580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E9159-EBFF-4876-A6BD-6E32EE7A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1120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2876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1120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3640" y="3718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F923A-7983-4799-9F1C-8ED5FAE0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C16-283B-46C9-8ADB-32A10A34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B97-AD4B-4207-B088-BA78DA6E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6A7-0EE8-43A7-8095-E6DDD933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3718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582-ABB6-4A92-877B-B11C75C9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143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3718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BB3-8F53-4B10-9D7D-8CCF3AB2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1920" y="6356520"/>
            <a:ext cx="10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C00F-14F6-4E28-8F3E-E15ECDDF0F5F}" type="slidenum"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81920" y="6356520"/>
            <a:ext cx="10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2607-BCF2-4E89-9357-0301885A7B8C}" type="slidenum"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28760" y="6357960"/>
            <a:ext cx="10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2AE9-D8AA-4963-AE31-2586E0D28C05}" type="slidenum"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DC8B-4C0F-4CC5-AA69-0FB582D1204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0FD4-51CB-4EC8-AFC2-07A78D5B79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7429680" y="5000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"/>
          <p:cNvSpPr/>
          <p:nvPr/>
        </p:nvSpPr>
        <p:spPr>
          <a:xfrm>
            <a:off x="395280" y="1197000"/>
            <a:ext cx="852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航天航空专业毕业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28880" y="28584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785960"/>
            <a:ext cx="820728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灯片编号占位符 5"/>
          <p:cNvSpPr/>
          <p:nvPr/>
        </p:nvSpPr>
        <p:spPr>
          <a:xfrm>
            <a:off x="428760" y="6357960"/>
            <a:ext cx="106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10F2-2D9B-4E20-99F5-972989E521E7}" type="slidenum"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7bbfd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C75D-29F3-4C54-AC7E-D9E2750AC8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1979640" y="191628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谢谢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429680" y="3571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6:09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4:15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