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4C9-B884-4128-BAD9-AAC219C0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685-BA44-44A6-A017-898B9F2A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034-D16D-4C08-A2AA-D2600ACE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768-2657-41C3-8BDA-FDB9B011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99F3-2DF0-4464-80C2-5B388CF8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9E7B-B892-4812-8C03-55261C0B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041A-B48D-4442-8503-72F02110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01DA-34CC-4D6D-8279-9472E985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4530-2E88-4E90-B654-3FA394A9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EE0A-C6CC-414B-B0D5-3FD209E6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359D-C18B-437B-A143-55712486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E11-E669-4E2C-B08B-5646ADFE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4C05-1164-4D47-BAFF-AE2446A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D0D9-A43B-42EC-9BAF-D703DB70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CB67-3FDB-4F27-B115-ED203BBC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AFF4-8313-43AD-B32C-A4929DFE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7DD0-F275-49AF-99D2-C5CAD301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DDB95-CA6A-4D81-B35F-221F1CF1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9300B-7ACE-441C-8A0C-4CF3884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0DACD-76DD-400A-BC38-D92734B7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CBE3E-BE33-43D4-87FA-352511B6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5D9AA-D903-45E4-937D-3FE76CF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7FC-0001-492D-904B-78D937E4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6DD83-4EC4-4B66-88F6-74C95FD3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5AAFB-73B4-4D52-8943-01F28F5F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F0782-6AC0-4204-9724-4F56AD9D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88343-AAF9-4501-A517-00DCB5FB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691BE-3F79-4E0A-ABA9-9FEDE2DA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54E97-0C72-4531-B229-214E81F3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B2A6A-A9F7-4D01-9CF9-23E927A6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C36-8F01-4746-9376-20C477C0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281-76CB-4045-9E51-44A79EA5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469-9F0B-47D8-B580-CCD455F6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A0A-C907-4642-A38C-63541096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DDD-5A0A-496C-9024-5357588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E84-85BB-4B44-8C3B-F038A4B8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E69-D5B6-4B1F-89E7-8B39727D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4F68-ACBF-48A0-A351-7BDED99F55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0803-9A69-4740-80A5-BF2CA6CDA6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Unit6 In a Nature Park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3318120" y="3795840"/>
            <a:ext cx="25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Lesson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685800" y="5805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1386360" y="2943360"/>
            <a:ext cx="68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InANaturePark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 play a game!</a:t>
            </a:r>
            <a:br>
              <a:rPr sz="4000"/>
            </a:b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What</a:t>
            </a:r>
            <a:r>
              <a:rPr b="1" lang="en-US" sz="4400" spc="-1" strike="noStrike">
                <a:solidFill>
                  <a:srgbClr val="00c6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s missing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410080" y="19051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600200" y="49528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066680" y="205740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uild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6200" y="41911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ou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248520" y="434340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3276720" y="26668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 play a game!</a:t>
            </a:r>
            <a:br>
              <a:rPr sz="4000"/>
            </a:b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What</a:t>
            </a:r>
            <a:r>
              <a:rPr b="1" lang="en-US" sz="4400" spc="-1" strike="noStrike">
                <a:solidFill>
                  <a:srgbClr val="00c6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s missing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600200" y="19810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villa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819520" y="51814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4267080" y="28954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uild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486400" y="44197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ou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334120" y="160020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838080" y="388620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EB2-5CB4-46E7-89EB-E06C7ADF51F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文本框 8199"/>
          <p:cNvSpPr/>
          <p:nvPr/>
        </p:nvSpPr>
        <p:spPr>
          <a:xfrm>
            <a:off x="603360" y="758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7"/>
          <p:cNvSpPr/>
          <p:nvPr/>
        </p:nvSpPr>
        <p:spPr>
          <a:xfrm>
            <a:off x="5052960" y="990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pic_163483"/>
          <p:cNvPicPr/>
          <p:nvPr/>
        </p:nvPicPr>
        <p:blipFill>
          <a:blip r:embed="rId2"/>
          <a:stretch/>
        </p:blipFill>
        <p:spPr>
          <a:xfrm rot="545400">
            <a:off x="4238640" y="320760"/>
            <a:ext cx="4121280" cy="6019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 rot="522000">
            <a:off x="4038480" y="5105160"/>
            <a:ext cx="33530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 rot="565200">
            <a:off x="4289400" y="4952880"/>
            <a:ext cx="32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villag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pic_163473"/>
          <p:cNvPicPr/>
          <p:nvPr/>
        </p:nvPicPr>
        <p:blipFill>
          <a:blip r:embed="rId2"/>
          <a:stretch/>
        </p:blipFill>
        <p:spPr>
          <a:xfrm>
            <a:off x="380880" y="22860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4343400"/>
            <a:ext cx="259056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pic_163475"/>
          <p:cNvPicPr/>
          <p:nvPr/>
        </p:nvPicPr>
        <p:blipFill>
          <a:blip r:embed="rId2"/>
          <a:stretch/>
        </p:blipFill>
        <p:spPr>
          <a:xfrm>
            <a:off x="2514600" y="1143000"/>
            <a:ext cx="4191120" cy="5486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9520" y="5486040"/>
            <a:ext cx="25909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1012680" y="466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pic_163485"/>
          <p:cNvPicPr/>
          <p:nvPr/>
        </p:nvPicPr>
        <p:blipFill>
          <a:blip r:embed="rId2"/>
          <a:stretch/>
        </p:blipFill>
        <p:spPr>
          <a:xfrm>
            <a:off x="1676520" y="762120"/>
            <a:ext cx="5695920" cy="5667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00400" y="5029200"/>
            <a:ext cx="236232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pic_163477"/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5181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886200" y="5334120"/>
            <a:ext cx="2133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oa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pic_163479"/>
          <p:cNvPicPr/>
          <p:nvPr/>
        </p:nvPicPr>
        <p:blipFill>
          <a:blip r:embed="rId2"/>
          <a:stretch/>
        </p:blipFill>
        <p:spPr>
          <a:xfrm>
            <a:off x="1600200" y="914400"/>
            <a:ext cx="4038480" cy="5257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8120" y="5028840"/>
            <a:ext cx="213336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 play a game!</a:t>
            </a:r>
            <a:br>
              <a:rPr sz="4000"/>
            </a:b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What</a:t>
            </a:r>
            <a:r>
              <a:rPr b="1" lang="en-US" sz="4400" spc="-1" strike="noStrike">
                <a:solidFill>
                  <a:srgbClr val="00c6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s missing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600200" y="19810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villa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562720" y="15238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819520" y="51814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67080" y="28954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uild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6200" y="41911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ou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248520" y="434340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371600" y="39625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 play a game!</a:t>
            </a:r>
            <a:br>
              <a:rPr sz="4000"/>
            </a:b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What</a:t>
            </a:r>
            <a:r>
              <a:rPr b="1" lang="en-US" sz="4400" spc="-1" strike="noStrike">
                <a:solidFill>
                  <a:srgbClr val="00c6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s missing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600200" y="19810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villa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343400" y="274320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124080" y="47242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5486400" y="44956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ou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167652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838080" y="388620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2:48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07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