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875-63A9-4BE6-A52A-DCB5E79A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CF0-C0E1-4C63-8ADA-1673C18C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A45-29ED-497D-A11E-ED69F9EF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E60-2A36-43E9-B026-1FFAC47D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F352-884A-4AAC-8CF2-6A7EE48B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5F99-02E5-46CF-B506-6E0DC70C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37B9-80ED-4AEA-852D-2E509760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66A2-C210-4D37-9777-BC48F82C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86A1-E46D-43A8-BDC3-5E4B8101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0B11-0C09-405F-AC46-D52A0DC1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017E-67E8-4260-B117-6730A85E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450-E2E2-4A13-A995-208AE281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3A07-E417-4E0C-B1EF-922BCFDE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7F9C-ACF3-4F1F-A39E-6D2914D3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D172-C3C4-49E7-8A10-1C9EF280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55C0-96EE-4631-8C2F-68199B34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7691-0B28-484B-B94E-74250C0C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6D1-DC0A-418C-856E-58DB2E40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937-38CF-4A28-AFE4-9AB1D07B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FEB-C7A8-47A3-B082-FB5395FD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D91-6DF0-4DC5-9FF0-A8102312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42F-97F1-45EE-BFAF-FD9380CF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CB1-6AA5-4183-B16C-D8BEEF1A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8BF-B80B-4D3D-A61E-CE4D434E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3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799"/>
              </a:spcBef>
              <a:buClr>
                <a:srgbClr val="c3d69b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799"/>
              </a:spcBef>
              <a:buClr>
                <a:srgbClr val="c3d69b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799"/>
              </a:spcBef>
              <a:buClr>
                <a:srgbClr val="c3d69b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799"/>
              </a:spcBef>
              <a:buClr>
                <a:srgbClr val="c3d69b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www.wondershar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A5C6-7C17-4D6C-803A-9CE64526D48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54E1-B85C-486F-88FF-9D8FB321E42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2041-52CE-401F-8EA6-BFB9E91FDC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00080" y="1714320"/>
            <a:ext cx="5214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9bbb59"/>
                </a:solidFill>
                <a:latin typeface="Arial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副标题 2"/>
          <p:cNvSpPr/>
          <p:nvPr/>
        </p:nvSpPr>
        <p:spPr>
          <a:xfrm>
            <a:off x="928800" y="3571920"/>
            <a:ext cx="4500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f3f3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024200" y="423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6"/>
          <p:cNvSpPr/>
          <p:nvPr/>
        </p:nvSpPr>
        <p:spPr>
          <a:xfrm>
            <a:off x="352440" y="84132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经济管理毕业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9bbb59"/>
                </a:solidFill>
                <a:latin typeface="Arial"/>
              </a:rPr>
              <a:t>Marketing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14280" y="785880"/>
            <a:ext cx="6715440" cy="54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9bbb59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43000" y="1643040"/>
            <a:ext cx="6095880" cy="39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200"/>
          <p:cNvSpPr/>
          <p:nvPr/>
        </p:nvSpPr>
        <p:spPr>
          <a:xfrm>
            <a:off x="776160" y="1668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B015-1978-4852-9AB4-43DB62629D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4200" y="2071800"/>
            <a:ext cx="61437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9bbb59"/>
                </a:solidFill>
                <a:latin typeface="Arial"/>
                <a:ea typeface="宋体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85560" y="3500280"/>
            <a:ext cx="45003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f3f3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0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57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