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EBA-75D9-4657-91C2-3802DD8A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D18-0EF5-4EF6-B539-1063D94A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1FD-DA0D-47B1-B202-0DDA4B8D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3DC-B201-4B72-BCB4-37B0469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106-57BE-4298-97BF-86FA321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7C85-7724-4BA7-8E7C-871F097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0EAC-AE74-4487-B0B5-95D021F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B99-9689-4003-9F4A-19F87864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9C2A-F7BE-43CA-91E9-7DAD1A2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8E82-5A42-41A9-B2C0-267C3136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ED0-BF50-4D37-B158-C6242AE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16F-C1E5-40FB-80C8-BB7B17A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75C1-C14A-45AB-B1F2-6EC4488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0DE-ADB3-467D-A5CB-B563381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F753-A62B-452E-A05A-AAA24F42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DE32-E8C5-447E-A738-CF36E568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A3E2-063B-4F04-8F00-DBB36F77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CDF-099E-4E5E-A44D-924C0BA9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ABD-96D1-4340-8A8C-B8C3D023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D73-4E6F-47DD-B889-A86BE27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9A8-C3A0-4C96-B505-D8E4E50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2BE-D05D-4400-A1A3-D347FA4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BFD-1924-4FBF-90A5-C10571E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178-4F7C-4FB4-AFBC-AE872C3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6FF-436D-4219-9531-051757C60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E50-796C-4754-8074-DD0619C9B9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5A5-2E97-4627-8978-B6B1E46C83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980720" y="4114800"/>
            <a:ext cx="4800600" cy="1371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舒同体繁"/>
              </a:rPr>
              <a:t>作者姓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舒同体繁"/>
              </a:rPr>
              <a:t>所属专业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舒同体繁"/>
              </a:rPr>
              <a:t>指导教师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3013200" y="10666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精美毕业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C20C-6CB2-4C6F-BCD2-9ABF6EAD38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8T02:0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4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